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gunshot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95A-64F6-485D-A113-8B26C756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D61-2EE8-4F63-8C33-3A6BB7A5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486-09F6-49E9-8453-ADFC61C2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75A-97CC-48D4-9C77-60124ABA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C24-536E-418E-A9CC-DBCEEC23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1404-C618-4DF4-94C0-C2312768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6FD6-D620-474E-B963-8BD466EC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517D-FC6F-4136-AF60-4E28CE7B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AA58-0EBF-4425-AF53-922669A5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E9DB-032B-4D7F-B52A-ACB2154E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665-243D-4CBC-8E10-B0B1675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567-8BE5-430C-A2C6-7A994F0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B203-98F7-4083-B170-6964980A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79E6-040D-4B03-9238-9A479FAE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05A-AA08-4CAB-AB6C-38E453C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EC99-B121-496C-9243-F10251EA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32C-8E30-4D93-8474-ECB0824E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81C-C4B3-4D38-80D3-998331C8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74F-FD7F-4229-8131-614CB8E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8C8-5495-4527-8654-369C0C3B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B8B-690A-4724-A86F-63755614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795-CB7D-46A5-8A4B-177B1F2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507-0DB7-43E7-9795-4F8C8E4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032-A721-44A9-8659-47526B9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B3C3-59B5-4BF9-BDE2-90A4AE03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54E6-D3F4-4333-8634-153E85BB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omunicação no 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1. Ouça antes de Respond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“</a:t>
            </a: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Responder antes de ouvir, estultícia é, e vergonha”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v 18:1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“</a:t>
            </a: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Sabeis isto, meus amados irmãos; mas todo homem seja pronto para ouvir, tardio para falar, tardio a irar”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Tg 1:19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523880"/>
            <a:ext cx="7848720" cy="64260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Essa é uma virtude dos sáb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758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2. Não se apresse e fale com sinceridade, para ser entendido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O homem se alegra na resposta da sua boca, e a palavra a seu tempo quão boa é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v 15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Times New Roman"/>
              </a:rPr>
              <a:t>Abomináveis são para o Senhor os pensamentos do mau, mas as palavras dos limpos são aprazívei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v 15.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Times New Roman"/>
              </a:rPr>
              <a:t>O coração do justo medita o que há de responder, mas a boca dos ímpios derrama em abundância cousas má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v 15.2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3. Fale a verdade em am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Antes, seguindo a verdade em amor, crescemos em tudo naquele que é a cabeça, Cristo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f 4:15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Não mintais uns aos outros, pois que já despistes do velho homem com os seus feitos”.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l 3: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7324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a pode disparar contra voc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agressão mais eloqüente do que o silênc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Enquanto guardei silêncio, consumiram-se os meus ossos pelo meu bramido durante o dia to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Sl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2: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O Silêncio unilateral, em um relacionamento, é indicador da FALTA de PERD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Não existe COMUNICAÇÃO sem PERDÃO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f 4.32</a:t>
            </a: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;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l 3.13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“...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uportando-vos e perdoando-vos uns aos outros, se alguém tiver queixa contra outro; assim como o Senhor vos perdoou, assim fazei vós também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4. Não use a arma do SILÊNC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75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75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75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Times New Roman"/>
              </a:rPr>
              <a:t>Como o soltar as águas, é o princípio da contenda; deixa por isso a porfia, antes que sejas envolvido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v 17:1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Honroso para o homem é desviar-se de questões, mas todo o tolo se entremete nelas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v 20:0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Toda a amargura, e ira, e cólera, e gritaria, e blasfêmias, e toda a malícia seja tirada de entre vó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f 4:3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5. Não se envolva em uma briga – é possível discordar sem brig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6. Não responda com raiva – a resposta branda é eficaz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3504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Times New Roman"/>
              </a:rPr>
              <a:t>O longânimo é grande em entendimento, mas o de ânimo precipitado exalta a loucura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v 14: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Times New Roman"/>
              </a:rPr>
              <a:t>Não saia da vossa boca nenhuma palavra torpe, mas só a que for boa para promover a edificação, para que dê graça aos que a ouvem</a:t>
            </a: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f 4: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828800"/>
            <a:ext cx="7467840" cy="1556280"/>
          </a:xfrm>
          <a:prstGeom prst="rect">
            <a:avLst/>
          </a:prstGeom>
          <a:solidFill>
            <a:srgbClr val="0099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eorgia"/>
              </a:rPr>
              <a:t>A resposta branda desvia o furor, mas a palavra dura suscita a i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eorgia"/>
              </a:rPr>
              <a:t>Pv 15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7. Evite a implicânc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Na multidão de palavras não falta transgressão, mas o que modera seus lábios é prudente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v 10: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O que encobre a transgressão busca a amizade, mas o que renova 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questão separa os maiores amig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v 17: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“</a:t>
            </a: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Quem poderá dizer: Purifiquei o meu coração, limpo estou de meu pecado!”.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v 20: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8. Não culpe ou critique. Restaure, anime, edifique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Assim que não nos julguemos uns aos outros; antes seja o vosso propósito não pôr tropeço ou escândalo ao irmã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m 14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Irmãos, se algum homem chegar a ser surpreendido nalguma ofensa, vós, que sois espirituais, encaminhai o tal com espírito de mansidão; olhando por ti mesmo, para que não sejas também tenta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Gl 6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Pelo que exortai-vos uns aos outros, e edificai-vos uns aos outros, como também o fazeis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Ts 5:1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9. Se atacado, não reaja da mesma manei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A ninguém torneis mal por mal; procurais as coisas honestas, perante todos os homen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m 12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O qual, quando o injuriavam, não injuriava, e quando padecia não ameaçava, mas entregava-se àquele que julga justamente.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Pe 2: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“</a:t>
            </a: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Não tornando mal por mal, ou injúria por injúria; antes, pelo contrário,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bendizendo: sabendo que para isto fostes chamados, para que por herança alcanceis a bênção”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Pe 3: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10. Procure compreender a opinião contrária. Seja sensível ao interesse dos outro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Nada façais por contenda ou por vanglória, mas por humildade; cada um considere os outros superiores a si mesmo. Não atente cada um para o que é propriamente seu mas cada qual também para o que é dos outros.       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p 2:3-4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2880" y="457200"/>
            <a:ext cx="758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047" t="10765" r="0" b="0"/>
          <a:stretch/>
        </p:blipFill>
        <p:spPr>
          <a:xfrm>
            <a:off x="1295280" y="888840"/>
            <a:ext cx="7162920" cy="5054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5490a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Deus sempre se comunicou com sua criação da forma mais eficaz possível – pessoalmente e através de Sua Palavra – a Bíb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Mas algo estaria faltando se não houvesse </a:t>
            </a:r>
            <a:r>
              <a:rPr b="1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JES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 é DEUS, o comunicador, colocando-se no lugar daqueles que recebem a comunicação – Hb 1. 1-4; 2.17 e 4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 é o exemplo Supremo, o nosso “Como” – 1Co 2.16; E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O Espírito Santo – Permanência em nós, em comunicação – </a:t>
            </a:r>
            <a:r>
              <a:rPr b="0" i="1" lang="pt-BR" sz="1800" spc="-1" strike="noStrike">
                <a:solidFill>
                  <a:srgbClr val="000081"/>
                </a:solidFill>
                <a:latin typeface="Arial"/>
                <a:ea typeface="Arial"/>
              </a:rPr>
              <a:t>Ro 8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81"/>
                </a:solidFill>
                <a:latin typeface="Arial"/>
                <a:ea typeface="Arial"/>
              </a:rPr>
              <a:t>Estamos utilizando a base de Deus, as diretrizes de Deus, a forma de Deus, os propósitos de Deus, em nossa COMUNICAÇÃO no LA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837720" y="6854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LEMBRE-SE: O </a:t>
            </a:r>
            <a:r>
              <a:rPr b="1" lang="pt-BR" sz="3600" spc="-1" strike="noStrike" u="sng">
                <a:solidFill>
                  <a:srgbClr val="003366"/>
                </a:solidFill>
                <a:uFillTx/>
                <a:latin typeface="Times New Roman"/>
              </a:rPr>
              <a:t>Grande Segredo</a:t>
            </a: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 da Comunicação – </a:t>
            </a:r>
            <a:r>
              <a:rPr b="1" i="1" lang="pt-BR" sz="3600" spc="-1" strike="noStrike">
                <a:solidFill>
                  <a:srgbClr val="003366"/>
                </a:solidFill>
                <a:latin typeface="Times New Roman"/>
              </a:rPr>
              <a:t>Quem comunica, coloca-se no lado do que está sendo comunicad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pt-BR" sz="44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a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Parte:</a:t>
            </a:r>
            <a:br>
              <a:rPr sz="4400"/>
            </a:br>
            <a:r>
              <a:rPr b="1" lang="pt-BR" sz="4800" spc="-1" strike="noStrike">
                <a:solidFill>
                  <a:srgbClr val="003366"/>
                </a:solidFill>
                <a:latin typeface="Times New Roman"/>
              </a:rPr>
              <a:t>Teologia da Comunicaçã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ma Viag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ULTRA VEL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bre a COMUNICAÇÃO, na Bíb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Times New Roman"/>
              </a:rPr>
              <a:t>O HOMEM – Com capacidade intelectual de Dominar a Terra – Gn 1.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Atributos COMUNICÁVEIS – Deus compartilha de si mesmo – A Imagem de De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Criação da Família – Íntima Comunh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Deus se comunicava com suas criatu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A Queda e as Impli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Comunicação: Recurso para o bem e para o mal – Babel – Confusão na forma de comunicação – Gn 11.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Deus e sua Cri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Times New Roman"/>
              </a:rPr>
              <a:t>A Inspiração e Inerrância – Milagre no trabalho com os Autor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Hebraico – A língua fala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Aramaico – Influência em Dan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Septuaginta – Citada sem reservas no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Novo Testamento – “Língua santa?” Não, simplesmente o KOINÉ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As ESCRITUR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Times New Roman"/>
              </a:rPr>
              <a:t>Conceitos do “Transmissor” e do “Receptor”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JES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- O exemplo Supremo – Hb 1.1-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O Espírito Santo – Permanência em nós, em comunicação – </a:t>
            </a:r>
            <a:r>
              <a:rPr b="0" i="1" lang="pt-BR" sz="2000" spc="-1" strike="noStrike">
                <a:solidFill>
                  <a:srgbClr val="000081"/>
                </a:solidFill>
                <a:latin typeface="Arial"/>
                <a:ea typeface="Arial"/>
              </a:rPr>
              <a:t>Ro 8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O EVANGELHO – Como comunicar as Boas Novas? – Como ouvirão? </a:t>
            </a:r>
            <a:r>
              <a:rPr b="0" i="1" lang="pt-BR" sz="2000" spc="-1" strike="noStrike">
                <a:solidFill>
                  <a:srgbClr val="000081"/>
                </a:solidFill>
                <a:latin typeface="Arial"/>
                <a:ea typeface="Arial"/>
              </a:rPr>
              <a:t>Ro 1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PAULO – “arrazoava”. Ponto de Contato – </a:t>
            </a:r>
            <a:r>
              <a:rPr b="0" i="1" lang="pt-BR" sz="2000" spc="-1" strike="noStrike">
                <a:solidFill>
                  <a:srgbClr val="000081"/>
                </a:solidFill>
                <a:latin typeface="Arial"/>
                <a:ea typeface="Arial"/>
              </a:rPr>
              <a:t>At 17</a:t>
            </a:r>
            <a:r>
              <a:rPr b="0" i="1" lang="pt-BR" sz="2800" spc="-1" strike="noStrike">
                <a:solidFill>
                  <a:srgbClr val="000081"/>
                </a:solidFill>
                <a:latin typeface="Arial"/>
                <a:ea typeface="Arial"/>
              </a:rPr>
              <a:t>. “Temperada com Sal”   </a:t>
            </a:r>
            <a:r>
              <a:rPr b="0" i="1" lang="pt-BR" sz="2000" spc="-1" strike="noStrike">
                <a:solidFill>
                  <a:srgbClr val="000081"/>
                </a:solidFill>
                <a:latin typeface="Arial"/>
                <a:ea typeface="Arial"/>
              </a:rPr>
              <a:t>Cl 4.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O Grande Segredo da Comunicação – </a:t>
            </a:r>
            <a:r>
              <a:rPr b="1" i="1" lang="pt-BR" sz="4000" spc="-1" strike="noStrike">
                <a:solidFill>
                  <a:srgbClr val="003366"/>
                </a:solidFill>
                <a:latin typeface="Times New Roman"/>
              </a:rPr>
              <a:t>Quem comunica, coloca-se no lado do que está sendo comunicad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Times New Roman"/>
              </a:rPr>
              <a:t>Possuem os Recursos – O Espírito Sa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Possuem a Base – as Escri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Possuem as Diretrizes – O “QUE?”: Mand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Possuem a Maneira e Forma – O “COMO?”: C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81"/>
                </a:solidFill>
                <a:latin typeface="Arial"/>
                <a:ea typeface="Arial"/>
              </a:rPr>
              <a:t>Possuem a Razão – O “PORQUE?”:     Am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Os Crentes têm tudo para serem os grandes comunicador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81"/>
                </a:solidFill>
                <a:latin typeface="Arial"/>
                <a:ea typeface="Times New Roman"/>
              </a:rPr>
              <a:t>Por que pregamos, mas não praticamos?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81"/>
                </a:solidFill>
                <a:latin typeface="Arial"/>
                <a:ea typeface="Arial"/>
              </a:rPr>
              <a:t>Por que não aplicamos os princípios da Palavra no 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81"/>
                </a:solidFill>
                <a:latin typeface="Arial"/>
                <a:ea typeface="Arial"/>
              </a:rPr>
              <a:t>Não subestimem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fluência do Pecado em nossas v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oder restaurador do Espírito S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necessidade, para o nosso ministério, de termos coerência cristã em nossos 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3366"/>
                </a:solidFill>
                <a:latin typeface="Times New Roman"/>
              </a:rPr>
              <a:t>POR QUE FALHAMOS?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pt-BR" sz="4400" spc="-1" strike="noStrike" u="sng" baseline="30000">
                <a:solidFill>
                  <a:srgbClr val="003366"/>
                </a:solidFill>
                <a:uFillTx/>
                <a:latin typeface="Times New Roman"/>
              </a:rPr>
              <a:t>a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 Parte:</a:t>
            </a:r>
            <a:br>
              <a:rPr sz="4400"/>
            </a:br>
            <a:r>
              <a:rPr b="1" lang="pt-BR" sz="5400" spc="-1" strike="noStrike">
                <a:solidFill>
                  <a:srgbClr val="003366"/>
                </a:solidFill>
                <a:latin typeface="Times New Roman"/>
              </a:rPr>
              <a:t>Comunicação no La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Z PO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PARA SEREM LEMB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loud"/>
          <p:cNvSpPr/>
          <p:nvPr/>
        </p:nvSpPr>
        <p:spPr>
          <a:xfrm>
            <a:off x="6172200" y="5486400"/>
            <a:ext cx="2743200" cy="1076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aptados de um estu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riano Ange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48:18Z</dcterms:created>
  <dc:creator>solano portela</dc:creator>
  <dc:description/>
  <dc:language>en-US</dc:language>
  <cp:lastModifiedBy>.</cp:lastModifiedBy>
  <dcterms:modified xsi:type="dcterms:W3CDTF">2003-10-03T19:47:33Z</dcterms:modified>
  <cp:revision>19</cp:revision>
  <dc:subject/>
  <dc:title>Comunicação no Lar</dc:title>
</cp:coreProperties>
</file>