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DE8-C033-44F6-A2A2-070379C2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9D8-138A-4B37-B1B4-AA564FEE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8F5-2C59-4555-8C5F-E5EAB89D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3FA-06CD-4BB1-BF41-DFFEFB06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1B9-8E52-4E52-85D1-BDE116B9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32A-2AD7-4261-BE0A-49FD645D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7C6-D977-4644-B82A-2D6227AA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6ED-84ED-4D7A-989F-78C2DA6D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A2E-997C-4C5B-A08F-E5748D8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281-27FD-4791-819F-D1A4740B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9E4-9478-46AC-BF15-74654C6A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2CF-55A1-4F0F-B651-D0DC7535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17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1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68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6AF9-0A23-451D-A3C1-192E5EF34F6D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2050920" y="0"/>
              <a:ext cx="4927680" cy="68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003640" y="981000"/>
              <a:ext cx="1079640" cy="360360"/>
            </a:xfrm>
            <a:prstGeom prst="ellipse">
              <a:avLst/>
            </a:prstGeom>
            <a:solidFill>
              <a:srgbClr val="ffb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5640" y="189000"/>
              <a:ext cx="2016000" cy="936360"/>
            </a:xfrm>
            <a:prstGeom prst="rect">
              <a:avLst/>
            </a:prstGeom>
            <a:solidFill>
              <a:srgbClr val="ff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00720" y="189000"/>
              <a:ext cx="2158920" cy="936360"/>
            </a:xfrm>
            <a:prstGeom prst="rect">
              <a:avLst/>
            </a:prstGeom>
            <a:solidFill>
              <a:srgbClr val="ff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95640" y="0"/>
              <a:ext cx="3961080" cy="1197000"/>
            </a:xfrm>
            <a:prstGeom prst="wedgeEllipseCallout">
              <a:avLst>
                <a:gd name="adj1" fmla="val 259"/>
                <a:gd name="adj2" fmla="val 85939"/>
              </a:avLst>
            </a:prstGeom>
            <a:solidFill>
              <a:srgbClr val="ffff99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66"/>
                  </a:solidFill>
                  <a:latin typeface="Comic Sans MS"/>
                </a:rPr>
                <a:t>TÁ BOM! VOCÊ É EXIGENTE! MAS COMEÇA COM ALGO MAIS </a:t>
              </a:r>
              <a:r>
                <a:rPr b="1" i="1" lang="pt-BR" sz="1000" spc="-1" strike="noStrike">
                  <a:solidFill>
                    <a:srgbClr val="000066"/>
                  </a:solidFill>
                  <a:latin typeface="Comic Sans MS"/>
                </a:rPr>
                <a:t>LIGHT</a:t>
              </a:r>
              <a:r>
                <a:rPr b="1" lang="pt-BR" sz="1000" spc="-1" strike="noStrike">
                  <a:solidFill>
                    <a:srgbClr val="000066"/>
                  </a:solidFill>
                  <a:latin typeface="Comic Sans MS"/>
                </a:rPr>
                <a:t>! QUE TAL </a:t>
              </a:r>
              <a:r>
                <a:rPr b="1" i="1" lang="pt-BR" sz="1000" spc="-1" strike="noStrike">
                  <a:solidFill>
                    <a:srgbClr val="000066"/>
                  </a:solidFill>
                  <a:latin typeface="Comic Sans MS"/>
                </a:rPr>
                <a:t>“MEU PÉ DE LARANJA-LIMA”?</a:t>
              </a:r>
              <a:r>
                <a:rPr b="1" lang="pt-BR" sz="1000" spc="-1" strike="noStrike">
                  <a:solidFill>
                    <a:srgbClr val="000066"/>
                  </a:solidFill>
                  <a:latin typeface="Comic Sans MS"/>
                </a:rPr>
                <a:t> MAS O QUE ESTOU FAZENDO?! VOCÊ TEM RAZÃO! VAMOS NIVELAR POR CIMA!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3924360" cy="1197000"/>
            </a:xfrm>
            <a:prstGeom prst="wedgeEllipseCallout">
              <a:avLst>
                <a:gd name="adj1" fmla="val 38916"/>
                <a:gd name="adj2" fmla="val 76523"/>
              </a:avLst>
            </a:prstGeom>
            <a:solidFill>
              <a:srgbClr val="ffff99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66"/>
                  </a:solidFill>
                  <a:latin typeface="Comic Sans MS"/>
                </a:rPr>
                <a:t>Ô, AMOR! VOCÊ ESTÁ INVESTINDO NA EDUCAÇÃO DOS NOSSOS FILHOS! UAU – </a:t>
              </a:r>
              <a:r>
                <a:rPr b="1" i="1" lang="pt-BR" sz="1000" spc="-1" strike="noStrike">
                  <a:solidFill>
                    <a:srgbClr val="000066"/>
                  </a:solidFill>
                  <a:latin typeface="Comic Sans MS"/>
                </a:rPr>
                <a:t>“OS IRMÃOS KARAMAZOV”!</a:t>
              </a:r>
              <a:r>
                <a:rPr b="1" lang="pt-BR" sz="1000" spc="-1" strike="noStrike">
                  <a:solidFill>
                    <a:srgbClr val="000066"/>
                  </a:solidFill>
                  <a:latin typeface="Comic Sans MS"/>
                </a:rPr>
                <a:t> NÃO ACHA QUE DOSTOYEVSKY É UM POUCO DEMAIS PARA OS BICHINHOS?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00360" y="3141720"/>
              <a:ext cx="934920" cy="934920"/>
            </a:xfrm>
            <a:prstGeom prst="ellipse">
              <a:avLst/>
            </a:prstGeom>
            <a:solidFill>
              <a:srgbClr val="ffb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95640" y="2766960"/>
              <a:ext cx="2765160" cy="241200"/>
            </a:xfrm>
            <a:prstGeom prst="rect">
              <a:avLst/>
            </a:prstGeom>
            <a:solidFill>
              <a:srgbClr val="ff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7280" y="2781360"/>
              <a:ext cx="934920" cy="934920"/>
            </a:xfrm>
            <a:prstGeom prst="ellipse">
              <a:avLst/>
            </a:prstGeom>
            <a:solidFill>
              <a:srgbClr val="ffb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64000" y="2781360"/>
              <a:ext cx="1511280" cy="503280"/>
            </a:xfrm>
            <a:prstGeom prst="ellipse">
              <a:avLst/>
            </a:prstGeom>
            <a:solidFill>
              <a:srgbClr val="ffb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56000" y="2708280"/>
              <a:ext cx="2374920" cy="360360"/>
            </a:xfrm>
            <a:prstGeom prst="wedgeEllipseCallout">
              <a:avLst>
                <a:gd name="adj1" fmla="val 23930"/>
                <a:gd name="adj2" fmla="val 113875"/>
              </a:avLst>
            </a:prstGeom>
            <a:solidFill>
              <a:srgbClr val="ffff99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000" spc="-1" strike="noStrike">
                  <a:solidFill>
                    <a:srgbClr val="000066"/>
                  </a:solidFill>
                  <a:latin typeface="Comic Sans MS"/>
                </a:rPr>
                <a:t>PAI!</a:t>
              </a:r>
              <a:r>
                <a:rPr b="1" lang="pt-BR" sz="1000" spc="-1" strike="noStrike">
                  <a:solidFill>
                    <a:srgbClr val="000066"/>
                  </a:solidFill>
                  <a:latin typeface="Comic Sans MS"/>
                </a:rPr>
                <a:t> VOCÊ DEMOROU!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133720"/>
              <a:ext cx="1871640" cy="1295280"/>
            </a:xfrm>
            <a:prstGeom prst="wedgeEllipseCallout">
              <a:avLst>
                <a:gd name="adj1" fmla="val 65777"/>
                <a:gd name="adj2" fmla="val 32351"/>
              </a:avLst>
            </a:prstGeom>
            <a:solidFill>
              <a:srgbClr val="ffff99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66"/>
                  </a:solidFill>
                  <a:latin typeface="Comic Sans MS"/>
                </a:rPr>
                <a:t>DESCULPEM! MAS SUA MÃE FICOU CONVERSANDO COMIGO. O JOGO JÁ COMEÇOU?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2480" y="2708280"/>
              <a:ext cx="11811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66"/>
                  </a:solidFill>
                  <a:latin typeface="Comic Sans MS"/>
                </a:rPr>
                <a:t>ENTRA O </a:t>
              </a:r>
              <a:r>
                <a:rPr b="1" lang="pt-BR" sz="800" spc="-1" strike="noStrike">
                  <a:solidFill>
                    <a:srgbClr val="000066"/>
                  </a:solidFill>
                  <a:latin typeface="Comic Sans MS"/>
                </a:rPr>
                <a:t>S. PAULO</a:t>
              </a:r>
              <a:r>
                <a:rPr b="0" lang="pt-BR" sz="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66"/>
                  </a:solidFill>
                  <a:latin typeface="Comic Sans MS"/>
                </a:rPr>
                <a:t>EM CAMPO!!!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68360" y="4581360"/>
              <a:ext cx="3095640" cy="719280"/>
            </a:xfrm>
            <a:prstGeom prst="wedgeEllipseCallout">
              <a:avLst>
                <a:gd name="adj1" fmla="val -34000"/>
                <a:gd name="adj2" fmla="val 58611"/>
              </a:avLst>
            </a:prstGeom>
            <a:solidFill>
              <a:srgbClr val="ffff99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66"/>
                  </a:solidFill>
                  <a:latin typeface="Comic Sans MS"/>
                </a:rPr>
                <a:t>AH! AGORA DÁ PARA VER A TELEVISÃO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5080" y="5950080"/>
              <a:ext cx="2124000" cy="45972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Comic Sans MS"/>
                </a:rPr>
                <a:t>CULTURA.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19640" y="2852640"/>
              <a:ext cx="144360" cy="28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72360" y="2852640"/>
              <a:ext cx="144360" cy="28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IDADO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61760" y="2021040"/>
            <a:ext cx="7086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verdadeira religião e Educação Cristã, não é ascé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ísico (inferior) vs. Metafísico (superi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déia do Bud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Hare Krish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onasticismo cató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udo procede de 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alsa dissociação entre o Sagrado e o Profa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amos em uma criação caí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papel dos servos de Deu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351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2. Cultura e o Domínio da Criaçã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2987640" cy="4497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1773360"/>
            <a:ext cx="5040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Gênesis 1.27 – 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“E criou Deus o homem à sua imagem..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s atributos comunicáveis de D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eres mo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efeito da queda em pe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restauração – 2 Co 3.18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E todos nós, que com a face descoberta contemplamos a glória do Senhor, segundo a sua imagem estamos sendo transformados com glória cada vez maior, a qual vem do Senhor, que é o Espírito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16999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oão Calvino diss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33159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 imagem de Deus se estende a tudo aquilo que, na natureza do homem, excede o que existe nos animais” (Institutas, I, 15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O ser humano, com essa característica, é recebedor capaz da delegação de DOMÍNIO sobre a Criaç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05520" y="0"/>
            <a:ext cx="3138480" cy="335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O Domínio, conhecimento e </a:t>
            </a:r>
            <a:r>
              <a:rPr b="0" lang="pt-BR" sz="3600" spc="-1" strike="noStrike">
                <a:solidFill>
                  <a:srgbClr val="ff99cc"/>
                </a:solidFill>
                <a:latin typeface="Tahoma"/>
              </a:rPr>
              <a:t>cultu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2565000"/>
            <a:ext cx="738036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Gn 1.28: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“Deus os abençoou, e lhes disse: “Sejam férteis e multipliquem-se! Encham e subjuguem a terra!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Dominem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 sobre os peixes do mar, sobre as aves do céu e sobre todos os animais que se movem pela terr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omínio é impossível sem conheci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hecimento implica em cultura, em produção intelectual de mér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O 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mandato cultural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 é repetido em Gênesis 9.1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Implicações do Domínio sobre a Criaçã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49360"/>
            <a:ext cx="3467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egitimidade a todas as áreas de conheci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volvimento integral na glorificação a Deus, conforme 1 Co 10.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Cristianism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– não uma filosofia idealista compartimentalizada, mas 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VID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1000" y="28195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4920" y="9810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Cultura e Beleza, utilizadas por Deus em suas construçõ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3460680"/>
            <a:ext cx="43214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O Tabernáculo: Ex 25.1-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4500720" cy="326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1280" y="4221000"/>
            <a:ext cx="3744720" cy="2160720"/>
          </a:xfrm>
          <a:prstGeom prst="rightArrow">
            <a:avLst>
              <a:gd name="adj1" fmla="val 50000"/>
              <a:gd name="adj2" fmla="val 4332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286080"/>
            <a:ext cx="356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Cultura e Beleza, utilizadas por Deus em suas construçõ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0"/>
            <a:ext cx="536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  Então disse o Senhor a Moisés:   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2  Fala aos filhos de Israel que me tragam uma 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oferta alçad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 de todo homem cujo coração se mover voluntariamente, dele tomareis a minha oferta alçada.   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  E esta é a oferta alçada que tomareis deles: 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ouro, prata, bronz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   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4  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estofo azul, púrpura, carmesim, linho fino, pêlos de cabras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   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5  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peles de carneiros tintas de vermelho, peles de golfinhos, madeira de acácia,   </a:t>
            </a:r>
            <a:br>
              <a:rPr sz="2000"/>
            </a:b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6  azeite para a luz, especiarias para o óleo da unção e para o incenso aromàtico,   </a:t>
            </a:r>
            <a:br>
              <a:rPr sz="2000"/>
            </a:b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7  pedras de ônix, e pedras de engaste para o éfode e para o peitor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   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8  E me farão um santuário, para que eu habite no meio deles.   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9  Conforme a tudo o que eu te mostrar para modelo do tabernáculo, e para modelo de todos os seus móveis, assim mesmo o fare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1989000"/>
            <a:ext cx="1871640" cy="129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x 25.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9810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Cultura e Beleza, utilizadas por Deus em suas construçõ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3720600"/>
            <a:ext cx="346716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O Tabernáculo: Ex 25.1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egitimidade das diversas profiss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rte e cultura contida nos artefatos escolhi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uito objetos vieram do Egito – procedentes de descr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provação de várias expressões de cul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4500720" cy="3264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16000" y="2349360"/>
            <a:ext cx="3168720" cy="1366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O que pode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xtrair des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Determin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De De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1404720"/>
            <a:ext cx="4500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O Templ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1 Reis 6.7; 7.1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3476520"/>
            <a:ext cx="8028000" cy="33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lanejamento, arquitetura, engenh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etalurgia, trabalho em cob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mplicações acadêmic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Ciências exa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Matemática, Física, Quím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Habilidades artíst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Nível superior à mé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 símbolo (8.41) e um testemunho (8.2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elo de aprovação no que o homem pode produzir de b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s diversas habilidades e profissões para a glória de D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73520" y="0"/>
            <a:ext cx="4470480" cy="3505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4940280"/>
            <a:ext cx="82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7.14: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ra ele filho de uma viúva, da tribo de Naftali, e fora seu pai um homem de Tiro, que trabalhava em bronze; ele era cheio de sabedoria, de entendimento e de ciência para fazer toda sorte de obras de bronze. Este veio ter com o rei Salomão, e executou todas as suas obras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42900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6.7: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 edificava-se a casa com </a:t>
            </a:r>
            <a:r>
              <a:rPr b="0" i="1" lang="pt-BR" sz="2400" spc="-1" strike="noStrike">
                <a:solidFill>
                  <a:srgbClr val="ffff00"/>
                </a:solidFill>
                <a:latin typeface="Arial"/>
              </a:rPr>
              <a:t>pedras lavradas na pedreira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; de maneira que nem martelo, nem machado, nem qualquer outro instrumento de ferro se ouviu na casa enquanto estava sendo edificada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5401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s novos céus e a nova terr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Nova Jerusalé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52038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POCALIPSE 21.10-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</a:rPr>
              <a:t>Desenvolvendo Cultura de Qualidade pela Educação Cristã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Solano Portela – ACSI 2003 – São Paulo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6000" y="189000"/>
            <a:ext cx="8748720" cy="6494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10   Ele me levou no Espírito a um grande e alto monte e mostrou-me a Cidade Santa, Jerusalém, que descia do céu, da parte de Deus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11   Ela resplandecia com a glória de Deus, e o seu brilho era </a:t>
            </a:r>
            <a:r>
              <a:rPr b="0" lang="pt-BR" sz="2100" spc="-1" strike="noStrike">
                <a:solidFill>
                  <a:srgbClr val="ffff00"/>
                </a:solidFill>
                <a:latin typeface="Comic Sans MS"/>
              </a:rPr>
              <a:t>como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 o de uma </a:t>
            </a:r>
            <a:r>
              <a:rPr b="0" lang="pt-BR" sz="2100" spc="-1" strike="noStrike">
                <a:solidFill>
                  <a:srgbClr val="ffff00"/>
                </a:solidFill>
                <a:latin typeface="Comic Sans MS"/>
              </a:rPr>
              <a:t>jóia muito preciosa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, como jaspe, </a:t>
            </a:r>
            <a:r>
              <a:rPr b="0" lang="pt-BR" sz="2100" spc="-1" strike="noStrike">
                <a:solidFill>
                  <a:srgbClr val="ffff00"/>
                </a:solidFill>
                <a:latin typeface="Comic Sans MS"/>
              </a:rPr>
              <a:t>clara como cristal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12   Tinha uma </a:t>
            </a:r>
            <a:r>
              <a:rPr b="0" lang="pt-BR" sz="2100" spc="-1" strike="noStrike">
                <a:solidFill>
                  <a:srgbClr val="ffff00"/>
                </a:solidFill>
                <a:latin typeface="Comic Sans MS"/>
              </a:rPr>
              <a:t>grande e alta muralha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 com doze portas e doze anjos junto às portas. Nas portas estavam escritos os nomes das doze tribos de Israel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13   Havia três portas ao oriente, três ao norte, três ao sul e três ao ocidente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14   A muralha da cidade tinha doze fundamentos, e sobre estes estavam os nomes dos doze apóstolos do Cordeiro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15   O anjo que falava comigo tinha como medida uma vara feita de ouro, para medir a cidade, suas portas e seus muros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16   A cidade era quadrangular, de comprimento e largura iguais. Ele mediu a cidade com a vara; tinha doze mil estádios de comprimento; a largura e a altura eram iguais ao comprimento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17   Ele mediu a muralha, de cento e quarenta e quatro côvados de espessura, segundo a </a:t>
            </a:r>
            <a:r>
              <a:rPr b="0" lang="pt-BR" sz="2100" spc="-1" strike="noStrike">
                <a:solidFill>
                  <a:srgbClr val="ffff00"/>
                </a:solidFill>
                <a:latin typeface="Comic Sans MS"/>
              </a:rPr>
              <a:t>medida humana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 que o anjo estava usando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18   A </a:t>
            </a:r>
            <a:r>
              <a:rPr b="0" lang="pt-BR" sz="2100" spc="-1" strike="noStrike">
                <a:solidFill>
                  <a:srgbClr val="ffff00"/>
                </a:solidFill>
                <a:latin typeface="Comic Sans MS"/>
              </a:rPr>
              <a:t>muralha era feita de jaspe e a cidade de ouro puro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, semelhante ao vidro puro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2920" y="163440"/>
            <a:ext cx="8893080" cy="6814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19   Os fundamentos das muralhas da cidade eram </a:t>
            </a:r>
            <a:r>
              <a:rPr b="0" lang="pt-BR" sz="2100" spc="-1" strike="noStrike">
                <a:solidFill>
                  <a:srgbClr val="ffff00"/>
                </a:solidFill>
                <a:latin typeface="Comic Sans MS"/>
              </a:rPr>
              <a:t>ornamentados com toda sorte de pedras preciosas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. O primeiro fundamento era jaspe; o segundo, safira; o terceiro, calcedônia; o quarto, esmeralda;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20   o quinto, sardônio; o sexto, sárdio; o sétimo, crisólito; o oitavo, berilo; o nono, topázio; o décimo, crisópraso; o décimo-primeiro, jacinto; e o décimo-segundo, ametista.*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21   As </a:t>
            </a:r>
            <a:r>
              <a:rPr b="0" lang="pt-BR" sz="2100" spc="-1" strike="noStrike">
                <a:solidFill>
                  <a:srgbClr val="ffff00"/>
                </a:solidFill>
                <a:latin typeface="Comic Sans MS"/>
              </a:rPr>
              <a:t>doze portas eram doze pérolas, cada porta feita de uma única pérola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. A rua principal da cidade era de ouro puro, como vidro transparente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22   </a:t>
            </a:r>
            <a:r>
              <a:rPr b="0" lang="pt-BR" sz="2100" spc="-1" strike="noStrike">
                <a:solidFill>
                  <a:srgbClr val="ffff00"/>
                </a:solidFill>
                <a:latin typeface="Comic Sans MS"/>
              </a:rPr>
              <a:t>Não vi templo algum na cidade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, pois o Senhor Deus Todo-poderoso e o Cordeiro são o seu templo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23   A cidade não precisa de sol nem de lua para brilharem sobre ela, pois a glória de Deus a ilumina, e o Cordeiro é a sua candeia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24   As nações andarão em sua luz, e os reis da terra lhe trarão a sua glória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25   Suas portas jamais se fecharão de dia, pois ali não haverá noite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26   A glória e a honra das nações lhe serão trazidas. </a:t>
            </a:r>
            <a:br>
              <a:rPr sz="2100"/>
            </a:b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27   </a:t>
            </a:r>
            <a:r>
              <a:rPr b="0" lang="pt-BR" sz="2100" spc="-1" strike="noStrike">
                <a:solidFill>
                  <a:srgbClr val="ffff00"/>
                </a:solidFill>
                <a:latin typeface="Comic Sans MS"/>
              </a:rPr>
              <a:t>Nela jamais entrará algo impuro, nem alguém que pratique o que é vergonhoso ou enganoso, mas unicamente aqueles cujos nomes estão escritos no livro da vida do Cordeiro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Comic Sans MS"/>
              </a:rPr>
              <a:t>(NVI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5401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s novos céus e a nova terr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Nova Jerusalém – Ap 21.10-2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508640"/>
            <a:ext cx="70581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As metáforas utilizadas (“como”) são ancoradas na nossa percepção de tudo que é preciso, bem construído, belo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Construções magníficas – muros, portas, períme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Pedras preciosas, metais precio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Glorificação da cultura que reflete a Glória de D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Não há templo – Deus habita no meio da glória e bel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86920" y="836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ahoma"/>
              </a:rPr>
              <a:t>Conclusão – Primeira Part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4920" y="2060640"/>
            <a:ext cx="55818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Envolvimento na cultura e nas profissões, não é desvio de percurso para o crist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celência e alto nível – são nossa obrig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Tudo deve ser conquistado para a glória de 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riação não é só utilitária, mas beleza e harmonia esté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Ao Deus, que tudo criou, nos rendemos e proclamamos a reconciliação a ele através de Cristo, no poder do Espír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919920" y="0"/>
            <a:ext cx="2224080" cy="335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11280" y="1916280"/>
            <a:ext cx="936360" cy="86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920" y="1955520"/>
            <a:ext cx="83883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ahoma"/>
              </a:rPr>
              <a:t>B  </a:t>
            </a:r>
            <a:r>
              <a:rPr b="1" lang="en-US" sz="5200" spc="-1" strike="noStrike">
                <a:solidFill>
                  <a:srgbClr val="ffff00"/>
                </a:solidFill>
                <a:latin typeface="Tahoma"/>
              </a:rPr>
              <a:t>Forjando Cultura de Qualidade pela Educação Cristã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14400" y="838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25720" y="1206360"/>
            <a:ext cx="5715000" cy="4445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602136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ubOvalCallout"/>
          <p:cNvSpPr/>
          <p:nvPr/>
        </p:nvSpPr>
        <p:spPr>
          <a:xfrm>
            <a:off x="0" y="836640"/>
            <a:ext cx="3276720" cy="2519280"/>
          </a:xfrm>
          <a:custGeom>
            <a:avLst/>
            <a:gdLst>
              <a:gd name="textAreaLeft" fmla="*/ 479520 w 3276720"/>
              <a:gd name="textAreaRight" fmla="*/ 2797200 w 3276720"/>
              <a:gd name="textAreaTop" fmla="*/ 276840 h 2519280"/>
              <a:gd name="textAreaBottom" fmla="*/ 1613880 h 2519280"/>
            </a:gdLst>
            <a:ahLst/>
            <a:rect l="textAreaLeft" t="textAreaTop" r="textAreaRight" b="textAreaBottom"/>
            <a:pathLst>
              <a:path w="21600" h="21600">
                <a:moveTo>
                  <a:pt x="16812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Verdana"/>
              </a:rPr>
              <a:t>AINDA TRABALHANDO A DEFINIÇÃO DE C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58920" y="2203560"/>
            <a:ext cx="7416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ignificado básico – “trabalhar o solo”, “cultivar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as qual o significado mais abrangen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icardo Gondim - Mais de 300 defini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ntexto cultural”, “missões transculturai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Conjunto de características peculiares que identificam uma sociedade em uma determinada épo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ULTURA é mais que iss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esultado da aplicação do conhecimento hum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Desenvolvimento de obras e atividades que possuem mérito e qualid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nvolvimento de outras pessoas no estudo, apreciação e apreensão dess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94920" y="836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 Ainda definindo o que é Cul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295280" y="1700280"/>
            <a:ext cx="694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ndo Educadores Cristã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o interagir com a verdadeira cultur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o sermos Sal da Terra em todos os sentido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 Profét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 M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 cultu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o discernir a má cultura e promover a boa cultura pela Educação Cristã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26560" y="2060640"/>
            <a:ext cx="83170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lassificação de NIEBUHR (Richard Niebuhr, 1949 – Cristianismo e Cultura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risto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contra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a cultura – ISOLAM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risto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d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ultura – CAPITUL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risto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sobre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a Cultura – ESPIRITUALIZ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risto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e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a Cultura em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paradox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– TENSÃO CONST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risto o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transformador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da Cultura - RESG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lassificação de MACHEN (J. Gresham Machen, 1950) – Mais simples e dire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ubordinação da Palavra aos modismos da Cultura -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RENDIÇÃ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Cultura olhada com desconfiança -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DESTRUIÇÃ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Consagração Cristã da Cultura –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CULTIV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294920" y="836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 Reação dos Cristãos à Cul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836640"/>
            <a:ext cx="7086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O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desafi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da Educação Cristã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838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403280" y="1900080"/>
            <a:ext cx="6481800" cy="462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4221000"/>
            <a:ext cx="93672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2205000"/>
            <a:ext cx="93672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ahoma"/>
              </a:rPr>
              <a:t>A  </a:t>
            </a:r>
            <a:r>
              <a:rPr b="1" lang="pt-BR" sz="4400" spc="-1" strike="noStrike">
                <a:solidFill>
                  <a:srgbClr val="ffff00"/>
                </a:solidFill>
                <a:latin typeface="Tahoma"/>
              </a:rPr>
              <a:t>A Cultura do Ponto de Vista das Escritu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4332240"/>
            <a:ext cx="838836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  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Forjando Cultura de Qualidade pela Educação Crist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 desafio do Educador Cristão - Análise da Situaçã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visão secular da sociedade – “tudo” é Cul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ecessidade do discernimento mo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itos líderes evangélicos têm promovido adaptabilidade e assimil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lta de compreensão do aspecto PURIFICADOR da Educação Cristã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dade é combatida em prol da espontane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 desafio do Educador Cristão –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O Ensino de Pau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4920" y="2334960"/>
            <a:ext cx="7086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servações “politicamente incorretas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sinos a um jovem pastor: T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ortamentos característicos de uma Cul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arios </a:t>
            </a: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desvio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do que Deus espe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ito deveria reconhecer, identificar, rejeitar, repreen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ansformar enquanto ensinamos. Exempl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“jeitinho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cobertura do cor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“tchan”, o “funk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4076640"/>
            <a:ext cx="84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mic Sans MS"/>
              </a:rPr>
              <a:t>Porque existem muitos insubordinados, palradores frívolos, e enganadores, especialmente os da circuncisão. É preciso fazê-los calar, porque andam pervertendo casas inteiras, ensinando o que não devem, por torpe ganância. Foi mesmo dentre eles, um seu  profeta que disse: Cretenses, sempre mentirosos, feras terríveis, ventres preguiçosos. Tal testemunho é exato. Portanto repreende-os severamente, para que sejam sadios na fé. (1. 10-13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4400" y="838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8380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jando Cultura de Qualida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O Campo de Atuação da Educação Crist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4421160" cy="515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jando Cultura de Qualida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1859040"/>
            <a:ext cx="7086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iste a </a:t>
            </a: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Cultura verdadeir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Camp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– Relacionar o conhecimento de Deus com as verdades da criaç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US – </a:t>
            </a: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Fonte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de todo o conheci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tração – Impossíve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almo 24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ilipenses 2.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03640" y="4005360"/>
            <a:ext cx="3889440" cy="25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156360" y="2959200"/>
            <a:ext cx="2903400" cy="3782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. Educação Cristã – Reexamina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oda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s expressões Cultura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8920" y="3605040"/>
            <a:ext cx="63723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ão é só “uma questão de estilo” – Fl 4.8-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é os descrentes estão “abrindo os olhos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perguntas cruciais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“Possui qualidade e mérito”? “Glorifica a Deus”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82560" y="981000"/>
            <a:ext cx="7453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A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ultura de Qualidade, forjada pela Educação Cristã resulta em </a:t>
            </a:r>
            <a:r>
              <a:rPr b="0" lang="pt-BR" sz="3200" spc="-1" strike="noStrike">
                <a:solidFill>
                  <a:srgbClr val="ffcc00"/>
                </a:solidFill>
                <a:latin typeface="Tahoma"/>
              </a:rPr>
              <a:t>grande testemunh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4920" y="3141720"/>
            <a:ext cx="1584360" cy="25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is q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vos ten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ns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3141720"/>
            <a:ext cx="1619280" cy="25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statu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 Juíz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3141720"/>
            <a:ext cx="1690920" cy="25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Como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ndou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enh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eu Deu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3141720"/>
            <a:ext cx="1835280" cy="25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Arial"/>
              </a:rPr>
              <a:t>Guardai-os, pois, 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Arial"/>
              </a:rPr>
              <a:t>cumpri-os porq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Arial"/>
              </a:rPr>
              <a:t>isto será a vos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Arial"/>
              </a:rPr>
              <a:t>sabedoria 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Arial"/>
              </a:rPr>
              <a:t>entendi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36000" y="2924280"/>
            <a:ext cx="1908000" cy="302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... </a:t>
            </a: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os po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dirão:“e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Grande po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é g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ábia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ntendida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093000"/>
            <a:ext cx="125892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A taref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36720" y="6093000"/>
            <a:ext cx="144000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O conteú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35280" y="6093000"/>
            <a:ext cx="151308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A fidelid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6093000"/>
            <a:ext cx="1584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O propós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08720" y="6093000"/>
            <a:ext cx="183528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O testemun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88000" y="1989000"/>
            <a:ext cx="165564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t 4.5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O exercício da verdadeira Educação Cristã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4920" y="2895480"/>
            <a:ext cx="73803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orjará cidadãos que (Rm 12.2; Mq 4.8)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minharão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éticam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minharão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socialm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minharão </a:t>
            </a: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sob D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omos cidadãos dos céus, mas colocados no mundo para </a:t>
            </a: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transformar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a sociedade em que vivemos (Jo 14.1-4 e 17.14-2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presenta </a:t>
            </a: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Crist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como a </a:t>
            </a: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plenitude de Deu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a todas as culturas – tudo deve ser feito para a glória de Deus (Cl 1.9-2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26920" y="2205000"/>
            <a:ext cx="93672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ahoma"/>
              </a:rPr>
              <a:t>A  </a:t>
            </a:r>
            <a:r>
              <a:rPr b="1" lang="pt-BR" sz="4400" spc="-1" strike="noStrike">
                <a:solidFill>
                  <a:srgbClr val="ffff00"/>
                </a:solidFill>
                <a:latin typeface="Tahoma"/>
              </a:rPr>
              <a:t>A Cultura do Ponto de Vista das Escritu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7391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CULTURA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abalhar o so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ultiv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plicação do Conhecimento Humano em atividades que possua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ér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Qualid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volvimento de outros na apreciação dessas ativ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828720"/>
            <a:ext cx="799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Cultura não é coisa do MUNDO?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Não estamos promovendo materialism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4920" y="3100320"/>
            <a:ext cx="3467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Tahoma"/>
              </a:rPr>
              <a:t>Mundo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(19-2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Obras da Car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Imoralidade Sex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Impureza e Libertinag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Idolatria e Feitiça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Ódio, discórdia, ciúmes, ira, egoismo, dissensõ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Facções e invej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Embriagu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Orgias e coisas semelha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53200" y="302868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cc"/>
                </a:solidFill>
                <a:latin typeface="Tahoma"/>
              </a:rPr>
              <a:t>Reino de Deus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(22-2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Fruto do Espír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cc"/>
                </a:solidFill>
                <a:latin typeface="Tahoma"/>
              </a:rPr>
              <a:t>Am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cc"/>
                </a:solidFill>
                <a:latin typeface="Tahoma"/>
              </a:rPr>
              <a:t>Aleg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cc"/>
                </a:solidFill>
                <a:latin typeface="Tahoma"/>
              </a:rPr>
              <a:t>Pa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cc"/>
                </a:solidFill>
                <a:latin typeface="Tahoma"/>
              </a:rPr>
              <a:t>Paciê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cc"/>
                </a:solidFill>
                <a:latin typeface="Tahoma"/>
              </a:rPr>
              <a:t>Amabilida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cc"/>
                </a:solidFill>
                <a:latin typeface="Tahoma"/>
              </a:rPr>
              <a:t>Bonda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cc"/>
                </a:solidFill>
                <a:latin typeface="Tahoma"/>
              </a:rPr>
              <a:t>Fidelida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cc"/>
                </a:solidFill>
                <a:latin typeface="Tahoma"/>
              </a:rPr>
              <a:t>Mansid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cc"/>
                </a:solidFill>
                <a:latin typeface="Tahoma"/>
              </a:rPr>
              <a:t>Domínio Próp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2709720"/>
            <a:ext cx="1368360" cy="1079640"/>
          </a:xfrm>
          <a:prstGeom prst="leftRightArrow">
            <a:avLst>
              <a:gd name="adj1" fmla="val 50000"/>
              <a:gd name="adj2" fmla="val 25231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1844640"/>
            <a:ext cx="7597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00"/>
                </a:solidFill>
                <a:latin typeface="Tahoma"/>
              </a:rPr>
              <a:t>Gálatas 5.19-22 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nos dá a verdadeira ANTÍTE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7453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A separação entre o bem e o mal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636640"/>
            <a:ext cx="44960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ético-religiosa…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ão é matéria vs. espír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uma questão Espirit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Bem é constituído de coisas concretas e espiritu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Mal, de igual for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580000" y="2438280"/>
            <a:ext cx="2765520" cy="41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fésios 6.1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838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838080"/>
            <a:ext cx="70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 mal não é identificado apenas com coisas materi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2060640"/>
            <a:ext cx="7070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Pois a nossa luta não é contra seres humanos, mas contra os poderes e autoridades, contra os dominadores deste mundo de trevas,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ontra as forças espirituais do mal</a:t>
            </a: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 nas regiões celestia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14400" y="838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8380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Paulo, falando contra os que proíbem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1 Timóteo 4.3-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77336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o casamento, e ordenando a abstinência de alimentos que Deus criou para serem recebidos com ações de graças pelos que são fiéis e que conhecem bem a verdade;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ois </a:t>
            </a: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todas as coisas criadas por Deus são boas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, e nada deve ser rejeitado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se é recebido com ações de graças”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22:23:17Z</dcterms:created>
  <dc:creator>Solano Portela</dc:creator>
  <dc:description/>
  <dc:language>en-US</dc:language>
  <cp:lastModifiedBy>.</cp:lastModifiedBy>
  <dcterms:modified xsi:type="dcterms:W3CDTF">2003-11-25T19:57:12Z</dcterms:modified>
  <cp:revision>39</cp:revision>
  <dc:subject/>
  <dc:title>A Cultura nas Escrituras</dc:title>
</cp:coreProperties>
</file>