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55C-ECB6-4C49-B32F-76EF2658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155240" y="3921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B20-E884-46FA-AF76-700ED4A2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55240" y="3921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469840" y="3921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C04-B633-451B-9F6C-32360380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02480" y="17715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9360" y="17715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55240" y="3921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4002480" y="3921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849360" y="3921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8DA-2241-4F04-A57B-522625DF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FFFF-E8AD-4D90-AEC9-A84A383D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55240" y="1771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7431-25E5-4A5F-812B-E8EEB29A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6EE0-E910-4D82-AB3A-9B68E6CE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9F49-62A2-44C0-A073-7E0A2764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C235-56A2-4DA6-A402-51BBB692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55240" y="39960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3518-EB1C-4959-BAB6-01ADEBB4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55240" y="3921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0840-1876-4D4C-A732-9917A44F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155240" y="1771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8B6-93F5-476F-B55D-9F53F266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469840" y="3921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FF0F-CC88-40E8-B089-8CECBADE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55240" y="3921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314A-9EA9-4FA6-A929-805F09AC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155240" y="3921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E7FF-D0E0-469A-877C-0C4B69FC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55240" y="3921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469840" y="3921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307E-C3F3-450F-A4FA-C9E5FB82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02480" y="17715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49360" y="17715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155240" y="3921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02480" y="3921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849360" y="3921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66BA-AE78-45D0-B4D7-0EB5A552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95C-02D1-4FC0-84CA-F9E9EE85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68D-C991-4163-82FD-A644021A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D03-4692-4B4E-8285-2868901A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55240" y="39960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BF9-D561-43BB-A3E8-14124730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55240" y="3921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16D-EEE8-45DC-8E50-705E1C68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469840" y="3921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C86-B12D-44AA-AE92-32050B88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55240" y="3921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8B9-C490-4F46-B1BB-3C88680F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9669960" cy="6743520"/>
            <a:chOff x="0" y="50760"/>
            <a:chExt cx="966996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9669960" cy="6743520"/>
              <a:chOff x="0" y="50760"/>
              <a:chExt cx="966996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72760" y="201960"/>
                <a:ext cx="90972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27944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646920" y="4129920"/>
                <a:ext cx="112788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27944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244880" y="1543680"/>
              <a:ext cx="8388360" cy="4800600"/>
              <a:chOff x="1244880" y="1543680"/>
              <a:chExt cx="838836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244880" y="15436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244880" y="17722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44880" y="200052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244880" y="22294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44880" y="24580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244880" y="268632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244880" y="29152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244880" y="31438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244880" y="337212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44880" y="36010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244880" y="38296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244880" y="405792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244880" y="42868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244880" y="45154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244880" y="474372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244880" y="49726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244880" y="52012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244880" y="542952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244880" y="56584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244880" y="58870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44880" y="611532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44880" y="63442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155240" y="1771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128240" y="6157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797280" y="615780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7512120" y="62452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DBE0-CE27-4F87-88EB-3423F52BEEDD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73120" y="201600"/>
            <a:ext cx="90979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27944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46200" y="4130640"/>
            <a:ext cx="11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211040" y="6114600"/>
            <a:ext cx="20905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852720" y="6114600"/>
            <a:ext cx="3081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594200" y="611460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D71E-8AC2-48B6-95C6-5504AA0F24E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258920" y="741240"/>
            <a:ext cx="824400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mo demonstrar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os PAIS as 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iferenças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ásicas da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ducação Cristã, 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m 10 PASSOS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0DDE-AF95-4909-974F-FA00841B7A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17520" y="2081160"/>
            <a:ext cx="4021200" cy="432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21304"/>
                </a:solidFill>
                <a:latin typeface="Times New Roman"/>
              </a:rPr>
              <a:t>B. Deus criou o Homem</a:t>
            </a:r>
            <a:br>
              <a:rPr sz="4400"/>
            </a:br>
            <a:r>
              <a:rPr b="0" lang="pt-BR" sz="4400" spc="-1" strike="noStrike">
                <a:solidFill>
                  <a:srgbClr val="221304"/>
                </a:solidFill>
                <a:latin typeface="Times New Roman"/>
              </a:rPr>
              <a:t>para </a:t>
            </a:r>
            <a:r>
              <a:rPr b="1" lang="pt-BR" sz="4400" spc="-1" strike="noStrike">
                <a:solidFill>
                  <a:srgbClr val="221304"/>
                </a:solidFill>
                <a:latin typeface="Times New Roman"/>
              </a:rPr>
              <a:t>servi-Lo</a:t>
            </a:r>
            <a:r>
              <a:rPr b="0" lang="pt-BR" sz="4400" spc="-1" strike="noStrike">
                <a:solidFill>
                  <a:srgbClr val="221304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55240" y="2696760"/>
            <a:ext cx="413388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finalidade do Homem é a busca de sua própria felic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Não existe objetivo maior para o Homem, a não ser, possivelmente, o bem da própria human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442120" y="2173320"/>
            <a:ext cx="413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 finalidade do Homem é servir a De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s pessoas devem ser encaminhadas desde cedo com essa conscientiza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Todo campo de trabalho é legítimo desde que exercitado dentro desse contexto de um propósito mai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Ro 11:36; 1 Co 10:3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Colossenses 1:17, 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35160" y="169380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istema Secular de Edu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04040" y="1711440"/>
            <a:ext cx="40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 Educação Crist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7480" y="2081160"/>
            <a:ext cx="4143240" cy="43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23920" y="212760"/>
            <a:ext cx="650880" cy="47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C3A-503B-4723-BA08-85A32170C0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217520" y="2081160"/>
            <a:ext cx="4021200" cy="432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21304"/>
                </a:solidFill>
                <a:latin typeface="Times New Roman"/>
              </a:rPr>
              <a:t>C. O Homem é um ser </a:t>
            </a:r>
            <a:r>
              <a:rPr b="1" lang="pt-BR" sz="4400" spc="-1" strike="noStrike">
                <a:solidFill>
                  <a:srgbClr val="221304"/>
                </a:solidFill>
                <a:latin typeface="Times New Roman"/>
              </a:rPr>
              <a:t>religioso</a:t>
            </a:r>
            <a:r>
              <a:rPr b="0" lang="pt-BR" sz="4400" spc="-1" strike="noStrike">
                <a:solidFill>
                  <a:srgbClr val="221304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55240" y="2120400"/>
            <a:ext cx="413388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 questão religiosa é tratada como se fosse um campo “opcional” para o hom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Muitas vezes o aspecto religioso é apresentado como se fosse resquício da “natureza animal”, algo que será superado com o desenvolvi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Não há relação entre sabedoria e o temor do Senh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442120" y="2173320"/>
            <a:ext cx="413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O Homem foi criado como um ser religioso. Isso faz parte de sua constitui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 abordagem bíblica dos assuntos se harmoniza com esse aspecto, sendo essencial à compreensão integrada da v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 aplicação correta do conhecimento (sabedoria) só existe com o temor do Senh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Pr 1:7; 15:33 e Ro 2: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35160" y="169380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istema Secular de Edu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04040" y="1711440"/>
            <a:ext cx="40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 Educação Crist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97480" y="2081160"/>
            <a:ext cx="4143240" cy="43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23920" y="212760"/>
            <a:ext cx="650880" cy="47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706-8AF7-493C-865E-84EC1B4D30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217520" y="2081160"/>
            <a:ext cx="4021200" cy="432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04800" y="4521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21304"/>
                </a:solidFill>
                <a:latin typeface="Times New Roman"/>
              </a:rPr>
              <a:t>D. Todo ensinamento secular traz em si </a:t>
            </a:r>
            <a:r>
              <a:rPr b="1" lang="pt-BR" sz="4400" spc="-1" strike="noStrike">
                <a:solidFill>
                  <a:srgbClr val="221304"/>
                </a:solidFill>
                <a:latin typeface="Times New Roman"/>
              </a:rPr>
              <a:t>filosofias anti-cristãs</a:t>
            </a:r>
            <a:r>
              <a:rPr b="0" lang="pt-BR" sz="4400" spc="-1" strike="noStrike">
                <a:solidFill>
                  <a:srgbClr val="221304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55240" y="2120400"/>
            <a:ext cx="413388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 suposta objetividade na apresentação dos fatos, não exis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s premissas são influenciadas pela religiosidade distorcida do homem sem De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 integração do conhecimento não pode estar presente pois falta a verdadeira filosofia -- a Filosofia da Fé Cristã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42120" y="2173320"/>
            <a:ext cx="413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Reconhece a necessidade de re-estudar as disciplinas, retirando a influência das filosofias anti-cristã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presenta a Bíblia não como algo a ser inserido no currículo, mas como fator de integração do conheci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Pr 14:7; 16:22 e Judas 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35160" y="169380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istema Secular de Edu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04040" y="1711440"/>
            <a:ext cx="40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 Educação Crist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7480" y="2081160"/>
            <a:ext cx="4143240" cy="43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3920" y="212760"/>
            <a:ext cx="650880" cy="47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A02-245D-46F5-9BCE-38270043B7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84520" y="39960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221304"/>
                </a:solidFill>
                <a:latin typeface="Times New Roman"/>
              </a:rPr>
              <a:t>5</a:t>
            </a:r>
            <a:r>
              <a:rPr b="0" lang="pt-BR" sz="4000" spc="-1" strike="noStrike">
                <a:solidFill>
                  <a:srgbClr val="221304"/>
                </a:solidFill>
                <a:latin typeface="Times New Roman"/>
              </a:rPr>
              <a:t>. Mostre como a filosofia anti-cristã se introduz no texto acadêmico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A mais importante contribuição dos hebreus foi, sem dúvida, sua religião monoteista:  o Judaísmo.  Antes porem de atingir o estado monoteista (crença em um único Deus), a religião passou por várias fas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De início, os hebreus adoravam rios, fontes, poços, árvores e montanhas que, segundo eles, eram habitados por espíritos (eloins). Posteriormente, passaram por uma fase de monolatria.  Monolatria é a adoração exclusiva de um único Deus, sem, contudo, negar a existência de outros deu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O monoteísmo que, segundo alguns, teria surgido com Moisés, só se definiu plenamente entre os séculos VII e VI A.C., com o trabalho de grandes profetas como Isaías, Miquéias e Amós. A revolução religiosa destes profetas consistiu na afirmação do monoteismo. Pregavam que Jeová era o único Deus universal.  Pregavam também a prática da bondade e da justiça. Miquéias afirmava:  "o que o Senhor quer de ti é que pratiques a justiça, ames a misericórdia e acompanhes humildemente o teu Deus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A religião hebraica era também salvacionista ou messianista, isto é, acreditava na vinda de um Messias (salvador do pov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istória Geral, Francisco de Assis Silva, Vol. I, pg. 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54000" y="179280"/>
            <a:ext cx="1252800" cy="1517760"/>
          </a:xfrm>
          <a:prstGeom prst="lightningBol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7DD-B666-4066-A510-CE66C90CA3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46240" y="1711440"/>
            <a:ext cx="8235720" cy="4462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21304"/>
                </a:solidFill>
                <a:latin typeface="Times New Roman"/>
              </a:rPr>
              <a:t>É de Espantar, Não É?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644920" y="2239920"/>
            <a:ext cx="552600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E63-C872-4E8A-A421-BD6DF71EC0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2638440" y="3147840"/>
            <a:ext cx="2654280" cy="2954520"/>
            <a:chOff x="2638440" y="3147840"/>
            <a:chExt cx="2654280" cy="2954520"/>
          </a:xfrm>
        </p:grpSpPr>
        <p:sp>
          <p:nvSpPr>
            <p:cNvPr id="292" name=""/>
            <p:cNvSpPr/>
            <p:nvPr/>
          </p:nvSpPr>
          <p:spPr>
            <a:xfrm>
              <a:off x="2638440" y="3147840"/>
              <a:ext cx="2654280" cy="2954520"/>
            </a:xfrm>
            <a:custGeom>
              <a:avLst/>
              <a:gdLst/>
              <a:ahLst/>
              <a:rect l="l" t="t" r="r" b="b"/>
              <a:pathLst>
                <a:path w="1672" h="1861">
                  <a:moveTo>
                    <a:pt x="88" y="0"/>
                  </a:moveTo>
                  <a:lnTo>
                    <a:pt x="1672" y="476"/>
                  </a:lnTo>
                  <a:lnTo>
                    <a:pt x="720" y="1861"/>
                  </a:lnTo>
                  <a:lnTo>
                    <a:pt x="476" y="1639"/>
                  </a:lnTo>
                  <a:lnTo>
                    <a:pt x="254" y="1373"/>
                  </a:lnTo>
                  <a:lnTo>
                    <a:pt x="88" y="1019"/>
                  </a:lnTo>
                  <a:lnTo>
                    <a:pt x="22" y="631"/>
                  </a:lnTo>
                  <a:lnTo>
                    <a:pt x="0" y="421"/>
                  </a:lnTo>
                  <a:lnTo>
                    <a:pt x="33" y="155"/>
                  </a:lnTo>
                  <a:lnTo>
                    <a:pt x="88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76440" y="4027320"/>
              <a:ext cx="112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Bíbl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629080" y="1252440"/>
            <a:ext cx="5353920" cy="5316480"/>
            <a:chOff x="2629080" y="1252440"/>
            <a:chExt cx="5353920" cy="5316480"/>
          </a:xfrm>
        </p:grpSpPr>
        <p:sp>
          <p:nvSpPr>
            <p:cNvPr id="295" name=""/>
            <p:cNvSpPr/>
            <p:nvPr/>
          </p:nvSpPr>
          <p:spPr>
            <a:xfrm>
              <a:off x="2657520" y="1254240"/>
              <a:ext cx="5325480" cy="5314680"/>
            </a:xfrm>
            <a:prstGeom prst="ellipse">
              <a:avLst/>
            </a:prstGeom>
            <a:solidFill>
              <a:srgbClr val="cbbd83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49680" y="2100240"/>
              <a:ext cx="135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Ciências Natura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80080" y="2100240"/>
              <a:ext cx="135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Ciências Exa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65760" y="4183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Comunic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94320" y="5160960"/>
              <a:ext cx="135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Ciências Socia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749680" y="3139920"/>
              <a:ext cx="253944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289480" y="1252440"/>
              <a:ext cx="0" cy="26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54560" y="3157200"/>
              <a:ext cx="2611080" cy="7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08560" y="3898800"/>
              <a:ext cx="1482480" cy="22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792600" y="3914640"/>
              <a:ext cx="1514160" cy="21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29080" y="4200480"/>
              <a:ext cx="213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621040" y="294840"/>
            <a:ext cx="412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221304"/>
                </a:solidFill>
                <a:latin typeface="Times New Roman"/>
              </a:rPr>
              <a:t>Algumas Escolas Evangélica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23920" y="212760"/>
            <a:ext cx="2971800" cy="1724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Mostre 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ÃO 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ção Crist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AB2-F3D4-42DB-B06F-A180DA6664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3480" y="207720"/>
            <a:ext cx="513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21304"/>
                </a:solidFill>
                <a:latin typeface="Times New Roman"/>
              </a:rPr>
              <a:t>Educação Cristã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52760" y="1254240"/>
            <a:ext cx="5325840" cy="5314680"/>
          </a:xfrm>
          <a:prstGeom prst="ellipse">
            <a:avLst/>
          </a:prstGeom>
          <a:solidFill>
            <a:srgbClr val="cbbd83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02360" y="1252440"/>
            <a:ext cx="0" cy="530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549520" y="3922560"/>
            <a:ext cx="530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10120" y="2820960"/>
            <a:ext cx="2187360" cy="2152800"/>
          </a:xfrm>
          <a:prstGeom prst="ellipse">
            <a:avLst/>
          </a:prstGeom>
          <a:gradFill rotWithShape="0">
            <a:gsLst>
              <a:gs pos="0">
                <a:srgbClr val="5d573c"/>
              </a:gs>
              <a:gs pos="100000">
                <a:srgbClr val="cbbd8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67320" y="3597120"/>
            <a:ext cx="13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Bíb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87600" y="2344680"/>
            <a:ext cx="13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iências Natu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27520" y="2379600"/>
            <a:ext cx="13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iências Exa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4000" y="4724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mun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06680" y="4549680"/>
            <a:ext cx="13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iências So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23920" y="212760"/>
            <a:ext cx="2971800" cy="1724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Mostre 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ção Crist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616-0161-4592-93B9-94C60F6F68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146240" y="1711440"/>
            <a:ext cx="8235720" cy="446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221304"/>
                </a:solidFill>
                <a:latin typeface="Times New Roman"/>
              </a:rPr>
              <a:t>8</a:t>
            </a:r>
            <a:r>
              <a:rPr b="0" lang="pt-BR" sz="4400" spc="-1" strike="noStrike">
                <a:solidFill>
                  <a:srgbClr val="221304"/>
                </a:solidFill>
                <a:latin typeface="Times New Roman"/>
              </a:rPr>
              <a:t>. Deixe Claro: A Quem Pertence a Responsabilidade de Educar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Bookman Old Style"/>
              </a:rPr>
              <a:t>1.  A Responsabilidade dos P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A Bíblia apresenta a responsabilidade de educar como sendo uma determinação primordial aos PA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Trechos bíblic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1 Tim. 5:8;  Prov. 22:6;  Efé. 6:4;  Deut. 6: 6 e 7; Salmo 78: 1 a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O amor aliado à formação integral da criança é um relacionamento humano insubstituí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Bookman Old Style"/>
              </a:rPr>
              <a:t>2.  O Papel da Escol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Recebe o mandato dos Pa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Fruto da organização destes para melhor se desincumbirem de sua responsa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Complexidade da vida moderna requer considerável ajuda e organiz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Extensão do 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Excelência acadêmica é uma obrigação perante D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571-2016-4BD3-9441-81C5CC4196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46240" y="1711440"/>
            <a:ext cx="8235720" cy="446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221304"/>
                </a:solidFill>
                <a:latin typeface="Times New Roman"/>
              </a:rPr>
              <a:t>9</a:t>
            </a:r>
            <a:r>
              <a:rPr b="0" lang="pt-BR" sz="4000" spc="-1" strike="noStrike">
                <a:solidFill>
                  <a:srgbClr val="221304"/>
                </a:solidFill>
                <a:latin typeface="Times New Roman"/>
              </a:rPr>
              <a:t>. Reafirme o Papel Singular do Professor ou da Professora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Bookman Old Style"/>
              </a:rPr>
              <a:t>Deve ter qualificações profissionais e acadêmicas, mas isto não é sufici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Bookman Old Style"/>
              </a:rPr>
              <a:t>1. Deve ser uma pessoa comprometida a viver uma vida de serviço fiel para De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Bookman Old Style"/>
              </a:rPr>
              <a:t>2. Deve possuir equilíbrio e integração em sua personalidade, para poder transmitir seguranç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Bookman Old Style"/>
              </a:rPr>
              <a:t>3. Deve ter excelentes qualificações para ser um testemunho vivo de que aquilo que é de melhor qualidade deve ser colocado ao serviço do Senh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Bookman Old Style"/>
              </a:rPr>
              <a:t>4. Deve ter consciência de que é uma pessoa comissionada pelos pais, não o substituto des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Bookman Old Style"/>
              </a:rPr>
              <a:t>5. Deve conhecer o significado verdadeiro do que é Educação Cristã, formulando seus ensinamentos dentro da estrutura de integração bíblica que esta tem como b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Bookman Old Style"/>
              </a:rPr>
              <a:t>6. Ela é a chave do sucesso da Escola Cristã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Bookman Old Style"/>
              </a:rPr>
              <a:t>Qualquer tentativa no estabelecimento de uma escola verdadeiramente evangélica deve começar com o recrutamento e treinamento dos professores, nas bases filosófico-cristãs da Educação Cristã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Bookman Old Style"/>
              </a:rPr>
              <a:t>Não nos esqueçamos que temos sido "exercitados" no mal (2 Pedro 2:14) e que temos que nos "desprogramar" e sermos treinados pela Palavra da Ver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41A-BE5E-4A3C-8D4C-EFC29D749B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146240" y="1711440"/>
            <a:ext cx="8235720" cy="4762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221304"/>
                </a:solidFill>
                <a:latin typeface="Times New Roman"/>
              </a:rPr>
              <a:t>10</a:t>
            </a:r>
            <a:r>
              <a:rPr b="0" lang="pt-BR" sz="3200" spc="-1" strike="noStrike">
                <a:solidFill>
                  <a:srgbClr val="221304"/>
                </a:solidFill>
                <a:latin typeface="Times New Roman"/>
              </a:rPr>
              <a:t>. Indique livros e literatura que esclarecem o assunto e falam sobre Cosmovisão Cristã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335240" y="2103480"/>
            <a:ext cx="2006280" cy="32907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587760" y="2708280"/>
            <a:ext cx="2692440" cy="3213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651720" y="1924200"/>
            <a:ext cx="2463840" cy="35510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074600" y="5464080"/>
            <a:ext cx="25495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Educação Crist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olano Portela </a:t>
            </a: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www.editorafiel.com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51400" y="1879560"/>
            <a:ext cx="267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E Agora, como viveremos?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 Charles Colson </a:t>
            </a: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www.cpad.com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75400" y="5500800"/>
            <a:ext cx="26575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Fundamentos Inabaláveis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Norman Geis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www.editoravida.com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61A-86D0-4706-8A97-C604806F23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30320" y="3344760"/>
            <a:ext cx="4518000" cy="3216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53040" y="3121200"/>
            <a:ext cx="4543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ducação Sec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ducação Religi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ducação Crist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30520" y="846000"/>
            <a:ext cx="67309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. Precise as Definições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1C15-6EEC-4C07-A4AA-186DF0AA07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46240" y="1711440"/>
            <a:ext cx="8235720" cy="4462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44280" y="399600"/>
            <a:ext cx="863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221304"/>
                </a:solidFill>
                <a:latin typeface="Times New Roman"/>
              </a:rPr>
              <a:t>Desejando cópia das transparências, mande-me um e-mail!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55600" y="177156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3694b6"/>
                </a:solidFill>
                <a:latin typeface="Bookman Old Style"/>
              </a:rPr>
              <a:t>solano@portela.c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Bookman Old Style"/>
              </a:rPr>
              <a:t>Obrigado e que Deus lhes Abenço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FCD-9587-4EC1-80DF-7C410A41AE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 rot="20756400">
            <a:off x="2981160" y="517680"/>
            <a:ext cx="6620040" cy="31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Educação Cristã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2957400" y="4782960"/>
            <a:ext cx="658332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. Detalhe o Conceito – 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Visão Unificada de V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(Cosmovisão Cristã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367080" cy="4792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361040" y="2763720"/>
            <a:ext cx="2473200" cy="21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??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C4BB-6D1C-4BFA-A1A9-DBBB387ED1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221304"/>
                </a:solidFill>
                <a:latin typeface="Times New Roman"/>
              </a:rPr>
              <a:t>2</a:t>
            </a:r>
            <a:r>
              <a:rPr b="0" lang="pt-BR" sz="3600" spc="-1" strike="noStrike">
                <a:solidFill>
                  <a:srgbClr val="221304"/>
                </a:solidFill>
                <a:latin typeface="Times New Roman"/>
              </a:rPr>
              <a:t>.a: </a:t>
            </a:r>
            <a:r>
              <a:rPr b="0" lang="pt-BR" sz="3200" spc="-1" strike="noStrike">
                <a:solidFill>
                  <a:srgbClr val="221304"/>
                </a:solidFill>
                <a:latin typeface="Times New Roman"/>
              </a:rPr>
              <a:t>Use Diagramas para Contrastar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Ponto C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24360" y="2590920"/>
            <a:ext cx="0" cy="3352680"/>
          </a:xfrm>
          <a:prstGeom prst="line">
            <a:avLst/>
          </a:prstGeom>
          <a:ln w="1681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50840" y="609480"/>
          <a:ext cx="897120" cy="17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609480"/>
                    <a:ext cx="89712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371600" y="2362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stema Secular de Edu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2362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ducação Crist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578484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hecimentos Variados e Iso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18440" y="3456000"/>
            <a:ext cx="228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isão Unificada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osmovisão Cristã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895480"/>
            <a:ext cx="1295280" cy="76212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38400" y="4022640"/>
            <a:ext cx="1295280" cy="76212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90960" y="3094200"/>
            <a:ext cx="1295280" cy="76176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44880" y="3475080"/>
            <a:ext cx="784080" cy="67320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986280"/>
            <a:ext cx="801360" cy="62064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45000" y="2795760"/>
            <a:ext cx="712800" cy="128880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03720" y="4233960"/>
            <a:ext cx="749160" cy="62064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4748040"/>
            <a:ext cx="1030320" cy="107964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6880" y="4957920"/>
            <a:ext cx="1295640" cy="76176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4952880"/>
            <a:ext cx="1295640" cy="76212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3120" y="2930400"/>
            <a:ext cx="2763720" cy="275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47040" y="882720"/>
            <a:ext cx="986040" cy="1500120"/>
          </a:xfrm>
          <a:custGeom>
            <a:avLst/>
            <a:gdLst>
              <a:gd name="textAreaLeft" fmla="*/ 132120 w 986040"/>
              <a:gd name="textAreaRight" fmla="*/ 853920 w 986040"/>
              <a:gd name="textAreaTop" fmla="*/ 262440 h 1500120"/>
              <a:gd name="textAreaBottom" fmla="*/ 1087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00560" y="1851120"/>
            <a:ext cx="3051360" cy="511200"/>
          </a:xfrm>
          <a:prstGeom prst="leftArrow">
            <a:avLst>
              <a:gd name="adj1" fmla="val 50000"/>
              <a:gd name="adj2" fmla="val 14922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2A6-8668-46CD-A983-BA7FC605B1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29340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221304"/>
                </a:solidFill>
                <a:latin typeface="Times New Roman"/>
              </a:rPr>
              <a:t>2</a:t>
            </a:r>
            <a:r>
              <a:rPr b="0" lang="pt-BR" sz="3600" spc="-1" strike="noStrike">
                <a:solidFill>
                  <a:srgbClr val="221304"/>
                </a:solidFill>
                <a:latin typeface="Times New Roman"/>
              </a:rPr>
              <a:t>.b: Use a Bíblia para demonstrar o que é </a:t>
            </a:r>
            <a:br>
              <a:rPr sz="3600"/>
            </a:br>
            <a:r>
              <a:rPr b="1" lang="pt-BR" sz="3600" spc="-1" strike="noStrike">
                <a:solidFill>
                  <a:srgbClr val="221304"/>
                </a:solidFill>
                <a:latin typeface="Times New Roman"/>
              </a:rPr>
              <a:t>Visão Unificada de Vid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716200" y="1746360"/>
            <a:ext cx="4708440" cy="4714920"/>
            <a:chOff x="2716200" y="1746360"/>
            <a:chExt cx="4708440" cy="4714920"/>
          </a:xfrm>
        </p:grpSpPr>
        <p:sp>
          <p:nvSpPr>
            <p:cNvPr id="147" name=""/>
            <p:cNvSpPr/>
            <p:nvPr/>
          </p:nvSpPr>
          <p:spPr>
            <a:xfrm>
              <a:off x="2716200" y="1746360"/>
              <a:ext cx="4708440" cy="47149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60880" y="1763640"/>
              <a:ext cx="0" cy="236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5040000" y="4068360"/>
              <a:ext cx="2107440" cy="12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960280" y="4086000"/>
              <a:ext cx="2107440" cy="12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249800" y="1957320"/>
            <a:ext cx="635040" cy="635040"/>
          </a:xfrm>
          <a:prstGeom prst="ellipse">
            <a:avLst/>
          </a:prstGeom>
          <a:solidFill>
            <a:srgbClr val="a1bd6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90920" y="2011320"/>
            <a:ext cx="2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4560" y="1957320"/>
            <a:ext cx="635040" cy="635040"/>
          </a:xfrm>
          <a:prstGeom prst="ellipse">
            <a:avLst/>
          </a:prstGeom>
          <a:solidFill>
            <a:srgbClr val="a1bd6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6040" y="2011320"/>
            <a:ext cx="2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61000" y="4233960"/>
            <a:ext cx="635040" cy="635040"/>
          </a:xfrm>
          <a:prstGeom prst="ellipse">
            <a:avLst/>
          </a:prstGeom>
          <a:solidFill>
            <a:srgbClr val="a1bd6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02120" y="4287960"/>
            <a:ext cx="4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37040" y="2836800"/>
            <a:ext cx="223812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ersos 1 a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Cri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Har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29280" y="2629080"/>
            <a:ext cx="22384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ersos 7 a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Lei que rege a Cri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Papel do Hom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68520" y="4778280"/>
            <a:ext cx="39132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ersos 11 a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siderações Mo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ceitos 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      “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Pecado”,“Correção”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Glorificação a Deu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Cloud"/>
          <p:cNvSpPr/>
          <p:nvPr/>
        </p:nvSpPr>
        <p:spPr>
          <a:xfrm>
            <a:off x="849240" y="1347840"/>
            <a:ext cx="3054600" cy="16430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mo   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smovisão cristã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ibbon2Sharp"/>
          <p:cNvSpPr/>
          <p:nvPr/>
        </p:nvSpPr>
        <p:spPr>
          <a:xfrm>
            <a:off x="6881760" y="4713120"/>
            <a:ext cx="2684520" cy="1371600"/>
          </a:xfrm>
          <a:custGeom>
            <a:avLst/>
            <a:gdLst>
              <a:gd name="textAreaLeft" fmla="*/ 671040 w 2684520"/>
              <a:gd name="textAreaRight" fmla="*/ 2013480 w 2684520"/>
              <a:gd name="textAreaTop" fmla="*/ 152280 h 1371600"/>
              <a:gd name="textAreaBottom" fmla="*/ 1219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3500" y="19200"/>
                </a:moveTo>
                <a:lnTo>
                  <a:pt x="16200" y="19200"/>
                </a:lnTo>
                <a:lnTo>
                  <a:pt x="16200" y="4800"/>
                </a:lnTo>
              </a:path>
              <a:path fill="none" w="21600" h="21600">
                <a:moveTo>
                  <a:pt x="13500" y="21600"/>
                </a:moveTo>
                <a:lnTo>
                  <a:pt x="16200" y="1920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imeiro exponh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19A2-395D-41AE-B6DB-F3CB2F187D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63520" y="258480"/>
            <a:ext cx="603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21304"/>
                </a:solidFill>
                <a:latin typeface="Times New Roman"/>
              </a:rPr>
              <a:t>(Salmo 19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716200" y="1746360"/>
            <a:ext cx="4708440" cy="4714920"/>
            <a:chOff x="2716200" y="1746360"/>
            <a:chExt cx="4708440" cy="4714920"/>
          </a:xfrm>
        </p:grpSpPr>
        <p:sp>
          <p:nvSpPr>
            <p:cNvPr id="164" name=""/>
            <p:cNvSpPr/>
            <p:nvPr/>
          </p:nvSpPr>
          <p:spPr>
            <a:xfrm>
              <a:off x="2716200" y="1746360"/>
              <a:ext cx="4708440" cy="471492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60880" y="1763640"/>
              <a:ext cx="0" cy="236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5040000" y="4068360"/>
              <a:ext cx="2107440" cy="12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960280" y="4086000"/>
              <a:ext cx="2107440" cy="12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4249800" y="1957320"/>
            <a:ext cx="635040" cy="635040"/>
          </a:xfrm>
          <a:prstGeom prst="ellipse">
            <a:avLst/>
          </a:prstGeom>
          <a:solidFill>
            <a:srgbClr val="a1bd6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90920" y="2011320"/>
            <a:ext cx="2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4560" y="1957320"/>
            <a:ext cx="635040" cy="635040"/>
          </a:xfrm>
          <a:prstGeom prst="ellipse">
            <a:avLst/>
          </a:prstGeom>
          <a:solidFill>
            <a:srgbClr val="a1bd6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040" y="2011320"/>
            <a:ext cx="2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61000" y="4233960"/>
            <a:ext cx="635040" cy="635040"/>
          </a:xfrm>
          <a:prstGeom prst="ellipse">
            <a:avLst/>
          </a:prstGeom>
          <a:solidFill>
            <a:srgbClr val="a1bd6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02120" y="4287960"/>
            <a:ext cx="4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54320" y="2522520"/>
            <a:ext cx="1955880" cy="19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ersos 1 a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 Domínio da Natu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 Domínio outorg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o HO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 aquisiçã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onhecimentos 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tividade legít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29280" y="2629080"/>
            <a:ext cx="22384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ersos 7 a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s conhecimentos n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odem ser divorci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a LEI DE DE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 conhecimento 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STRUTURA 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RIAÇÃO 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sse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06800" y="4917960"/>
            <a:ext cx="3913200" cy="10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ersos 11 a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 reflexo dessas verdades na vida prá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 contexto moral do aprendiz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Uma criação afetada pelo pe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45160" y="423720"/>
            <a:ext cx="2978280" cy="2257560"/>
          </a:xfrm>
          <a:prstGeom prst="cloudCallout">
            <a:avLst>
              <a:gd name="adj1" fmla="val -23828"/>
              <a:gd name="adj2" fmla="val 6997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Que tem i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 ver 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DU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RISTÃ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7280" y="4340160"/>
            <a:ext cx="846000" cy="582840"/>
          </a:xfrm>
          <a:prstGeom prst="flowChartPunchedTap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Gen 1: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ibbon2Sharp"/>
          <p:cNvSpPr/>
          <p:nvPr/>
        </p:nvSpPr>
        <p:spPr>
          <a:xfrm>
            <a:off x="1008000" y="949320"/>
            <a:ext cx="2895840" cy="1371600"/>
          </a:xfrm>
          <a:custGeom>
            <a:avLst/>
            <a:gdLst>
              <a:gd name="textAreaLeft" fmla="*/ 723960 w 2895840"/>
              <a:gd name="textAreaRight" fmla="*/ 2171880 w 2895840"/>
              <a:gd name="textAreaTop" fmla="*/ 152280 h 1371600"/>
              <a:gd name="textAreaBottom" fmla="*/ 1219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3500" y="19200"/>
                </a:moveTo>
                <a:lnTo>
                  <a:pt x="16200" y="19200"/>
                </a:lnTo>
                <a:lnTo>
                  <a:pt x="16200" y="4800"/>
                </a:lnTo>
              </a:path>
              <a:path fill="none" w="21600" h="21600">
                <a:moveTo>
                  <a:pt x="13500" y="21600"/>
                </a:moveTo>
                <a:lnTo>
                  <a:pt x="16200" y="1920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pois, Expliqu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E5E1-E64C-492C-86C3-024E929274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77920" y="509760"/>
            <a:ext cx="4589640" cy="1214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568480" y="68220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21304"/>
                </a:solidFill>
                <a:latin typeface="Times New Roman"/>
              </a:rPr>
              <a:t>O Que é Educação Cristã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É o Processo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5800" y="2438280"/>
            <a:ext cx="2433600" cy="1868760"/>
          </a:xfrm>
          <a:prstGeom prst="rightArrow">
            <a:avLst>
              <a:gd name="adj1" fmla="val 50000"/>
              <a:gd name="adj2" fmla="val 3255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unicaçã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87600" y="4532400"/>
            <a:ext cx="2627280" cy="1904760"/>
          </a:xfrm>
          <a:prstGeom prst="rightArrowCallout">
            <a:avLst>
              <a:gd name="adj1" fmla="val 25002"/>
              <a:gd name="adj2" fmla="val 25000"/>
              <a:gd name="adj3" fmla="val 22989"/>
              <a:gd name="adj4" fmla="val 6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Que consid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stes f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ásic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INCÍP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14760" y="4745160"/>
            <a:ext cx="51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 Homem não é um ser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eutr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us Criou o Homem par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ervi-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 Homem é um ser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ligi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Todo ensinamento secular traz em 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ilosofias anti-cristã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446640" y="1206360"/>
            <a:ext cx="2733120" cy="3427200"/>
            <a:chOff x="3446640" y="1206360"/>
            <a:chExt cx="2733120" cy="3427200"/>
          </a:xfrm>
        </p:grpSpPr>
        <p:grpSp>
          <p:nvGrpSpPr>
            <p:cNvPr id="187" name=""/>
            <p:cNvGrpSpPr/>
            <p:nvPr/>
          </p:nvGrpSpPr>
          <p:grpSpPr>
            <a:xfrm>
              <a:off x="3446640" y="3603240"/>
              <a:ext cx="1004400" cy="952560"/>
              <a:chOff x="3446640" y="3603240"/>
              <a:chExt cx="1004400" cy="952560"/>
            </a:xfrm>
          </p:grpSpPr>
          <p:sp>
            <p:nvSpPr>
              <p:cNvPr id="188" name=""/>
              <p:cNvSpPr/>
              <p:nvPr/>
            </p:nvSpPr>
            <p:spPr>
              <a:xfrm>
                <a:off x="3722760" y="3632040"/>
                <a:ext cx="728280" cy="922320"/>
              </a:xfrm>
              <a:custGeom>
                <a:avLst/>
                <a:gdLst/>
                <a:ahLst/>
                <a:rect l="l" t="t" r="r" b="b"/>
                <a:pathLst>
                  <a:path w="459" h="581">
                    <a:moveTo>
                      <a:pt x="0" y="426"/>
                    </a:moveTo>
                    <a:lnTo>
                      <a:pt x="18" y="399"/>
                    </a:lnTo>
                    <a:lnTo>
                      <a:pt x="12" y="354"/>
                    </a:lnTo>
                    <a:lnTo>
                      <a:pt x="3" y="255"/>
                    </a:lnTo>
                    <a:lnTo>
                      <a:pt x="15" y="153"/>
                    </a:lnTo>
                    <a:lnTo>
                      <a:pt x="45" y="75"/>
                    </a:lnTo>
                    <a:lnTo>
                      <a:pt x="93" y="30"/>
                    </a:lnTo>
                    <a:lnTo>
                      <a:pt x="168" y="9"/>
                    </a:lnTo>
                    <a:lnTo>
                      <a:pt x="255" y="0"/>
                    </a:lnTo>
                    <a:lnTo>
                      <a:pt x="321" y="9"/>
                    </a:lnTo>
                    <a:lnTo>
                      <a:pt x="390" y="51"/>
                    </a:lnTo>
                    <a:lnTo>
                      <a:pt x="420" y="108"/>
                    </a:lnTo>
                    <a:lnTo>
                      <a:pt x="447" y="177"/>
                    </a:lnTo>
                    <a:lnTo>
                      <a:pt x="459" y="279"/>
                    </a:lnTo>
                    <a:lnTo>
                      <a:pt x="444" y="303"/>
                    </a:lnTo>
                    <a:lnTo>
                      <a:pt x="450" y="330"/>
                    </a:lnTo>
                    <a:lnTo>
                      <a:pt x="447" y="384"/>
                    </a:lnTo>
                    <a:lnTo>
                      <a:pt x="432" y="438"/>
                    </a:lnTo>
                    <a:lnTo>
                      <a:pt x="360" y="531"/>
                    </a:lnTo>
                    <a:lnTo>
                      <a:pt x="309" y="552"/>
                    </a:lnTo>
                    <a:lnTo>
                      <a:pt x="249" y="567"/>
                    </a:lnTo>
                    <a:lnTo>
                      <a:pt x="200" y="581"/>
                    </a:lnTo>
                    <a:lnTo>
                      <a:pt x="0" y="426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84600" y="3603240"/>
                <a:ext cx="718560" cy="747720"/>
              </a:xfrm>
              <a:custGeom>
                <a:avLst/>
                <a:gdLst/>
                <a:ahLst/>
                <a:rect l="l" t="t" r="r" b="b"/>
                <a:pathLst>
                  <a:path w="453" h="471">
                    <a:moveTo>
                      <a:pt x="21" y="408"/>
                    </a:moveTo>
                    <a:lnTo>
                      <a:pt x="3" y="294"/>
                    </a:lnTo>
                    <a:lnTo>
                      <a:pt x="0" y="231"/>
                    </a:lnTo>
                    <a:lnTo>
                      <a:pt x="15" y="141"/>
                    </a:lnTo>
                    <a:lnTo>
                      <a:pt x="39" y="72"/>
                    </a:lnTo>
                    <a:lnTo>
                      <a:pt x="96" y="18"/>
                    </a:lnTo>
                    <a:lnTo>
                      <a:pt x="165" y="3"/>
                    </a:lnTo>
                    <a:lnTo>
                      <a:pt x="252" y="0"/>
                    </a:lnTo>
                    <a:lnTo>
                      <a:pt x="300" y="6"/>
                    </a:lnTo>
                    <a:lnTo>
                      <a:pt x="348" y="24"/>
                    </a:lnTo>
                    <a:lnTo>
                      <a:pt x="390" y="45"/>
                    </a:lnTo>
                    <a:lnTo>
                      <a:pt x="429" y="75"/>
                    </a:lnTo>
                    <a:lnTo>
                      <a:pt x="441" y="102"/>
                    </a:lnTo>
                    <a:lnTo>
                      <a:pt x="396" y="75"/>
                    </a:lnTo>
                    <a:lnTo>
                      <a:pt x="354" y="72"/>
                    </a:lnTo>
                    <a:lnTo>
                      <a:pt x="339" y="69"/>
                    </a:lnTo>
                    <a:lnTo>
                      <a:pt x="375" y="96"/>
                    </a:lnTo>
                    <a:lnTo>
                      <a:pt x="396" y="126"/>
                    </a:lnTo>
                    <a:lnTo>
                      <a:pt x="408" y="156"/>
                    </a:lnTo>
                    <a:lnTo>
                      <a:pt x="426" y="177"/>
                    </a:lnTo>
                    <a:lnTo>
                      <a:pt x="444" y="204"/>
                    </a:lnTo>
                    <a:lnTo>
                      <a:pt x="450" y="231"/>
                    </a:lnTo>
                    <a:lnTo>
                      <a:pt x="453" y="261"/>
                    </a:lnTo>
                    <a:lnTo>
                      <a:pt x="435" y="318"/>
                    </a:lnTo>
                    <a:lnTo>
                      <a:pt x="417" y="357"/>
                    </a:lnTo>
                    <a:lnTo>
                      <a:pt x="393" y="345"/>
                    </a:lnTo>
                    <a:lnTo>
                      <a:pt x="399" y="330"/>
                    </a:lnTo>
                    <a:lnTo>
                      <a:pt x="402" y="309"/>
                    </a:lnTo>
                    <a:lnTo>
                      <a:pt x="387" y="291"/>
                    </a:lnTo>
                    <a:lnTo>
                      <a:pt x="351" y="300"/>
                    </a:lnTo>
                    <a:lnTo>
                      <a:pt x="306" y="327"/>
                    </a:lnTo>
                    <a:lnTo>
                      <a:pt x="288" y="381"/>
                    </a:lnTo>
                    <a:lnTo>
                      <a:pt x="279" y="405"/>
                    </a:lnTo>
                    <a:lnTo>
                      <a:pt x="288" y="423"/>
                    </a:lnTo>
                    <a:lnTo>
                      <a:pt x="306" y="432"/>
                    </a:lnTo>
                    <a:lnTo>
                      <a:pt x="231" y="456"/>
                    </a:lnTo>
                    <a:lnTo>
                      <a:pt x="171" y="465"/>
                    </a:lnTo>
                    <a:lnTo>
                      <a:pt x="123" y="471"/>
                    </a:lnTo>
                    <a:lnTo>
                      <a:pt x="66" y="438"/>
                    </a:lnTo>
                    <a:lnTo>
                      <a:pt x="21" y="408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46640" y="4284360"/>
                <a:ext cx="599760" cy="271440"/>
              </a:xfrm>
              <a:custGeom>
                <a:avLst/>
                <a:gdLst/>
                <a:ahLst/>
                <a:rect l="l" t="t" r="r" b="b"/>
                <a:pathLst>
                  <a:path w="378" h="171">
                    <a:moveTo>
                      <a:pt x="0" y="120"/>
                    </a:moveTo>
                    <a:lnTo>
                      <a:pt x="87" y="81"/>
                    </a:lnTo>
                    <a:lnTo>
                      <a:pt x="156" y="0"/>
                    </a:lnTo>
                    <a:lnTo>
                      <a:pt x="378" y="1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2280" y="3793680"/>
              <a:ext cx="1277640" cy="839880"/>
            </a:xfrm>
            <a:custGeom>
              <a:avLst/>
              <a:gdLst/>
              <a:ahLst/>
              <a:rect l="l" t="t" r="r" b="b"/>
              <a:pathLst>
                <a:path w="805" h="529">
                  <a:moveTo>
                    <a:pt x="66" y="0"/>
                  </a:moveTo>
                  <a:lnTo>
                    <a:pt x="0" y="529"/>
                  </a:lnTo>
                  <a:lnTo>
                    <a:pt x="805" y="529"/>
                  </a:lnTo>
                  <a:lnTo>
                    <a:pt x="775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435560" y="1206360"/>
              <a:ext cx="1499760" cy="2658960"/>
              <a:chOff x="4435560" y="1206360"/>
              <a:chExt cx="1499760" cy="265896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968360" y="2034720"/>
                <a:ext cx="558360" cy="642960"/>
                <a:chOff x="4968360" y="2034720"/>
                <a:chExt cx="558360" cy="6429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968360" y="2034720"/>
                  <a:ext cx="558360" cy="642960"/>
                </a:xfrm>
                <a:custGeom>
                  <a:avLst/>
                  <a:gdLst/>
                  <a:ahLst/>
                  <a:rect l="l" t="t" r="r" b="b"/>
                  <a:pathLst>
                    <a:path w="352" h="405">
                      <a:moveTo>
                        <a:pt x="65" y="0"/>
                      </a:moveTo>
                      <a:lnTo>
                        <a:pt x="46" y="108"/>
                      </a:lnTo>
                      <a:lnTo>
                        <a:pt x="36" y="118"/>
                      </a:lnTo>
                      <a:lnTo>
                        <a:pt x="19" y="129"/>
                      </a:lnTo>
                      <a:lnTo>
                        <a:pt x="0" y="135"/>
                      </a:lnTo>
                      <a:lnTo>
                        <a:pt x="22" y="240"/>
                      </a:lnTo>
                      <a:lnTo>
                        <a:pt x="31" y="291"/>
                      </a:lnTo>
                      <a:lnTo>
                        <a:pt x="40" y="322"/>
                      </a:lnTo>
                      <a:lnTo>
                        <a:pt x="53" y="349"/>
                      </a:lnTo>
                      <a:lnTo>
                        <a:pt x="79" y="366"/>
                      </a:lnTo>
                      <a:lnTo>
                        <a:pt x="121" y="384"/>
                      </a:lnTo>
                      <a:lnTo>
                        <a:pt x="172" y="400"/>
                      </a:lnTo>
                      <a:lnTo>
                        <a:pt x="209" y="405"/>
                      </a:lnTo>
                      <a:lnTo>
                        <a:pt x="242" y="400"/>
                      </a:lnTo>
                      <a:lnTo>
                        <a:pt x="281" y="390"/>
                      </a:lnTo>
                      <a:lnTo>
                        <a:pt x="307" y="373"/>
                      </a:lnTo>
                      <a:lnTo>
                        <a:pt x="343" y="324"/>
                      </a:lnTo>
                      <a:lnTo>
                        <a:pt x="352" y="280"/>
                      </a:lnTo>
                      <a:lnTo>
                        <a:pt x="347" y="219"/>
                      </a:lnTo>
                      <a:lnTo>
                        <a:pt x="334" y="196"/>
                      </a:lnTo>
                      <a:lnTo>
                        <a:pt x="293" y="154"/>
                      </a:lnTo>
                      <a:lnTo>
                        <a:pt x="280" y="141"/>
                      </a:lnTo>
                      <a:lnTo>
                        <a:pt x="278" y="82"/>
                      </a:lnTo>
                      <a:lnTo>
                        <a:pt x="286" y="42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69800" y="2034720"/>
                  <a:ext cx="453600" cy="554040"/>
                </a:xfrm>
                <a:custGeom>
                  <a:avLst/>
                  <a:gdLst/>
                  <a:ahLst/>
                  <a:rect l="l" t="t" r="r" b="b"/>
                  <a:pathLst>
                    <a:path w="286" h="349">
                      <a:moveTo>
                        <a:pt x="65" y="0"/>
                      </a:moveTo>
                      <a:lnTo>
                        <a:pt x="46" y="108"/>
                      </a:lnTo>
                      <a:lnTo>
                        <a:pt x="36" y="118"/>
                      </a:lnTo>
                      <a:lnTo>
                        <a:pt x="19" y="129"/>
                      </a:lnTo>
                      <a:lnTo>
                        <a:pt x="0" y="135"/>
                      </a:lnTo>
                      <a:lnTo>
                        <a:pt x="22" y="240"/>
                      </a:lnTo>
                      <a:lnTo>
                        <a:pt x="31" y="291"/>
                      </a:lnTo>
                      <a:lnTo>
                        <a:pt x="40" y="322"/>
                      </a:lnTo>
                      <a:lnTo>
                        <a:pt x="53" y="349"/>
                      </a:lnTo>
                      <a:lnTo>
                        <a:pt x="56" y="326"/>
                      </a:lnTo>
                      <a:lnTo>
                        <a:pt x="56" y="306"/>
                      </a:lnTo>
                      <a:lnTo>
                        <a:pt x="63" y="287"/>
                      </a:lnTo>
                      <a:lnTo>
                        <a:pt x="65" y="273"/>
                      </a:lnTo>
                      <a:lnTo>
                        <a:pt x="70" y="247"/>
                      </a:lnTo>
                      <a:lnTo>
                        <a:pt x="73" y="227"/>
                      </a:lnTo>
                      <a:lnTo>
                        <a:pt x="82" y="196"/>
                      </a:lnTo>
                      <a:lnTo>
                        <a:pt x="93" y="176"/>
                      </a:lnTo>
                      <a:lnTo>
                        <a:pt x="110" y="160"/>
                      </a:lnTo>
                      <a:lnTo>
                        <a:pt x="127" y="145"/>
                      </a:lnTo>
                      <a:lnTo>
                        <a:pt x="148" y="126"/>
                      </a:lnTo>
                      <a:lnTo>
                        <a:pt x="176" y="109"/>
                      </a:lnTo>
                      <a:lnTo>
                        <a:pt x="286" y="42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968360" y="2034720"/>
                  <a:ext cx="453600" cy="462240"/>
                </a:xfrm>
                <a:custGeom>
                  <a:avLst/>
                  <a:gdLst/>
                  <a:ahLst/>
                  <a:rect l="l" t="t" r="r" b="b"/>
                  <a:pathLst>
                    <a:path w="286" h="291">
                      <a:moveTo>
                        <a:pt x="65" y="0"/>
                      </a:moveTo>
                      <a:lnTo>
                        <a:pt x="46" y="108"/>
                      </a:lnTo>
                      <a:lnTo>
                        <a:pt x="36" y="118"/>
                      </a:lnTo>
                      <a:lnTo>
                        <a:pt x="19" y="129"/>
                      </a:lnTo>
                      <a:lnTo>
                        <a:pt x="0" y="135"/>
                      </a:lnTo>
                      <a:lnTo>
                        <a:pt x="22" y="240"/>
                      </a:lnTo>
                      <a:lnTo>
                        <a:pt x="31" y="291"/>
                      </a:lnTo>
                      <a:lnTo>
                        <a:pt x="34" y="264"/>
                      </a:lnTo>
                      <a:lnTo>
                        <a:pt x="38" y="237"/>
                      </a:lnTo>
                      <a:lnTo>
                        <a:pt x="45" y="213"/>
                      </a:lnTo>
                      <a:lnTo>
                        <a:pt x="46" y="193"/>
                      </a:lnTo>
                      <a:lnTo>
                        <a:pt x="53" y="175"/>
                      </a:lnTo>
                      <a:lnTo>
                        <a:pt x="66" y="157"/>
                      </a:lnTo>
                      <a:lnTo>
                        <a:pt x="81" y="146"/>
                      </a:lnTo>
                      <a:lnTo>
                        <a:pt x="101" y="138"/>
                      </a:lnTo>
                      <a:lnTo>
                        <a:pt x="117" y="130"/>
                      </a:lnTo>
                      <a:lnTo>
                        <a:pt x="145" y="115"/>
                      </a:lnTo>
                      <a:lnTo>
                        <a:pt x="170" y="103"/>
                      </a:lnTo>
                      <a:lnTo>
                        <a:pt x="286" y="42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895280" y="1206360"/>
                <a:ext cx="865080" cy="985680"/>
                <a:chOff x="4895280" y="1206360"/>
                <a:chExt cx="865080" cy="98568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4952160" y="1360080"/>
                  <a:ext cx="628200" cy="831960"/>
                  <a:chOff x="4952160" y="1360080"/>
                  <a:chExt cx="628200" cy="831960"/>
                </a:xfrm>
              </p:grpSpPr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4952160" y="1360080"/>
                    <a:ext cx="628200" cy="831960"/>
                    <a:chOff x="4952160" y="1360080"/>
                    <a:chExt cx="628200" cy="83196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77080" y="2055600"/>
                      <a:ext cx="3301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85">
                          <a:moveTo>
                            <a:pt x="0" y="0"/>
                          </a:moveTo>
                          <a:lnTo>
                            <a:pt x="4" y="14"/>
                          </a:lnTo>
                          <a:lnTo>
                            <a:pt x="10" y="25"/>
                          </a:lnTo>
                          <a:lnTo>
                            <a:pt x="17" y="35"/>
                          </a:lnTo>
                          <a:lnTo>
                            <a:pt x="29" y="48"/>
                          </a:lnTo>
                          <a:lnTo>
                            <a:pt x="41" y="57"/>
                          </a:lnTo>
                          <a:lnTo>
                            <a:pt x="55" y="66"/>
                          </a:lnTo>
                          <a:lnTo>
                            <a:pt x="72" y="75"/>
                          </a:lnTo>
                          <a:lnTo>
                            <a:pt x="87" y="79"/>
                          </a:lnTo>
                          <a:lnTo>
                            <a:pt x="109" y="84"/>
                          </a:lnTo>
                          <a:lnTo>
                            <a:pt x="126" y="85"/>
                          </a:lnTo>
                          <a:lnTo>
                            <a:pt x="154" y="84"/>
                          </a:lnTo>
                          <a:lnTo>
                            <a:pt x="169" y="80"/>
                          </a:lnTo>
                          <a:lnTo>
                            <a:pt x="181" y="75"/>
                          </a:lnTo>
                          <a:lnTo>
                            <a:pt x="193" y="66"/>
                          </a:lnTo>
                          <a:lnTo>
                            <a:pt x="208" y="5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12600">
                      <a:solidFill>
                        <a:srgbClr val="7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952160" y="1360080"/>
                      <a:ext cx="628200" cy="83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" h="523">
                          <a:moveTo>
                            <a:pt x="294" y="479"/>
                          </a:moveTo>
                          <a:lnTo>
                            <a:pt x="304" y="464"/>
                          </a:lnTo>
                          <a:lnTo>
                            <a:pt x="313" y="448"/>
                          </a:lnTo>
                          <a:lnTo>
                            <a:pt x="334" y="404"/>
                          </a:lnTo>
                          <a:lnTo>
                            <a:pt x="362" y="335"/>
                          </a:lnTo>
                          <a:lnTo>
                            <a:pt x="377" y="280"/>
                          </a:lnTo>
                          <a:lnTo>
                            <a:pt x="386" y="230"/>
                          </a:lnTo>
                          <a:lnTo>
                            <a:pt x="396" y="160"/>
                          </a:lnTo>
                          <a:lnTo>
                            <a:pt x="393" y="97"/>
                          </a:lnTo>
                          <a:lnTo>
                            <a:pt x="380" y="62"/>
                          </a:lnTo>
                          <a:lnTo>
                            <a:pt x="351" y="35"/>
                          </a:lnTo>
                          <a:lnTo>
                            <a:pt x="308" y="12"/>
                          </a:lnTo>
                          <a:lnTo>
                            <a:pt x="266" y="3"/>
                          </a:lnTo>
                          <a:lnTo>
                            <a:pt x="225" y="0"/>
                          </a:lnTo>
                          <a:lnTo>
                            <a:pt x="185" y="4"/>
                          </a:lnTo>
                          <a:lnTo>
                            <a:pt x="146" y="10"/>
                          </a:lnTo>
                          <a:lnTo>
                            <a:pt x="118" y="20"/>
                          </a:lnTo>
                          <a:lnTo>
                            <a:pt x="91" y="39"/>
                          </a:lnTo>
                          <a:lnTo>
                            <a:pt x="69" y="64"/>
                          </a:lnTo>
                          <a:lnTo>
                            <a:pt x="50" y="98"/>
                          </a:lnTo>
                          <a:lnTo>
                            <a:pt x="38" y="130"/>
                          </a:lnTo>
                          <a:lnTo>
                            <a:pt x="28" y="164"/>
                          </a:lnTo>
                          <a:lnTo>
                            <a:pt x="26" y="204"/>
                          </a:lnTo>
                          <a:lnTo>
                            <a:pt x="23" y="229"/>
                          </a:lnTo>
                          <a:lnTo>
                            <a:pt x="25" y="247"/>
                          </a:lnTo>
                          <a:lnTo>
                            <a:pt x="11" y="249"/>
                          </a:lnTo>
                          <a:lnTo>
                            <a:pt x="2" y="258"/>
                          </a:lnTo>
                          <a:lnTo>
                            <a:pt x="0" y="268"/>
                          </a:lnTo>
                          <a:lnTo>
                            <a:pt x="8" y="291"/>
                          </a:lnTo>
                          <a:lnTo>
                            <a:pt x="19" y="302"/>
                          </a:lnTo>
                          <a:lnTo>
                            <a:pt x="28" y="317"/>
                          </a:lnTo>
                          <a:lnTo>
                            <a:pt x="42" y="327"/>
                          </a:lnTo>
                          <a:lnTo>
                            <a:pt x="60" y="327"/>
                          </a:lnTo>
                          <a:lnTo>
                            <a:pt x="56" y="355"/>
                          </a:lnTo>
                          <a:lnTo>
                            <a:pt x="62" y="386"/>
                          </a:lnTo>
                          <a:lnTo>
                            <a:pt x="71" y="415"/>
                          </a:lnTo>
                          <a:lnTo>
                            <a:pt x="77" y="437"/>
                          </a:lnTo>
                          <a:lnTo>
                            <a:pt x="84" y="453"/>
                          </a:lnTo>
                          <a:lnTo>
                            <a:pt x="92" y="465"/>
                          </a:lnTo>
                          <a:lnTo>
                            <a:pt x="102" y="477"/>
                          </a:lnTo>
                          <a:lnTo>
                            <a:pt x="113" y="490"/>
                          </a:lnTo>
                          <a:lnTo>
                            <a:pt x="129" y="501"/>
                          </a:lnTo>
                          <a:lnTo>
                            <a:pt x="142" y="508"/>
                          </a:lnTo>
                          <a:lnTo>
                            <a:pt x="156" y="514"/>
                          </a:lnTo>
                          <a:lnTo>
                            <a:pt x="170" y="517"/>
                          </a:lnTo>
                          <a:lnTo>
                            <a:pt x="184" y="520"/>
                          </a:lnTo>
                          <a:lnTo>
                            <a:pt x="200" y="522"/>
                          </a:lnTo>
                          <a:lnTo>
                            <a:pt x="217" y="523"/>
                          </a:lnTo>
                          <a:lnTo>
                            <a:pt x="236" y="521"/>
                          </a:lnTo>
                          <a:lnTo>
                            <a:pt x="253" y="516"/>
                          </a:lnTo>
                          <a:lnTo>
                            <a:pt x="266" y="509"/>
                          </a:lnTo>
                          <a:lnTo>
                            <a:pt x="281" y="495"/>
                          </a:lnTo>
                          <a:lnTo>
                            <a:pt x="294" y="479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5221800" y="1893600"/>
                      <a:ext cx="304200" cy="29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2" h="188">
                          <a:moveTo>
                            <a:pt x="124" y="144"/>
                          </a:moveTo>
                          <a:lnTo>
                            <a:pt x="134" y="129"/>
                          </a:lnTo>
                          <a:lnTo>
                            <a:pt x="143" y="113"/>
                          </a:lnTo>
                          <a:lnTo>
                            <a:pt x="164" y="69"/>
                          </a:lnTo>
                          <a:lnTo>
                            <a:pt x="192" y="0"/>
                          </a:lnTo>
                          <a:lnTo>
                            <a:pt x="172" y="29"/>
                          </a:lnTo>
                          <a:lnTo>
                            <a:pt x="153" y="57"/>
                          </a:lnTo>
                          <a:lnTo>
                            <a:pt x="143" y="77"/>
                          </a:lnTo>
                          <a:lnTo>
                            <a:pt x="139" y="94"/>
                          </a:lnTo>
                          <a:lnTo>
                            <a:pt x="129" y="116"/>
                          </a:lnTo>
                          <a:lnTo>
                            <a:pt x="119" y="135"/>
                          </a:lnTo>
                          <a:lnTo>
                            <a:pt x="107" y="146"/>
                          </a:lnTo>
                          <a:lnTo>
                            <a:pt x="97" y="156"/>
                          </a:lnTo>
                          <a:lnTo>
                            <a:pt x="85" y="163"/>
                          </a:lnTo>
                          <a:lnTo>
                            <a:pt x="67" y="157"/>
                          </a:lnTo>
                          <a:lnTo>
                            <a:pt x="63" y="146"/>
                          </a:lnTo>
                          <a:lnTo>
                            <a:pt x="49" y="133"/>
                          </a:lnTo>
                          <a:lnTo>
                            <a:pt x="53" y="156"/>
                          </a:lnTo>
                          <a:lnTo>
                            <a:pt x="43" y="171"/>
                          </a:lnTo>
                          <a:lnTo>
                            <a:pt x="32" y="178"/>
                          </a:lnTo>
                          <a:lnTo>
                            <a:pt x="0" y="182"/>
                          </a:lnTo>
                          <a:lnTo>
                            <a:pt x="14" y="185"/>
                          </a:lnTo>
                          <a:lnTo>
                            <a:pt x="30" y="187"/>
                          </a:lnTo>
                          <a:lnTo>
                            <a:pt x="47" y="188"/>
                          </a:lnTo>
                          <a:lnTo>
                            <a:pt x="66" y="186"/>
                          </a:lnTo>
                          <a:lnTo>
                            <a:pt x="83" y="181"/>
                          </a:lnTo>
                          <a:lnTo>
                            <a:pt x="96" y="174"/>
                          </a:lnTo>
                          <a:lnTo>
                            <a:pt x="111" y="160"/>
                          </a:lnTo>
                          <a:lnTo>
                            <a:pt x="124" y="1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3" name=""/>
                  <p:cNvSpPr/>
                  <p:nvPr/>
                </p:nvSpPr>
                <p:spPr>
                  <a:xfrm>
                    <a:off x="4953600" y="1773000"/>
                    <a:ext cx="13140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79">
                        <a:moveTo>
                          <a:pt x="77" y="146"/>
                        </a:moveTo>
                        <a:lnTo>
                          <a:pt x="72" y="134"/>
                        </a:lnTo>
                        <a:lnTo>
                          <a:pt x="72" y="120"/>
                        </a:lnTo>
                        <a:lnTo>
                          <a:pt x="74" y="109"/>
                        </a:lnTo>
                        <a:lnTo>
                          <a:pt x="77" y="96"/>
                        </a:lnTo>
                        <a:lnTo>
                          <a:pt x="80" y="82"/>
                        </a:lnTo>
                        <a:lnTo>
                          <a:pt x="80" y="71"/>
                        </a:lnTo>
                        <a:lnTo>
                          <a:pt x="80" y="60"/>
                        </a:lnTo>
                        <a:lnTo>
                          <a:pt x="83" y="46"/>
                        </a:lnTo>
                        <a:lnTo>
                          <a:pt x="78" y="42"/>
                        </a:lnTo>
                        <a:lnTo>
                          <a:pt x="71" y="34"/>
                        </a:lnTo>
                        <a:lnTo>
                          <a:pt x="66" y="24"/>
                        </a:lnTo>
                        <a:lnTo>
                          <a:pt x="63" y="19"/>
                        </a:lnTo>
                        <a:lnTo>
                          <a:pt x="61" y="11"/>
                        </a:lnTo>
                        <a:lnTo>
                          <a:pt x="54" y="4"/>
                        </a:lnTo>
                        <a:lnTo>
                          <a:pt x="47" y="7"/>
                        </a:lnTo>
                        <a:lnTo>
                          <a:pt x="2" y="0"/>
                        </a:lnTo>
                        <a:lnTo>
                          <a:pt x="0" y="10"/>
                        </a:lnTo>
                        <a:lnTo>
                          <a:pt x="8" y="33"/>
                        </a:lnTo>
                        <a:lnTo>
                          <a:pt x="19" y="44"/>
                        </a:lnTo>
                        <a:lnTo>
                          <a:pt x="28" y="59"/>
                        </a:lnTo>
                        <a:lnTo>
                          <a:pt x="42" y="69"/>
                        </a:lnTo>
                        <a:lnTo>
                          <a:pt x="60" y="69"/>
                        </a:lnTo>
                        <a:lnTo>
                          <a:pt x="56" y="97"/>
                        </a:lnTo>
                        <a:lnTo>
                          <a:pt x="62" y="128"/>
                        </a:lnTo>
                        <a:lnTo>
                          <a:pt x="71" y="157"/>
                        </a:lnTo>
                        <a:lnTo>
                          <a:pt x="77" y="179"/>
                        </a:lnTo>
                        <a:lnTo>
                          <a:pt x="77" y="146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5104440" y="1634760"/>
                  <a:ext cx="388440" cy="436680"/>
                  <a:chOff x="5104440" y="1634760"/>
                  <a:chExt cx="388440" cy="436680"/>
                </a:xfrm>
              </p:grpSpPr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5191560" y="1982520"/>
                    <a:ext cx="156960" cy="88920"/>
                    <a:chOff x="5191560" y="1982520"/>
                    <a:chExt cx="156960" cy="8892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5208480" y="2010960"/>
                      <a:ext cx="110880" cy="367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5191560" y="1982520"/>
                      <a:ext cx="1569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35">
                          <a:moveTo>
                            <a:pt x="0" y="20"/>
                          </a:moveTo>
                          <a:lnTo>
                            <a:pt x="8" y="13"/>
                          </a:lnTo>
                          <a:lnTo>
                            <a:pt x="15" y="9"/>
                          </a:lnTo>
                          <a:lnTo>
                            <a:pt x="21" y="5"/>
                          </a:lnTo>
                          <a:lnTo>
                            <a:pt x="28" y="1"/>
                          </a:lnTo>
                          <a:lnTo>
                            <a:pt x="37" y="0"/>
                          </a:lnTo>
                          <a:lnTo>
                            <a:pt x="46" y="2"/>
                          </a:lnTo>
                          <a:lnTo>
                            <a:pt x="52" y="7"/>
                          </a:lnTo>
                          <a:lnTo>
                            <a:pt x="58" y="7"/>
                          </a:lnTo>
                          <a:lnTo>
                            <a:pt x="64" y="6"/>
                          </a:lnTo>
                          <a:lnTo>
                            <a:pt x="73" y="7"/>
                          </a:lnTo>
                          <a:lnTo>
                            <a:pt x="81" y="11"/>
                          </a:lnTo>
                          <a:lnTo>
                            <a:pt x="86" y="18"/>
                          </a:lnTo>
                          <a:lnTo>
                            <a:pt x="89" y="24"/>
                          </a:lnTo>
                          <a:lnTo>
                            <a:pt x="94" y="30"/>
                          </a:lnTo>
                          <a:lnTo>
                            <a:pt x="99" y="35"/>
                          </a:lnTo>
                          <a:lnTo>
                            <a:pt x="72" y="31"/>
                          </a:lnTo>
                          <a:lnTo>
                            <a:pt x="62" y="29"/>
                          </a:lnTo>
                          <a:lnTo>
                            <a:pt x="54" y="26"/>
                          </a:lnTo>
                          <a:lnTo>
                            <a:pt x="47" y="23"/>
                          </a:lnTo>
                          <a:lnTo>
                            <a:pt x="41" y="24"/>
                          </a:lnTo>
                          <a:lnTo>
                            <a:pt x="34" y="23"/>
                          </a:lnTo>
                          <a:lnTo>
                            <a:pt x="22" y="24"/>
                          </a:lnTo>
                          <a:lnTo>
                            <a:pt x="13" y="23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191560" y="2014200"/>
                      <a:ext cx="15516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" h="36">
                          <a:moveTo>
                            <a:pt x="0" y="0"/>
                          </a:moveTo>
                          <a:lnTo>
                            <a:pt x="10" y="2"/>
                          </a:lnTo>
                          <a:lnTo>
                            <a:pt x="19" y="5"/>
                          </a:lnTo>
                          <a:lnTo>
                            <a:pt x="26" y="5"/>
                          </a:lnTo>
                          <a:lnTo>
                            <a:pt x="32" y="6"/>
                          </a:lnTo>
                          <a:lnTo>
                            <a:pt x="39" y="7"/>
                          </a:lnTo>
                          <a:lnTo>
                            <a:pt x="45" y="10"/>
                          </a:lnTo>
                          <a:lnTo>
                            <a:pt x="52" y="10"/>
                          </a:lnTo>
                          <a:lnTo>
                            <a:pt x="59" y="10"/>
                          </a:lnTo>
                          <a:lnTo>
                            <a:pt x="69" y="11"/>
                          </a:lnTo>
                          <a:lnTo>
                            <a:pt x="78" y="12"/>
                          </a:lnTo>
                          <a:lnTo>
                            <a:pt x="88" y="13"/>
                          </a:lnTo>
                          <a:lnTo>
                            <a:pt x="98" y="15"/>
                          </a:lnTo>
                          <a:lnTo>
                            <a:pt x="91" y="22"/>
                          </a:lnTo>
                          <a:lnTo>
                            <a:pt x="79" y="30"/>
                          </a:lnTo>
                          <a:lnTo>
                            <a:pt x="69" y="35"/>
                          </a:lnTo>
                          <a:lnTo>
                            <a:pt x="61" y="36"/>
                          </a:lnTo>
                          <a:lnTo>
                            <a:pt x="52" y="36"/>
                          </a:lnTo>
                          <a:lnTo>
                            <a:pt x="43" y="36"/>
                          </a:lnTo>
                          <a:lnTo>
                            <a:pt x="34" y="33"/>
                          </a:lnTo>
                          <a:lnTo>
                            <a:pt x="25" y="28"/>
                          </a:lnTo>
                          <a:lnTo>
                            <a:pt x="18" y="22"/>
                          </a:lnTo>
                          <a:lnTo>
                            <a:pt x="12" y="14"/>
                          </a:lnTo>
                          <a:lnTo>
                            <a:pt x="7" y="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5104440" y="1634760"/>
                    <a:ext cx="388440" cy="168480"/>
                    <a:chOff x="5104440" y="1634760"/>
                    <a:chExt cx="388440" cy="168480"/>
                  </a:xfrm>
                </p:grpSpPr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5104440" y="1634760"/>
                      <a:ext cx="159840" cy="111240"/>
                      <a:chOff x="5104440" y="1634760"/>
                      <a:chExt cx="159840" cy="111240"/>
                    </a:xfrm>
                  </p:grpSpPr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5117040" y="1634760"/>
                        <a:ext cx="147240" cy="7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50">
                            <a:moveTo>
                              <a:pt x="3" y="11"/>
                            </a:moveTo>
                            <a:lnTo>
                              <a:pt x="24" y="1"/>
                            </a:lnTo>
                            <a:lnTo>
                              <a:pt x="35" y="0"/>
                            </a:lnTo>
                            <a:lnTo>
                              <a:pt x="43" y="0"/>
                            </a:lnTo>
                            <a:lnTo>
                              <a:pt x="58" y="3"/>
                            </a:lnTo>
                            <a:lnTo>
                              <a:pt x="69" y="9"/>
                            </a:lnTo>
                            <a:lnTo>
                              <a:pt x="77" y="17"/>
                            </a:lnTo>
                            <a:lnTo>
                              <a:pt x="85" y="27"/>
                            </a:lnTo>
                            <a:lnTo>
                              <a:pt x="90" y="38"/>
                            </a:lnTo>
                            <a:lnTo>
                              <a:pt x="93" y="50"/>
                            </a:lnTo>
                            <a:lnTo>
                              <a:pt x="77" y="38"/>
                            </a:lnTo>
                            <a:lnTo>
                              <a:pt x="67" y="26"/>
                            </a:lnTo>
                            <a:lnTo>
                              <a:pt x="58" y="16"/>
                            </a:lnTo>
                            <a:lnTo>
                              <a:pt x="47" y="9"/>
                            </a:lnTo>
                            <a:lnTo>
                              <a:pt x="32" y="6"/>
                            </a:lnTo>
                            <a:lnTo>
                              <a:pt x="21" y="8"/>
                            </a:lnTo>
                            <a:lnTo>
                              <a:pt x="0" y="16"/>
                            </a:lnTo>
                            <a:lnTo>
                              <a:pt x="3" y="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760" bIns="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5104440" y="1684080"/>
                        <a:ext cx="14256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37">
                            <a:moveTo>
                              <a:pt x="0" y="11"/>
                            </a:moveTo>
                            <a:lnTo>
                              <a:pt x="14" y="11"/>
                            </a:lnTo>
                            <a:lnTo>
                              <a:pt x="21" y="7"/>
                            </a:lnTo>
                            <a:lnTo>
                              <a:pt x="29" y="3"/>
                            </a:lnTo>
                            <a:lnTo>
                              <a:pt x="41" y="0"/>
                            </a:lnTo>
                            <a:lnTo>
                              <a:pt x="51" y="1"/>
                            </a:lnTo>
                            <a:lnTo>
                              <a:pt x="62" y="4"/>
                            </a:lnTo>
                            <a:lnTo>
                              <a:pt x="68" y="8"/>
                            </a:lnTo>
                            <a:lnTo>
                              <a:pt x="78" y="15"/>
                            </a:lnTo>
                            <a:lnTo>
                              <a:pt x="84" y="23"/>
                            </a:lnTo>
                            <a:lnTo>
                              <a:pt x="90" y="32"/>
                            </a:lnTo>
                            <a:lnTo>
                              <a:pt x="88" y="36"/>
                            </a:lnTo>
                            <a:lnTo>
                              <a:pt x="81" y="37"/>
                            </a:lnTo>
                            <a:lnTo>
                              <a:pt x="72" y="24"/>
                            </a:lnTo>
                            <a:lnTo>
                              <a:pt x="66" y="20"/>
                            </a:lnTo>
                            <a:lnTo>
                              <a:pt x="61" y="27"/>
                            </a:lnTo>
                            <a:lnTo>
                              <a:pt x="55" y="29"/>
                            </a:lnTo>
                            <a:lnTo>
                              <a:pt x="48" y="29"/>
                            </a:lnTo>
                            <a:lnTo>
                              <a:pt x="41" y="27"/>
                            </a:lnTo>
                            <a:lnTo>
                              <a:pt x="37" y="23"/>
                            </a:lnTo>
                            <a:lnTo>
                              <a:pt x="35" y="17"/>
                            </a:lnTo>
                            <a:lnTo>
                              <a:pt x="26" y="20"/>
                            </a:lnTo>
                            <a:lnTo>
                              <a:pt x="15" y="19"/>
                            </a:lnTo>
                            <a:lnTo>
                              <a:pt x="7" y="19"/>
                            </a:lnTo>
                            <a:lnTo>
                              <a:pt x="0" y="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5134320" y="1722240"/>
                        <a:ext cx="6480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5">
                            <a:moveTo>
                              <a:pt x="0" y="0"/>
                            </a:moveTo>
                            <a:lnTo>
                              <a:pt x="7" y="2"/>
                            </a:lnTo>
                            <a:lnTo>
                              <a:pt x="12" y="6"/>
                            </a:lnTo>
                            <a:lnTo>
                              <a:pt x="19" y="10"/>
                            </a:lnTo>
                            <a:lnTo>
                              <a:pt x="26" y="12"/>
                            </a:lnTo>
                            <a:lnTo>
                              <a:pt x="33" y="12"/>
                            </a:lnTo>
                            <a:lnTo>
                              <a:pt x="41" y="10"/>
                            </a:lnTo>
                            <a:lnTo>
                              <a:pt x="32" y="13"/>
                            </a:lnTo>
                            <a:lnTo>
                              <a:pt x="27" y="15"/>
                            </a:lnTo>
                            <a:lnTo>
                              <a:pt x="20" y="14"/>
                            </a:lnTo>
                            <a:lnTo>
                              <a:pt x="9" y="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4" name=""/>
                    <p:cNvGrpSpPr/>
                    <p:nvPr/>
                  </p:nvGrpSpPr>
                  <p:grpSpPr>
                    <a:xfrm>
                      <a:off x="5340600" y="1688760"/>
                      <a:ext cx="152280" cy="114480"/>
                      <a:chOff x="5340600" y="1688760"/>
                      <a:chExt cx="152280" cy="114480"/>
                    </a:xfrm>
                  </p:grpSpPr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340600" y="1688760"/>
                        <a:ext cx="152280" cy="7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49">
                            <a:moveTo>
                              <a:pt x="1" y="49"/>
                            </a:moveTo>
                            <a:lnTo>
                              <a:pt x="0" y="43"/>
                            </a:lnTo>
                            <a:lnTo>
                              <a:pt x="5" y="28"/>
                            </a:lnTo>
                            <a:lnTo>
                              <a:pt x="14" y="16"/>
                            </a:lnTo>
                            <a:lnTo>
                              <a:pt x="22" y="10"/>
                            </a:lnTo>
                            <a:lnTo>
                              <a:pt x="34" y="4"/>
                            </a:lnTo>
                            <a:lnTo>
                              <a:pt x="52" y="0"/>
                            </a:lnTo>
                            <a:lnTo>
                              <a:pt x="68" y="0"/>
                            </a:lnTo>
                            <a:lnTo>
                              <a:pt x="82" y="0"/>
                            </a:lnTo>
                            <a:lnTo>
                              <a:pt x="93" y="7"/>
                            </a:lnTo>
                            <a:lnTo>
                              <a:pt x="96" y="14"/>
                            </a:lnTo>
                            <a:lnTo>
                              <a:pt x="90" y="10"/>
                            </a:lnTo>
                            <a:lnTo>
                              <a:pt x="78" y="7"/>
                            </a:lnTo>
                            <a:lnTo>
                              <a:pt x="61" y="7"/>
                            </a:lnTo>
                            <a:lnTo>
                              <a:pt x="48" y="10"/>
                            </a:lnTo>
                            <a:lnTo>
                              <a:pt x="37" y="15"/>
                            </a:lnTo>
                            <a:lnTo>
                              <a:pt x="27" y="19"/>
                            </a:lnTo>
                            <a:lnTo>
                              <a:pt x="20" y="25"/>
                            </a:lnTo>
                            <a:lnTo>
                              <a:pt x="14" y="33"/>
                            </a:lnTo>
                            <a:lnTo>
                              <a:pt x="9" y="43"/>
                            </a:lnTo>
                            <a:lnTo>
                              <a:pt x="1" y="4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960" bIns="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5372280" y="1734840"/>
                        <a:ext cx="120240" cy="68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" h="43">
                            <a:moveTo>
                              <a:pt x="0" y="21"/>
                            </a:moveTo>
                            <a:lnTo>
                              <a:pt x="1" y="12"/>
                            </a:lnTo>
                            <a:lnTo>
                              <a:pt x="12" y="5"/>
                            </a:lnTo>
                            <a:lnTo>
                              <a:pt x="21" y="2"/>
                            </a:lnTo>
                            <a:lnTo>
                              <a:pt x="34" y="0"/>
                            </a:lnTo>
                            <a:lnTo>
                              <a:pt x="46" y="2"/>
                            </a:lnTo>
                            <a:lnTo>
                              <a:pt x="55" y="5"/>
                            </a:lnTo>
                            <a:lnTo>
                              <a:pt x="66" y="5"/>
                            </a:lnTo>
                            <a:lnTo>
                              <a:pt x="61" y="9"/>
                            </a:lnTo>
                            <a:lnTo>
                              <a:pt x="69" y="17"/>
                            </a:lnTo>
                            <a:lnTo>
                              <a:pt x="70" y="26"/>
                            </a:lnTo>
                            <a:lnTo>
                              <a:pt x="73" y="34"/>
                            </a:lnTo>
                            <a:lnTo>
                              <a:pt x="76" y="36"/>
                            </a:lnTo>
                            <a:lnTo>
                              <a:pt x="73" y="43"/>
                            </a:lnTo>
                            <a:lnTo>
                              <a:pt x="63" y="38"/>
                            </a:lnTo>
                            <a:lnTo>
                              <a:pt x="59" y="30"/>
                            </a:lnTo>
                            <a:lnTo>
                              <a:pt x="57" y="25"/>
                            </a:lnTo>
                            <a:lnTo>
                              <a:pt x="50" y="24"/>
                            </a:lnTo>
                            <a:lnTo>
                              <a:pt x="46" y="27"/>
                            </a:lnTo>
                            <a:lnTo>
                              <a:pt x="38" y="29"/>
                            </a:lnTo>
                            <a:lnTo>
                              <a:pt x="29" y="29"/>
                            </a:lnTo>
                            <a:lnTo>
                              <a:pt x="22" y="25"/>
                            </a:lnTo>
                            <a:lnTo>
                              <a:pt x="19" y="20"/>
                            </a:lnTo>
                            <a:lnTo>
                              <a:pt x="18" y="14"/>
                            </a:lnTo>
                            <a:lnTo>
                              <a:pt x="8" y="17"/>
                            </a:lnTo>
                            <a:lnTo>
                              <a:pt x="0" y="2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0" bIns="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5362560" y="1771200"/>
                        <a:ext cx="93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6" y="0"/>
                            </a:moveTo>
                            <a:lnTo>
                              <a:pt x="1" y="5"/>
                            </a:lnTo>
                            <a:lnTo>
                              <a:pt x="0" y="9"/>
                            </a:lnTo>
                            <a:lnTo>
                              <a:pt x="3" y="11"/>
                            </a:lnTo>
                            <a:lnTo>
                              <a:pt x="4" y="2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8" name=""/>
                  <p:cNvSpPr/>
                  <p:nvPr/>
                </p:nvSpPr>
                <p:spPr>
                  <a:xfrm>
                    <a:off x="5229720" y="1854000"/>
                    <a:ext cx="1170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1">
                        <a:moveTo>
                          <a:pt x="19" y="0"/>
                        </a:moveTo>
                        <a:lnTo>
                          <a:pt x="12" y="4"/>
                        </a:lnTo>
                        <a:lnTo>
                          <a:pt x="6" y="7"/>
                        </a:lnTo>
                        <a:lnTo>
                          <a:pt x="1" y="13"/>
                        </a:lnTo>
                        <a:lnTo>
                          <a:pt x="0" y="19"/>
                        </a:lnTo>
                        <a:lnTo>
                          <a:pt x="3" y="26"/>
                        </a:lnTo>
                        <a:lnTo>
                          <a:pt x="13" y="27"/>
                        </a:lnTo>
                        <a:lnTo>
                          <a:pt x="22" y="31"/>
                        </a:lnTo>
                        <a:lnTo>
                          <a:pt x="28" y="37"/>
                        </a:lnTo>
                        <a:lnTo>
                          <a:pt x="37" y="41"/>
                        </a:lnTo>
                        <a:lnTo>
                          <a:pt x="48" y="39"/>
                        </a:lnTo>
                        <a:lnTo>
                          <a:pt x="55" y="35"/>
                        </a:lnTo>
                        <a:lnTo>
                          <a:pt x="66" y="31"/>
                        </a:lnTo>
                        <a:lnTo>
                          <a:pt x="74" y="32"/>
                        </a:lnTo>
                      </a:path>
                    </a:pathLst>
                  </a:custGeom>
                  <a:noFill/>
                  <a:ln w="12600">
                    <a:solidFill>
                      <a:srgbClr val="f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4895280" y="1206360"/>
                  <a:ext cx="865080" cy="842760"/>
                  <a:chOff x="4895280" y="1206360"/>
                  <a:chExt cx="865080" cy="8427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4895280" y="1206360"/>
                    <a:ext cx="865080" cy="842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531">
                        <a:moveTo>
                          <a:pt x="104" y="500"/>
                        </a:moveTo>
                        <a:lnTo>
                          <a:pt x="83" y="488"/>
                        </a:lnTo>
                        <a:lnTo>
                          <a:pt x="71" y="476"/>
                        </a:lnTo>
                        <a:lnTo>
                          <a:pt x="67" y="465"/>
                        </a:lnTo>
                        <a:lnTo>
                          <a:pt x="62" y="441"/>
                        </a:lnTo>
                        <a:lnTo>
                          <a:pt x="49" y="435"/>
                        </a:lnTo>
                        <a:lnTo>
                          <a:pt x="44" y="413"/>
                        </a:lnTo>
                        <a:lnTo>
                          <a:pt x="38" y="402"/>
                        </a:lnTo>
                        <a:lnTo>
                          <a:pt x="34" y="396"/>
                        </a:lnTo>
                        <a:lnTo>
                          <a:pt x="28" y="377"/>
                        </a:lnTo>
                        <a:lnTo>
                          <a:pt x="7" y="344"/>
                        </a:lnTo>
                        <a:lnTo>
                          <a:pt x="19" y="288"/>
                        </a:lnTo>
                        <a:lnTo>
                          <a:pt x="7" y="281"/>
                        </a:lnTo>
                        <a:lnTo>
                          <a:pt x="0" y="248"/>
                        </a:lnTo>
                        <a:lnTo>
                          <a:pt x="1" y="225"/>
                        </a:lnTo>
                        <a:lnTo>
                          <a:pt x="3" y="199"/>
                        </a:lnTo>
                        <a:lnTo>
                          <a:pt x="16" y="171"/>
                        </a:lnTo>
                        <a:lnTo>
                          <a:pt x="47" y="155"/>
                        </a:lnTo>
                        <a:lnTo>
                          <a:pt x="44" y="126"/>
                        </a:lnTo>
                        <a:lnTo>
                          <a:pt x="71" y="92"/>
                        </a:lnTo>
                        <a:lnTo>
                          <a:pt x="84" y="78"/>
                        </a:lnTo>
                        <a:lnTo>
                          <a:pt x="98" y="56"/>
                        </a:lnTo>
                        <a:lnTo>
                          <a:pt x="120" y="41"/>
                        </a:lnTo>
                        <a:lnTo>
                          <a:pt x="143" y="41"/>
                        </a:lnTo>
                        <a:lnTo>
                          <a:pt x="179" y="9"/>
                        </a:lnTo>
                        <a:lnTo>
                          <a:pt x="209" y="6"/>
                        </a:lnTo>
                        <a:lnTo>
                          <a:pt x="231" y="0"/>
                        </a:lnTo>
                        <a:lnTo>
                          <a:pt x="252" y="3"/>
                        </a:lnTo>
                        <a:lnTo>
                          <a:pt x="272" y="6"/>
                        </a:lnTo>
                        <a:lnTo>
                          <a:pt x="294" y="6"/>
                        </a:lnTo>
                        <a:lnTo>
                          <a:pt x="323" y="9"/>
                        </a:lnTo>
                        <a:lnTo>
                          <a:pt x="354" y="23"/>
                        </a:lnTo>
                        <a:lnTo>
                          <a:pt x="372" y="33"/>
                        </a:lnTo>
                        <a:lnTo>
                          <a:pt x="410" y="44"/>
                        </a:lnTo>
                        <a:lnTo>
                          <a:pt x="435" y="69"/>
                        </a:lnTo>
                        <a:lnTo>
                          <a:pt x="449" y="87"/>
                        </a:lnTo>
                        <a:lnTo>
                          <a:pt x="462" y="108"/>
                        </a:lnTo>
                        <a:lnTo>
                          <a:pt x="468" y="129"/>
                        </a:lnTo>
                        <a:lnTo>
                          <a:pt x="479" y="147"/>
                        </a:lnTo>
                        <a:lnTo>
                          <a:pt x="492" y="164"/>
                        </a:lnTo>
                        <a:lnTo>
                          <a:pt x="512" y="186"/>
                        </a:lnTo>
                        <a:lnTo>
                          <a:pt x="525" y="225"/>
                        </a:lnTo>
                        <a:lnTo>
                          <a:pt x="536" y="257"/>
                        </a:lnTo>
                        <a:lnTo>
                          <a:pt x="545" y="279"/>
                        </a:lnTo>
                        <a:lnTo>
                          <a:pt x="542" y="294"/>
                        </a:lnTo>
                        <a:lnTo>
                          <a:pt x="533" y="326"/>
                        </a:lnTo>
                        <a:lnTo>
                          <a:pt x="521" y="344"/>
                        </a:lnTo>
                        <a:lnTo>
                          <a:pt x="524" y="372"/>
                        </a:lnTo>
                        <a:lnTo>
                          <a:pt x="516" y="389"/>
                        </a:lnTo>
                        <a:lnTo>
                          <a:pt x="489" y="407"/>
                        </a:lnTo>
                        <a:lnTo>
                          <a:pt x="480" y="426"/>
                        </a:lnTo>
                        <a:lnTo>
                          <a:pt x="432" y="465"/>
                        </a:lnTo>
                        <a:lnTo>
                          <a:pt x="432" y="482"/>
                        </a:lnTo>
                        <a:lnTo>
                          <a:pt x="411" y="503"/>
                        </a:lnTo>
                        <a:lnTo>
                          <a:pt x="375" y="522"/>
                        </a:lnTo>
                        <a:lnTo>
                          <a:pt x="356" y="531"/>
                        </a:lnTo>
                        <a:lnTo>
                          <a:pt x="378" y="482"/>
                        </a:lnTo>
                        <a:lnTo>
                          <a:pt x="399" y="429"/>
                        </a:lnTo>
                        <a:lnTo>
                          <a:pt x="411" y="387"/>
                        </a:lnTo>
                        <a:lnTo>
                          <a:pt x="419" y="342"/>
                        </a:lnTo>
                        <a:lnTo>
                          <a:pt x="419" y="320"/>
                        </a:lnTo>
                        <a:lnTo>
                          <a:pt x="413" y="296"/>
                        </a:lnTo>
                        <a:lnTo>
                          <a:pt x="416" y="249"/>
                        </a:lnTo>
                        <a:lnTo>
                          <a:pt x="410" y="234"/>
                        </a:lnTo>
                        <a:lnTo>
                          <a:pt x="399" y="224"/>
                        </a:lnTo>
                        <a:lnTo>
                          <a:pt x="357" y="246"/>
                        </a:lnTo>
                        <a:lnTo>
                          <a:pt x="335" y="257"/>
                        </a:lnTo>
                        <a:lnTo>
                          <a:pt x="302" y="261"/>
                        </a:lnTo>
                        <a:lnTo>
                          <a:pt x="258" y="261"/>
                        </a:lnTo>
                        <a:lnTo>
                          <a:pt x="224" y="259"/>
                        </a:lnTo>
                        <a:lnTo>
                          <a:pt x="206" y="254"/>
                        </a:lnTo>
                        <a:lnTo>
                          <a:pt x="189" y="245"/>
                        </a:lnTo>
                        <a:lnTo>
                          <a:pt x="168" y="245"/>
                        </a:lnTo>
                        <a:lnTo>
                          <a:pt x="147" y="252"/>
                        </a:lnTo>
                        <a:lnTo>
                          <a:pt x="138" y="266"/>
                        </a:lnTo>
                        <a:lnTo>
                          <a:pt x="134" y="285"/>
                        </a:lnTo>
                        <a:lnTo>
                          <a:pt x="125" y="302"/>
                        </a:lnTo>
                        <a:lnTo>
                          <a:pt x="111" y="305"/>
                        </a:lnTo>
                        <a:lnTo>
                          <a:pt x="100" y="326"/>
                        </a:lnTo>
                        <a:lnTo>
                          <a:pt x="96" y="359"/>
                        </a:lnTo>
                        <a:lnTo>
                          <a:pt x="89" y="367"/>
                        </a:lnTo>
                        <a:lnTo>
                          <a:pt x="80" y="371"/>
                        </a:lnTo>
                        <a:lnTo>
                          <a:pt x="70" y="372"/>
                        </a:lnTo>
                        <a:lnTo>
                          <a:pt x="62" y="376"/>
                        </a:lnTo>
                        <a:lnTo>
                          <a:pt x="58" y="383"/>
                        </a:lnTo>
                        <a:lnTo>
                          <a:pt x="56" y="391"/>
                        </a:lnTo>
                        <a:lnTo>
                          <a:pt x="58" y="404"/>
                        </a:lnTo>
                        <a:lnTo>
                          <a:pt x="65" y="415"/>
                        </a:lnTo>
                        <a:lnTo>
                          <a:pt x="78" y="424"/>
                        </a:lnTo>
                        <a:lnTo>
                          <a:pt x="94" y="424"/>
                        </a:lnTo>
                        <a:lnTo>
                          <a:pt x="99" y="468"/>
                        </a:lnTo>
                        <a:lnTo>
                          <a:pt x="104" y="500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4923720" y="1238040"/>
                    <a:ext cx="810360" cy="590400"/>
                    <a:chOff x="4923720" y="1238040"/>
                    <a:chExt cx="810360" cy="59040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923720" y="1461960"/>
                      <a:ext cx="34092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148">
                          <a:moveTo>
                            <a:pt x="7" y="148"/>
                          </a:moveTo>
                          <a:lnTo>
                            <a:pt x="45" y="148"/>
                          </a:lnTo>
                          <a:lnTo>
                            <a:pt x="107" y="115"/>
                          </a:lnTo>
                          <a:lnTo>
                            <a:pt x="61" y="111"/>
                          </a:lnTo>
                          <a:lnTo>
                            <a:pt x="27" y="106"/>
                          </a:lnTo>
                          <a:lnTo>
                            <a:pt x="12" y="100"/>
                          </a:lnTo>
                          <a:lnTo>
                            <a:pt x="0" y="82"/>
                          </a:lnTo>
                          <a:lnTo>
                            <a:pt x="1" y="48"/>
                          </a:lnTo>
                          <a:lnTo>
                            <a:pt x="27" y="61"/>
                          </a:lnTo>
                          <a:lnTo>
                            <a:pt x="46" y="69"/>
                          </a:lnTo>
                          <a:lnTo>
                            <a:pt x="76" y="73"/>
                          </a:lnTo>
                          <a:lnTo>
                            <a:pt x="97" y="76"/>
                          </a:lnTo>
                          <a:lnTo>
                            <a:pt x="128" y="88"/>
                          </a:lnTo>
                          <a:lnTo>
                            <a:pt x="106" y="63"/>
                          </a:lnTo>
                          <a:lnTo>
                            <a:pt x="89" y="49"/>
                          </a:lnTo>
                          <a:lnTo>
                            <a:pt x="64" y="37"/>
                          </a:lnTo>
                          <a:lnTo>
                            <a:pt x="67" y="9"/>
                          </a:lnTo>
                          <a:lnTo>
                            <a:pt x="64" y="0"/>
                          </a:lnTo>
                          <a:lnTo>
                            <a:pt x="97" y="1"/>
                          </a:lnTo>
                          <a:lnTo>
                            <a:pt x="98" y="24"/>
                          </a:lnTo>
                          <a:lnTo>
                            <a:pt x="103" y="42"/>
                          </a:lnTo>
                          <a:lnTo>
                            <a:pt x="113" y="54"/>
                          </a:lnTo>
                          <a:lnTo>
                            <a:pt x="133" y="64"/>
                          </a:lnTo>
                          <a:lnTo>
                            <a:pt x="163" y="76"/>
                          </a:lnTo>
                          <a:lnTo>
                            <a:pt x="199" y="88"/>
                          </a:lnTo>
                          <a:lnTo>
                            <a:pt x="215" y="91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4977360" y="1353960"/>
                      <a:ext cx="658440" cy="19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5" h="123">
                          <a:moveTo>
                            <a:pt x="0" y="56"/>
                          </a:moveTo>
                          <a:lnTo>
                            <a:pt x="29" y="48"/>
                          </a:lnTo>
                          <a:lnTo>
                            <a:pt x="69" y="50"/>
                          </a:lnTo>
                          <a:lnTo>
                            <a:pt x="97" y="45"/>
                          </a:lnTo>
                          <a:lnTo>
                            <a:pt x="87" y="72"/>
                          </a:lnTo>
                          <a:lnTo>
                            <a:pt x="100" y="93"/>
                          </a:lnTo>
                          <a:lnTo>
                            <a:pt x="127" y="71"/>
                          </a:lnTo>
                          <a:lnTo>
                            <a:pt x="153" y="45"/>
                          </a:lnTo>
                          <a:lnTo>
                            <a:pt x="183" y="27"/>
                          </a:lnTo>
                          <a:lnTo>
                            <a:pt x="222" y="5"/>
                          </a:lnTo>
                          <a:lnTo>
                            <a:pt x="234" y="0"/>
                          </a:lnTo>
                          <a:lnTo>
                            <a:pt x="324" y="24"/>
                          </a:lnTo>
                          <a:lnTo>
                            <a:pt x="355" y="63"/>
                          </a:lnTo>
                          <a:lnTo>
                            <a:pt x="364" y="74"/>
                          </a:lnTo>
                          <a:lnTo>
                            <a:pt x="363" y="120"/>
                          </a:lnTo>
                          <a:lnTo>
                            <a:pt x="382" y="123"/>
                          </a:lnTo>
                          <a:lnTo>
                            <a:pt x="408" y="92"/>
                          </a:lnTo>
                          <a:lnTo>
                            <a:pt x="415" y="68"/>
                          </a:lnTo>
                          <a:lnTo>
                            <a:pt x="414" y="41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5015520" y="1238040"/>
                      <a:ext cx="5774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151">
                          <a:moveTo>
                            <a:pt x="127" y="102"/>
                          </a:moveTo>
                          <a:lnTo>
                            <a:pt x="97" y="90"/>
                          </a:lnTo>
                          <a:lnTo>
                            <a:pt x="49" y="90"/>
                          </a:lnTo>
                          <a:lnTo>
                            <a:pt x="0" y="97"/>
                          </a:lnTo>
                          <a:lnTo>
                            <a:pt x="76" y="69"/>
                          </a:lnTo>
                          <a:lnTo>
                            <a:pt x="138" y="67"/>
                          </a:lnTo>
                          <a:lnTo>
                            <a:pt x="115" y="52"/>
                          </a:lnTo>
                          <a:lnTo>
                            <a:pt x="69" y="39"/>
                          </a:lnTo>
                          <a:lnTo>
                            <a:pt x="129" y="36"/>
                          </a:lnTo>
                          <a:lnTo>
                            <a:pt x="151" y="48"/>
                          </a:lnTo>
                          <a:lnTo>
                            <a:pt x="180" y="61"/>
                          </a:lnTo>
                          <a:lnTo>
                            <a:pt x="199" y="43"/>
                          </a:lnTo>
                          <a:lnTo>
                            <a:pt x="163" y="6"/>
                          </a:lnTo>
                          <a:lnTo>
                            <a:pt x="189" y="0"/>
                          </a:lnTo>
                          <a:lnTo>
                            <a:pt x="210" y="0"/>
                          </a:lnTo>
                          <a:lnTo>
                            <a:pt x="228" y="49"/>
                          </a:lnTo>
                          <a:lnTo>
                            <a:pt x="246" y="31"/>
                          </a:lnTo>
                          <a:lnTo>
                            <a:pt x="252" y="13"/>
                          </a:lnTo>
                          <a:lnTo>
                            <a:pt x="270" y="33"/>
                          </a:lnTo>
                          <a:lnTo>
                            <a:pt x="283" y="54"/>
                          </a:lnTo>
                          <a:lnTo>
                            <a:pt x="289" y="64"/>
                          </a:lnTo>
                          <a:lnTo>
                            <a:pt x="295" y="76"/>
                          </a:lnTo>
                          <a:lnTo>
                            <a:pt x="309" y="81"/>
                          </a:lnTo>
                          <a:lnTo>
                            <a:pt x="315" y="43"/>
                          </a:lnTo>
                          <a:lnTo>
                            <a:pt x="337" y="51"/>
                          </a:lnTo>
                          <a:lnTo>
                            <a:pt x="333" y="82"/>
                          </a:lnTo>
                          <a:lnTo>
                            <a:pt x="330" y="96"/>
                          </a:lnTo>
                          <a:lnTo>
                            <a:pt x="346" y="114"/>
                          </a:lnTo>
                          <a:lnTo>
                            <a:pt x="364" y="151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572440" y="1463400"/>
                      <a:ext cx="161640" cy="36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230">
                          <a:moveTo>
                            <a:pt x="54" y="0"/>
                          </a:moveTo>
                          <a:lnTo>
                            <a:pt x="79" y="54"/>
                          </a:lnTo>
                          <a:lnTo>
                            <a:pt x="91" y="83"/>
                          </a:lnTo>
                          <a:lnTo>
                            <a:pt x="100" y="111"/>
                          </a:lnTo>
                          <a:lnTo>
                            <a:pt x="102" y="132"/>
                          </a:lnTo>
                          <a:lnTo>
                            <a:pt x="96" y="158"/>
                          </a:lnTo>
                          <a:lnTo>
                            <a:pt x="88" y="170"/>
                          </a:lnTo>
                          <a:lnTo>
                            <a:pt x="79" y="134"/>
                          </a:lnTo>
                          <a:lnTo>
                            <a:pt x="69" y="104"/>
                          </a:lnTo>
                          <a:lnTo>
                            <a:pt x="49" y="68"/>
                          </a:lnTo>
                          <a:lnTo>
                            <a:pt x="31" y="41"/>
                          </a:lnTo>
                          <a:lnTo>
                            <a:pt x="19" y="101"/>
                          </a:lnTo>
                          <a:lnTo>
                            <a:pt x="45" y="135"/>
                          </a:lnTo>
                          <a:lnTo>
                            <a:pt x="58" y="153"/>
                          </a:lnTo>
                          <a:lnTo>
                            <a:pt x="66" y="230"/>
                          </a:lnTo>
                          <a:lnTo>
                            <a:pt x="22" y="212"/>
                          </a:lnTo>
                          <a:lnTo>
                            <a:pt x="13" y="182"/>
                          </a:lnTo>
                          <a:lnTo>
                            <a:pt x="0" y="146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26" name=""/>
                <p:cNvSpPr/>
                <p:nvPr/>
              </p:nvSpPr>
              <p:spPr>
                <a:xfrm>
                  <a:off x="5014080" y="1855440"/>
                  <a:ext cx="37800" cy="41400"/>
                </a:xfrm>
                <a:prstGeom prst="ellipse">
                  <a:avLst/>
                </a:prstGeom>
                <a:solidFill>
                  <a:srgbClr val="ff5fbf"/>
                </a:solidFill>
                <a:ln w="12600">
                  <a:solidFill>
                    <a:srgbClr val="ff00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435560" y="2018880"/>
                <a:ext cx="1499760" cy="1846440"/>
                <a:chOff x="4435560" y="2018880"/>
                <a:chExt cx="1499760" cy="18464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141520" y="2018880"/>
                  <a:ext cx="136080" cy="576360"/>
                </a:xfrm>
                <a:custGeom>
                  <a:avLst/>
                  <a:gdLst/>
                  <a:ahLst/>
                  <a:rect l="l" t="t" r="r" b="b"/>
                  <a:pathLst>
                    <a:path w="86" h="363">
                      <a:moveTo>
                        <a:pt x="86" y="5"/>
                      </a:moveTo>
                      <a:lnTo>
                        <a:pt x="17" y="351"/>
                      </a:lnTo>
                      <a:lnTo>
                        <a:pt x="0" y="363"/>
                      </a:lnTo>
                      <a:lnTo>
                        <a:pt x="73" y="3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6" y="5"/>
                      </a:lnTo>
                      <a:close/>
                    </a:path>
                  </a:pathLst>
                </a:cu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4435560" y="2234880"/>
                  <a:ext cx="1499760" cy="1630440"/>
                  <a:chOff x="4435560" y="2234880"/>
                  <a:chExt cx="1499760" cy="163044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4435560" y="2234880"/>
                    <a:ext cx="1499760" cy="163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45" h="1027">
                        <a:moveTo>
                          <a:pt x="343" y="5"/>
                        </a:moveTo>
                        <a:lnTo>
                          <a:pt x="327" y="10"/>
                        </a:lnTo>
                        <a:lnTo>
                          <a:pt x="303" y="16"/>
                        </a:lnTo>
                        <a:lnTo>
                          <a:pt x="281" y="21"/>
                        </a:lnTo>
                        <a:lnTo>
                          <a:pt x="255" y="27"/>
                        </a:lnTo>
                        <a:lnTo>
                          <a:pt x="231" y="32"/>
                        </a:lnTo>
                        <a:lnTo>
                          <a:pt x="210" y="38"/>
                        </a:lnTo>
                        <a:lnTo>
                          <a:pt x="195" y="43"/>
                        </a:lnTo>
                        <a:lnTo>
                          <a:pt x="181" y="50"/>
                        </a:lnTo>
                        <a:lnTo>
                          <a:pt x="165" y="59"/>
                        </a:lnTo>
                        <a:lnTo>
                          <a:pt x="152" y="69"/>
                        </a:lnTo>
                        <a:lnTo>
                          <a:pt x="140" y="79"/>
                        </a:lnTo>
                        <a:lnTo>
                          <a:pt x="128" y="90"/>
                        </a:lnTo>
                        <a:lnTo>
                          <a:pt x="115" y="104"/>
                        </a:lnTo>
                        <a:lnTo>
                          <a:pt x="102" y="122"/>
                        </a:lnTo>
                        <a:lnTo>
                          <a:pt x="80" y="156"/>
                        </a:lnTo>
                        <a:lnTo>
                          <a:pt x="44" y="218"/>
                        </a:lnTo>
                        <a:lnTo>
                          <a:pt x="0" y="294"/>
                        </a:lnTo>
                        <a:lnTo>
                          <a:pt x="5" y="305"/>
                        </a:lnTo>
                        <a:lnTo>
                          <a:pt x="22" y="317"/>
                        </a:lnTo>
                        <a:lnTo>
                          <a:pt x="224" y="393"/>
                        </a:lnTo>
                        <a:lnTo>
                          <a:pt x="231" y="416"/>
                        </a:lnTo>
                        <a:lnTo>
                          <a:pt x="233" y="508"/>
                        </a:lnTo>
                        <a:lnTo>
                          <a:pt x="224" y="633"/>
                        </a:lnTo>
                        <a:lnTo>
                          <a:pt x="215" y="729"/>
                        </a:lnTo>
                        <a:lnTo>
                          <a:pt x="205" y="791"/>
                        </a:lnTo>
                        <a:lnTo>
                          <a:pt x="184" y="875"/>
                        </a:lnTo>
                        <a:lnTo>
                          <a:pt x="151" y="944"/>
                        </a:lnTo>
                        <a:lnTo>
                          <a:pt x="107" y="1027"/>
                        </a:lnTo>
                        <a:lnTo>
                          <a:pt x="890" y="1027"/>
                        </a:lnTo>
                        <a:lnTo>
                          <a:pt x="807" y="818"/>
                        </a:lnTo>
                        <a:lnTo>
                          <a:pt x="771" y="639"/>
                        </a:lnTo>
                        <a:lnTo>
                          <a:pt x="789" y="623"/>
                        </a:lnTo>
                        <a:lnTo>
                          <a:pt x="810" y="600"/>
                        </a:lnTo>
                        <a:lnTo>
                          <a:pt x="823" y="572"/>
                        </a:lnTo>
                        <a:lnTo>
                          <a:pt x="831" y="538"/>
                        </a:lnTo>
                        <a:lnTo>
                          <a:pt x="832" y="507"/>
                        </a:lnTo>
                        <a:lnTo>
                          <a:pt x="833" y="477"/>
                        </a:lnTo>
                        <a:lnTo>
                          <a:pt x="834" y="454"/>
                        </a:lnTo>
                        <a:lnTo>
                          <a:pt x="837" y="423"/>
                        </a:lnTo>
                        <a:lnTo>
                          <a:pt x="945" y="333"/>
                        </a:lnTo>
                        <a:lnTo>
                          <a:pt x="876" y="135"/>
                        </a:lnTo>
                        <a:lnTo>
                          <a:pt x="865" y="106"/>
                        </a:lnTo>
                        <a:lnTo>
                          <a:pt x="849" y="85"/>
                        </a:lnTo>
                        <a:lnTo>
                          <a:pt x="829" y="68"/>
                        </a:lnTo>
                        <a:lnTo>
                          <a:pt x="803" y="56"/>
                        </a:lnTo>
                        <a:lnTo>
                          <a:pt x="685" y="20"/>
                        </a:lnTo>
                        <a:lnTo>
                          <a:pt x="665" y="13"/>
                        </a:lnTo>
                        <a:lnTo>
                          <a:pt x="651" y="8"/>
                        </a:lnTo>
                        <a:lnTo>
                          <a:pt x="639" y="5"/>
                        </a:lnTo>
                        <a:lnTo>
                          <a:pt x="627" y="2"/>
                        </a:lnTo>
                        <a:lnTo>
                          <a:pt x="615" y="0"/>
                        </a:lnTo>
                        <a:lnTo>
                          <a:pt x="615" y="17"/>
                        </a:lnTo>
                        <a:lnTo>
                          <a:pt x="622" y="28"/>
                        </a:lnTo>
                        <a:lnTo>
                          <a:pt x="629" y="41"/>
                        </a:lnTo>
                        <a:lnTo>
                          <a:pt x="639" y="56"/>
                        </a:lnTo>
                        <a:lnTo>
                          <a:pt x="648" y="70"/>
                        </a:lnTo>
                        <a:lnTo>
                          <a:pt x="657" y="88"/>
                        </a:lnTo>
                        <a:lnTo>
                          <a:pt x="662" y="102"/>
                        </a:lnTo>
                        <a:lnTo>
                          <a:pt x="666" y="114"/>
                        </a:lnTo>
                        <a:lnTo>
                          <a:pt x="668" y="130"/>
                        </a:lnTo>
                        <a:lnTo>
                          <a:pt x="668" y="148"/>
                        </a:lnTo>
                        <a:lnTo>
                          <a:pt x="664" y="164"/>
                        </a:lnTo>
                        <a:lnTo>
                          <a:pt x="658" y="181"/>
                        </a:lnTo>
                        <a:lnTo>
                          <a:pt x="649" y="195"/>
                        </a:lnTo>
                        <a:lnTo>
                          <a:pt x="636" y="206"/>
                        </a:lnTo>
                        <a:lnTo>
                          <a:pt x="618" y="218"/>
                        </a:lnTo>
                        <a:lnTo>
                          <a:pt x="600" y="226"/>
                        </a:lnTo>
                        <a:lnTo>
                          <a:pt x="581" y="234"/>
                        </a:lnTo>
                        <a:lnTo>
                          <a:pt x="561" y="239"/>
                        </a:lnTo>
                        <a:lnTo>
                          <a:pt x="542" y="242"/>
                        </a:lnTo>
                        <a:lnTo>
                          <a:pt x="517" y="239"/>
                        </a:lnTo>
                        <a:lnTo>
                          <a:pt x="497" y="233"/>
                        </a:lnTo>
                        <a:lnTo>
                          <a:pt x="476" y="226"/>
                        </a:lnTo>
                        <a:lnTo>
                          <a:pt x="453" y="214"/>
                        </a:lnTo>
                        <a:lnTo>
                          <a:pt x="426" y="199"/>
                        </a:lnTo>
                        <a:lnTo>
                          <a:pt x="411" y="189"/>
                        </a:lnTo>
                        <a:lnTo>
                          <a:pt x="393" y="169"/>
                        </a:lnTo>
                        <a:lnTo>
                          <a:pt x="386" y="150"/>
                        </a:lnTo>
                        <a:lnTo>
                          <a:pt x="376" y="130"/>
                        </a:lnTo>
                        <a:lnTo>
                          <a:pt x="368" y="109"/>
                        </a:lnTo>
                        <a:lnTo>
                          <a:pt x="361" y="85"/>
                        </a:lnTo>
                        <a:lnTo>
                          <a:pt x="355" y="63"/>
                        </a:lnTo>
                        <a:lnTo>
                          <a:pt x="346" y="35"/>
                        </a:lnTo>
                        <a:lnTo>
                          <a:pt x="342" y="15"/>
                        </a:lnTo>
                        <a:lnTo>
                          <a:pt x="343" y="5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4485960" y="2500200"/>
                    <a:ext cx="810720" cy="1195200"/>
                    <a:chOff x="4485960" y="2500200"/>
                    <a:chExt cx="810720" cy="119520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4485960" y="2500200"/>
                      <a:ext cx="810720" cy="119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1" h="753">
                          <a:moveTo>
                            <a:pt x="18" y="129"/>
                          </a:moveTo>
                          <a:lnTo>
                            <a:pt x="5" y="176"/>
                          </a:lnTo>
                          <a:lnTo>
                            <a:pt x="3" y="210"/>
                          </a:lnTo>
                          <a:lnTo>
                            <a:pt x="0" y="276"/>
                          </a:lnTo>
                          <a:lnTo>
                            <a:pt x="9" y="357"/>
                          </a:lnTo>
                          <a:lnTo>
                            <a:pt x="9" y="458"/>
                          </a:lnTo>
                          <a:lnTo>
                            <a:pt x="4" y="509"/>
                          </a:lnTo>
                          <a:lnTo>
                            <a:pt x="1" y="554"/>
                          </a:lnTo>
                          <a:lnTo>
                            <a:pt x="3" y="609"/>
                          </a:lnTo>
                          <a:lnTo>
                            <a:pt x="12" y="660"/>
                          </a:lnTo>
                          <a:lnTo>
                            <a:pt x="24" y="711"/>
                          </a:lnTo>
                          <a:lnTo>
                            <a:pt x="49" y="753"/>
                          </a:lnTo>
                          <a:lnTo>
                            <a:pt x="99" y="748"/>
                          </a:lnTo>
                          <a:lnTo>
                            <a:pt x="144" y="742"/>
                          </a:lnTo>
                          <a:lnTo>
                            <a:pt x="204" y="723"/>
                          </a:lnTo>
                          <a:lnTo>
                            <a:pt x="254" y="668"/>
                          </a:lnTo>
                          <a:lnTo>
                            <a:pt x="288" y="621"/>
                          </a:lnTo>
                          <a:lnTo>
                            <a:pt x="434" y="396"/>
                          </a:lnTo>
                          <a:lnTo>
                            <a:pt x="465" y="354"/>
                          </a:lnTo>
                          <a:lnTo>
                            <a:pt x="471" y="341"/>
                          </a:lnTo>
                          <a:lnTo>
                            <a:pt x="476" y="326"/>
                          </a:lnTo>
                          <a:lnTo>
                            <a:pt x="482" y="312"/>
                          </a:lnTo>
                          <a:lnTo>
                            <a:pt x="486" y="296"/>
                          </a:lnTo>
                          <a:lnTo>
                            <a:pt x="499" y="254"/>
                          </a:lnTo>
                          <a:lnTo>
                            <a:pt x="501" y="245"/>
                          </a:lnTo>
                          <a:lnTo>
                            <a:pt x="499" y="234"/>
                          </a:lnTo>
                          <a:lnTo>
                            <a:pt x="494" y="224"/>
                          </a:lnTo>
                          <a:lnTo>
                            <a:pt x="488" y="214"/>
                          </a:lnTo>
                          <a:lnTo>
                            <a:pt x="481" y="203"/>
                          </a:lnTo>
                          <a:lnTo>
                            <a:pt x="471" y="192"/>
                          </a:lnTo>
                          <a:lnTo>
                            <a:pt x="468" y="182"/>
                          </a:lnTo>
                          <a:lnTo>
                            <a:pt x="461" y="174"/>
                          </a:lnTo>
                          <a:lnTo>
                            <a:pt x="447" y="163"/>
                          </a:lnTo>
                          <a:lnTo>
                            <a:pt x="462" y="156"/>
                          </a:lnTo>
                          <a:lnTo>
                            <a:pt x="475" y="153"/>
                          </a:lnTo>
                          <a:lnTo>
                            <a:pt x="482" y="162"/>
                          </a:lnTo>
                          <a:lnTo>
                            <a:pt x="490" y="175"/>
                          </a:lnTo>
                          <a:lnTo>
                            <a:pt x="493" y="185"/>
                          </a:lnTo>
                          <a:lnTo>
                            <a:pt x="496" y="192"/>
                          </a:lnTo>
                          <a:lnTo>
                            <a:pt x="501" y="198"/>
                          </a:lnTo>
                          <a:lnTo>
                            <a:pt x="508" y="201"/>
                          </a:lnTo>
                          <a:lnTo>
                            <a:pt x="511" y="194"/>
                          </a:lnTo>
                          <a:lnTo>
                            <a:pt x="510" y="184"/>
                          </a:lnTo>
                          <a:lnTo>
                            <a:pt x="509" y="170"/>
                          </a:lnTo>
                          <a:lnTo>
                            <a:pt x="506" y="147"/>
                          </a:lnTo>
                          <a:lnTo>
                            <a:pt x="503" y="124"/>
                          </a:lnTo>
                          <a:lnTo>
                            <a:pt x="498" y="119"/>
                          </a:lnTo>
                          <a:lnTo>
                            <a:pt x="497" y="101"/>
                          </a:lnTo>
                          <a:lnTo>
                            <a:pt x="495" y="95"/>
                          </a:lnTo>
                          <a:lnTo>
                            <a:pt x="483" y="90"/>
                          </a:lnTo>
                          <a:lnTo>
                            <a:pt x="475" y="66"/>
                          </a:lnTo>
                          <a:lnTo>
                            <a:pt x="469" y="49"/>
                          </a:lnTo>
                          <a:lnTo>
                            <a:pt x="463" y="34"/>
                          </a:lnTo>
                          <a:lnTo>
                            <a:pt x="461" y="21"/>
                          </a:lnTo>
                          <a:lnTo>
                            <a:pt x="460" y="12"/>
                          </a:lnTo>
                          <a:lnTo>
                            <a:pt x="455" y="3"/>
                          </a:lnTo>
                          <a:lnTo>
                            <a:pt x="447" y="0"/>
                          </a:lnTo>
                          <a:lnTo>
                            <a:pt x="439" y="0"/>
                          </a:lnTo>
                          <a:lnTo>
                            <a:pt x="432" y="31"/>
                          </a:lnTo>
                          <a:lnTo>
                            <a:pt x="373" y="97"/>
                          </a:lnTo>
                          <a:lnTo>
                            <a:pt x="361" y="115"/>
                          </a:lnTo>
                          <a:lnTo>
                            <a:pt x="355" y="124"/>
                          </a:lnTo>
                          <a:lnTo>
                            <a:pt x="352" y="133"/>
                          </a:lnTo>
                          <a:lnTo>
                            <a:pt x="351" y="141"/>
                          </a:lnTo>
                          <a:lnTo>
                            <a:pt x="361" y="171"/>
                          </a:lnTo>
                          <a:lnTo>
                            <a:pt x="374" y="222"/>
                          </a:lnTo>
                          <a:lnTo>
                            <a:pt x="387" y="252"/>
                          </a:lnTo>
                          <a:lnTo>
                            <a:pt x="397" y="297"/>
                          </a:lnTo>
                          <a:lnTo>
                            <a:pt x="309" y="366"/>
                          </a:lnTo>
                          <a:lnTo>
                            <a:pt x="198" y="460"/>
                          </a:lnTo>
                          <a:lnTo>
                            <a:pt x="202" y="348"/>
                          </a:lnTo>
                          <a:lnTo>
                            <a:pt x="198" y="228"/>
                          </a:lnTo>
                          <a:lnTo>
                            <a:pt x="18" y="129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5136480" y="2647800"/>
                      <a:ext cx="11376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14">
                          <a:moveTo>
                            <a:pt x="0" y="14"/>
                          </a:moveTo>
                          <a:lnTo>
                            <a:pt x="47" y="0"/>
                          </a:lnTo>
                          <a:lnTo>
                            <a:pt x="72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120640" y="2696760"/>
                      <a:ext cx="150120" cy="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20">
                          <a:moveTo>
                            <a:pt x="0" y="20"/>
                          </a:moveTo>
                          <a:lnTo>
                            <a:pt x="55" y="4"/>
                          </a:lnTo>
                          <a:lnTo>
                            <a:pt x="95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134680" y="2623680"/>
                      <a:ext cx="6480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8">
                          <a:moveTo>
                            <a:pt x="0" y="28"/>
                          </a:moveTo>
                          <a:lnTo>
                            <a:pt x="34" y="0"/>
                          </a:lnTo>
                          <a:lnTo>
                            <a:pt x="41" y="15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5183640" y="2545920"/>
                      <a:ext cx="31320" cy="14400"/>
                    </a:xfrm>
                    <a:prstGeom prst="line">
                      <a:avLst/>
                    </a:prstGeom>
                    <a:ln w="12600">
                      <a:solidFill>
                        <a:srgbClr val="b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7" name=""/>
                  <p:cNvSpPr/>
                  <p:nvPr/>
                </p:nvSpPr>
                <p:spPr>
                  <a:xfrm>
                    <a:off x="4435560" y="2638080"/>
                    <a:ext cx="38196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149">
                        <a:moveTo>
                          <a:pt x="110" y="55"/>
                        </a:moveTo>
                        <a:lnTo>
                          <a:pt x="20" y="0"/>
                        </a:lnTo>
                        <a:lnTo>
                          <a:pt x="0" y="40"/>
                        </a:lnTo>
                        <a:lnTo>
                          <a:pt x="5" y="51"/>
                        </a:lnTo>
                        <a:lnTo>
                          <a:pt x="22" y="63"/>
                        </a:lnTo>
                        <a:lnTo>
                          <a:pt x="241" y="149"/>
                        </a:lnTo>
                        <a:lnTo>
                          <a:pt x="241" y="129"/>
                        </a:lnTo>
                        <a:lnTo>
                          <a:pt x="110" y="55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5065200" y="2377800"/>
                  <a:ext cx="153360" cy="276120"/>
                  <a:chOff x="5065200" y="2377800"/>
                  <a:chExt cx="153360" cy="2761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5065200" y="2382480"/>
                    <a:ext cx="14580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71">
                        <a:moveTo>
                          <a:pt x="88" y="0"/>
                        </a:moveTo>
                        <a:lnTo>
                          <a:pt x="58" y="11"/>
                        </a:lnTo>
                        <a:lnTo>
                          <a:pt x="32" y="25"/>
                        </a:lnTo>
                        <a:lnTo>
                          <a:pt x="14" y="54"/>
                        </a:lnTo>
                        <a:lnTo>
                          <a:pt x="0" y="75"/>
                        </a:lnTo>
                        <a:lnTo>
                          <a:pt x="3" y="98"/>
                        </a:lnTo>
                        <a:lnTo>
                          <a:pt x="5" y="143"/>
                        </a:lnTo>
                        <a:lnTo>
                          <a:pt x="11" y="171"/>
                        </a:lnTo>
                        <a:lnTo>
                          <a:pt x="41" y="139"/>
                        </a:lnTo>
                        <a:lnTo>
                          <a:pt x="42" y="111"/>
                        </a:lnTo>
                        <a:lnTo>
                          <a:pt x="40" y="98"/>
                        </a:lnTo>
                        <a:lnTo>
                          <a:pt x="36" y="89"/>
                        </a:lnTo>
                        <a:lnTo>
                          <a:pt x="42" y="85"/>
                        </a:lnTo>
                        <a:lnTo>
                          <a:pt x="47" y="78"/>
                        </a:lnTo>
                        <a:lnTo>
                          <a:pt x="54" y="67"/>
                        </a:lnTo>
                        <a:lnTo>
                          <a:pt x="57" y="55"/>
                        </a:lnTo>
                        <a:lnTo>
                          <a:pt x="60" y="44"/>
                        </a:lnTo>
                        <a:lnTo>
                          <a:pt x="70" y="42"/>
                        </a:lnTo>
                        <a:lnTo>
                          <a:pt x="79" y="37"/>
                        </a:lnTo>
                        <a:lnTo>
                          <a:pt x="86" y="31"/>
                        </a:lnTo>
                        <a:lnTo>
                          <a:pt x="91" y="22"/>
                        </a:lnTo>
                        <a:lnTo>
                          <a:pt x="92" y="10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5157000" y="2377800"/>
                    <a:ext cx="61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8">
                        <a:moveTo>
                          <a:pt x="0" y="14"/>
                        </a:moveTo>
                        <a:lnTo>
                          <a:pt x="38" y="0"/>
                        </a:lnTo>
                        <a:lnTo>
                          <a:pt x="39" y="5"/>
                        </a:lnTo>
                        <a:lnTo>
                          <a:pt x="35" y="11"/>
                        </a:lnTo>
                        <a:lnTo>
                          <a:pt x="15" y="17"/>
                        </a:lnTo>
                        <a:lnTo>
                          <a:pt x="10" y="18"/>
                        </a:lnTo>
                        <a:lnTo>
                          <a:pt x="4" y="17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12600">
                    <a:solidFill>
                      <a:srgbClr val="ff00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1" name=""/>
            <p:cNvSpPr/>
            <p:nvPr/>
          </p:nvSpPr>
          <p:spPr>
            <a:xfrm>
              <a:off x="5197320" y="2234880"/>
              <a:ext cx="982440" cy="1176480"/>
            </a:xfrm>
            <a:custGeom>
              <a:avLst/>
              <a:gdLst/>
              <a:ahLst/>
              <a:rect l="l" t="t" r="r" b="b"/>
              <a:pathLst>
                <a:path w="619" h="741">
                  <a:moveTo>
                    <a:pt x="240" y="0"/>
                  </a:moveTo>
                  <a:lnTo>
                    <a:pt x="600" y="72"/>
                  </a:lnTo>
                  <a:lnTo>
                    <a:pt x="573" y="81"/>
                  </a:lnTo>
                  <a:lnTo>
                    <a:pt x="619" y="102"/>
                  </a:lnTo>
                  <a:lnTo>
                    <a:pt x="414" y="741"/>
                  </a:lnTo>
                  <a:lnTo>
                    <a:pt x="153" y="711"/>
                  </a:lnTo>
                  <a:lnTo>
                    <a:pt x="0" y="627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48280" y="2968200"/>
              <a:ext cx="1023480" cy="573120"/>
            </a:xfrm>
            <a:custGeom>
              <a:avLst/>
              <a:gdLst/>
              <a:ahLst/>
              <a:rect l="l" t="t" r="r" b="b"/>
              <a:pathLst>
                <a:path w="645" h="361">
                  <a:moveTo>
                    <a:pt x="586" y="0"/>
                  </a:moveTo>
                  <a:lnTo>
                    <a:pt x="594" y="25"/>
                  </a:lnTo>
                  <a:lnTo>
                    <a:pt x="608" y="96"/>
                  </a:lnTo>
                  <a:lnTo>
                    <a:pt x="615" y="145"/>
                  </a:lnTo>
                  <a:lnTo>
                    <a:pt x="626" y="217"/>
                  </a:lnTo>
                  <a:lnTo>
                    <a:pt x="635" y="247"/>
                  </a:lnTo>
                  <a:lnTo>
                    <a:pt x="642" y="277"/>
                  </a:lnTo>
                  <a:lnTo>
                    <a:pt x="645" y="303"/>
                  </a:lnTo>
                  <a:lnTo>
                    <a:pt x="642" y="318"/>
                  </a:lnTo>
                  <a:lnTo>
                    <a:pt x="633" y="336"/>
                  </a:lnTo>
                  <a:lnTo>
                    <a:pt x="614" y="348"/>
                  </a:lnTo>
                  <a:lnTo>
                    <a:pt x="537" y="357"/>
                  </a:lnTo>
                  <a:lnTo>
                    <a:pt x="443" y="357"/>
                  </a:lnTo>
                  <a:lnTo>
                    <a:pt x="342" y="346"/>
                  </a:lnTo>
                  <a:lnTo>
                    <a:pt x="281" y="358"/>
                  </a:lnTo>
                  <a:lnTo>
                    <a:pt x="242" y="361"/>
                  </a:lnTo>
                  <a:lnTo>
                    <a:pt x="203" y="357"/>
                  </a:lnTo>
                  <a:lnTo>
                    <a:pt x="165" y="351"/>
                  </a:lnTo>
                  <a:lnTo>
                    <a:pt x="135" y="349"/>
                  </a:lnTo>
                  <a:lnTo>
                    <a:pt x="65" y="342"/>
                  </a:lnTo>
                  <a:lnTo>
                    <a:pt x="40" y="322"/>
                  </a:lnTo>
                  <a:lnTo>
                    <a:pt x="38" y="300"/>
                  </a:lnTo>
                  <a:lnTo>
                    <a:pt x="23" y="280"/>
                  </a:lnTo>
                  <a:lnTo>
                    <a:pt x="18" y="264"/>
                  </a:lnTo>
                  <a:lnTo>
                    <a:pt x="18" y="238"/>
                  </a:lnTo>
                  <a:lnTo>
                    <a:pt x="5" y="217"/>
                  </a:lnTo>
                  <a:lnTo>
                    <a:pt x="0" y="198"/>
                  </a:lnTo>
                  <a:lnTo>
                    <a:pt x="2" y="189"/>
                  </a:lnTo>
                  <a:lnTo>
                    <a:pt x="8" y="181"/>
                  </a:lnTo>
                  <a:lnTo>
                    <a:pt x="17" y="180"/>
                  </a:lnTo>
                  <a:lnTo>
                    <a:pt x="24" y="184"/>
                  </a:lnTo>
                  <a:lnTo>
                    <a:pt x="33" y="195"/>
                  </a:lnTo>
                  <a:lnTo>
                    <a:pt x="45" y="204"/>
                  </a:lnTo>
                  <a:lnTo>
                    <a:pt x="71" y="213"/>
                  </a:lnTo>
                  <a:lnTo>
                    <a:pt x="56" y="201"/>
                  </a:lnTo>
                  <a:lnTo>
                    <a:pt x="51" y="187"/>
                  </a:lnTo>
                  <a:lnTo>
                    <a:pt x="60" y="178"/>
                  </a:lnTo>
                  <a:lnTo>
                    <a:pt x="80" y="171"/>
                  </a:lnTo>
                  <a:lnTo>
                    <a:pt x="104" y="171"/>
                  </a:lnTo>
                  <a:lnTo>
                    <a:pt x="138" y="165"/>
                  </a:lnTo>
                  <a:lnTo>
                    <a:pt x="177" y="165"/>
                  </a:lnTo>
                  <a:lnTo>
                    <a:pt x="189" y="165"/>
                  </a:lnTo>
                  <a:lnTo>
                    <a:pt x="170" y="157"/>
                  </a:lnTo>
                  <a:lnTo>
                    <a:pt x="141" y="159"/>
                  </a:lnTo>
                  <a:lnTo>
                    <a:pt x="128" y="159"/>
                  </a:lnTo>
                  <a:lnTo>
                    <a:pt x="110" y="159"/>
                  </a:lnTo>
                  <a:lnTo>
                    <a:pt x="92" y="153"/>
                  </a:lnTo>
                  <a:lnTo>
                    <a:pt x="86" y="145"/>
                  </a:lnTo>
                  <a:lnTo>
                    <a:pt x="83" y="133"/>
                  </a:lnTo>
                  <a:lnTo>
                    <a:pt x="117" y="127"/>
                  </a:lnTo>
                  <a:lnTo>
                    <a:pt x="164" y="123"/>
                  </a:lnTo>
                  <a:lnTo>
                    <a:pt x="198" y="120"/>
                  </a:lnTo>
                  <a:lnTo>
                    <a:pt x="225" y="127"/>
                  </a:lnTo>
                  <a:lnTo>
                    <a:pt x="246" y="136"/>
                  </a:lnTo>
                  <a:lnTo>
                    <a:pt x="263" y="160"/>
                  </a:lnTo>
                  <a:lnTo>
                    <a:pt x="275" y="178"/>
                  </a:lnTo>
                  <a:lnTo>
                    <a:pt x="300" y="194"/>
                  </a:lnTo>
                  <a:lnTo>
                    <a:pt x="330" y="207"/>
                  </a:lnTo>
                  <a:lnTo>
                    <a:pt x="369" y="213"/>
                  </a:lnTo>
                  <a:lnTo>
                    <a:pt x="411" y="211"/>
                  </a:lnTo>
                  <a:lnTo>
                    <a:pt x="494" y="189"/>
                  </a:lnTo>
                  <a:lnTo>
                    <a:pt x="507" y="189"/>
                  </a:lnTo>
                  <a:lnTo>
                    <a:pt x="539" y="139"/>
                  </a:lnTo>
                  <a:lnTo>
                    <a:pt x="550" y="84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9f7f"/>
            </a:solidFill>
            <a:ln w="12600">
              <a:solidFill>
                <a:srgbClr val="b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5080" y="2997000"/>
              <a:ext cx="45720" cy="38160"/>
            </a:xfrm>
            <a:prstGeom prst="rect">
              <a:avLst/>
            </a:prstGeom>
            <a:solidFill>
              <a:srgbClr val="fad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46560" y="2431800"/>
              <a:ext cx="52200" cy="142920"/>
            </a:xfrm>
            <a:custGeom>
              <a:avLst/>
              <a:gdLst/>
              <a:ahLst/>
              <a:rect l="l" t="t" r="r" b="b"/>
              <a:pathLst>
                <a:path w="33" h="90">
                  <a:moveTo>
                    <a:pt x="0" y="90"/>
                  </a:moveTo>
                  <a:lnTo>
                    <a:pt x="16" y="12"/>
                  </a:lnTo>
                  <a:lnTo>
                    <a:pt x="22" y="6"/>
                  </a:lnTo>
                  <a:lnTo>
                    <a:pt x="33" y="0"/>
                  </a:lnTo>
                  <a:lnTo>
                    <a:pt x="19" y="77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56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05560" y="3293640"/>
              <a:ext cx="126360" cy="255600"/>
            </a:xfrm>
            <a:custGeom>
              <a:avLst/>
              <a:gdLst/>
              <a:ahLst/>
              <a:rect l="l" t="t" r="r" b="b"/>
              <a:pathLst>
                <a:path w="80" h="161">
                  <a:moveTo>
                    <a:pt x="24" y="9"/>
                  </a:moveTo>
                  <a:lnTo>
                    <a:pt x="30" y="24"/>
                  </a:lnTo>
                  <a:lnTo>
                    <a:pt x="35" y="43"/>
                  </a:lnTo>
                  <a:lnTo>
                    <a:pt x="37" y="60"/>
                  </a:lnTo>
                  <a:lnTo>
                    <a:pt x="36" y="77"/>
                  </a:lnTo>
                  <a:lnTo>
                    <a:pt x="32" y="101"/>
                  </a:lnTo>
                  <a:lnTo>
                    <a:pt x="24" y="114"/>
                  </a:lnTo>
                  <a:lnTo>
                    <a:pt x="13" y="131"/>
                  </a:lnTo>
                  <a:lnTo>
                    <a:pt x="0" y="144"/>
                  </a:lnTo>
                  <a:lnTo>
                    <a:pt x="8" y="153"/>
                  </a:lnTo>
                  <a:lnTo>
                    <a:pt x="14" y="156"/>
                  </a:lnTo>
                  <a:lnTo>
                    <a:pt x="20" y="156"/>
                  </a:lnTo>
                  <a:lnTo>
                    <a:pt x="26" y="156"/>
                  </a:lnTo>
                  <a:lnTo>
                    <a:pt x="32" y="153"/>
                  </a:lnTo>
                  <a:lnTo>
                    <a:pt x="38" y="152"/>
                  </a:lnTo>
                  <a:lnTo>
                    <a:pt x="47" y="152"/>
                  </a:lnTo>
                  <a:lnTo>
                    <a:pt x="50" y="154"/>
                  </a:lnTo>
                  <a:lnTo>
                    <a:pt x="53" y="158"/>
                  </a:lnTo>
                  <a:lnTo>
                    <a:pt x="61" y="161"/>
                  </a:lnTo>
                  <a:lnTo>
                    <a:pt x="69" y="157"/>
                  </a:lnTo>
                  <a:lnTo>
                    <a:pt x="74" y="144"/>
                  </a:lnTo>
                  <a:lnTo>
                    <a:pt x="78" y="119"/>
                  </a:lnTo>
                  <a:lnTo>
                    <a:pt x="80" y="93"/>
                  </a:lnTo>
                  <a:lnTo>
                    <a:pt x="79" y="64"/>
                  </a:lnTo>
                  <a:lnTo>
                    <a:pt x="76" y="44"/>
                  </a:lnTo>
                  <a:lnTo>
                    <a:pt x="68" y="18"/>
                  </a:lnTo>
                  <a:lnTo>
                    <a:pt x="64" y="9"/>
                  </a:lnTo>
                  <a:lnTo>
                    <a:pt x="59" y="3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7f5f3f"/>
            </a:solidFill>
            <a:ln w="1260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049800" y="2455920"/>
            <a:ext cx="2433960" cy="1868400"/>
          </a:xfrm>
          <a:prstGeom prst="rightArrow">
            <a:avLst>
              <a:gd name="adj1" fmla="val 50000"/>
              <a:gd name="adj2" fmla="val 32567"/>
            </a:avLst>
          </a:prstGeom>
          <a:gradFill rotWithShape="0">
            <a:gsLst>
              <a:gs pos="0">
                <a:srgbClr val="fefeba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einamento 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ns Natu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30200" y="539640"/>
            <a:ext cx="397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21304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221304"/>
                </a:solidFill>
                <a:latin typeface="Times New Roman"/>
              </a:rPr>
              <a:t>. Cristalize a definiçã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8943-EC30-496C-8BC8-0CE7B65FD1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36800" y="282600"/>
            <a:ext cx="6189480" cy="23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42920" y="3635280"/>
            <a:ext cx="2627280" cy="1905120"/>
          </a:xfrm>
          <a:prstGeom prst="rightArrowCallout">
            <a:avLst>
              <a:gd name="adj1" fmla="val 25002"/>
              <a:gd name="adj2" fmla="val 25000"/>
              <a:gd name="adj3" fmla="val 22984"/>
              <a:gd name="adj4" fmla="val 6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NTR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62280" y="3602160"/>
            <a:ext cx="6183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O Homem não é um ser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neutr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eus Criou o Homem para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ervi-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O Homem é um ser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ligi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Todo ensinamento secular traz em 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filosofias anti-cristã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41520" y="1000080"/>
            <a:ext cx="5097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21304"/>
                </a:solidFill>
                <a:latin typeface="Times New Roman"/>
              </a:rPr>
              <a:t>4</a:t>
            </a:r>
            <a:r>
              <a:rPr b="0" lang="pt-BR" sz="3200" spc="-1" strike="noStrike">
                <a:solidFill>
                  <a:srgbClr val="221304"/>
                </a:solidFill>
                <a:latin typeface="Times New Roman"/>
              </a:rPr>
              <a:t>. Apresente cada um desses princípios que diferenciam, detalhad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222-2779-4D20-969C-DB6F27C8CC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217520" y="2081160"/>
            <a:ext cx="4021200" cy="432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21304"/>
                </a:solidFill>
                <a:latin typeface="Times New Roman"/>
              </a:rPr>
              <a:t>A. O Homem não é um ser </a:t>
            </a:r>
            <a:r>
              <a:rPr b="1" lang="pt-BR" sz="4400" spc="-1" strike="noStrike">
                <a:solidFill>
                  <a:srgbClr val="221304"/>
                </a:solidFill>
                <a:latin typeface="Times New Roman"/>
              </a:rPr>
              <a:t>neutro</a:t>
            </a:r>
            <a:r>
              <a:rPr b="0" lang="pt-BR" sz="4400" spc="-1" strike="noStrike">
                <a:solidFill>
                  <a:srgbClr val="221304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55240" y="217332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 Homem é moralmente neu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 Homem é um produto do me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 aluno deve ser deixado à sua “inclinação natur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 Homem é estudado dedutiva e subjetivamente, por observações do seu compo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42120" y="2173320"/>
            <a:ext cx="413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O Homem nasce em pe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O Homem nasce com a inclinação para o 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O aluno deve ser alvo de direcionamento, correção e discipl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Estudamos o Homem através de proposições objetivas, reveladas pelo Criador em Sua Palav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Ro 3:23; 3:10-18; Ec 7: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Romanos, capítulos 1 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35160" y="169380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istema Secular de Edu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04040" y="1711440"/>
            <a:ext cx="40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 Educação Crist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97480" y="2081160"/>
            <a:ext cx="4143240" cy="43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23920" y="212760"/>
            <a:ext cx="650880" cy="47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5AF-4310-4D15-8417-E7142D9A2D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1T15:57:39Z</dcterms:created>
  <dc:creator>Solano Portela</dc:creator>
  <dc:description/>
  <dc:language>en-US</dc:language>
  <cp:lastModifiedBy>Solano</cp:lastModifiedBy>
  <cp:lastPrinted>1999-07-05T13:11:06Z</cp:lastPrinted>
  <dcterms:modified xsi:type="dcterms:W3CDTF">2003-07-25T03:39:18Z</dcterms:modified>
  <cp:revision>38</cp:revision>
  <dc:subject/>
  <dc:title>Slide sem título </dc:title>
</cp:coreProperties>
</file>