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3BB-E6F2-4E1E-AC1A-4E5726C53A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665-041B-4632-891C-FC1827C8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BA1-A234-4FAA-A3EC-AC6CDDD4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951-26DD-4F26-8453-FE2FA26D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CE1-8551-49BD-9001-FA49129A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ABB5-D7FD-40B3-92BB-DAA073B4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B8BE-C8DA-42F0-8FEB-F0E72F7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AAE-58F7-4E47-8980-C2BE4B33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921E-CE17-498A-947B-C8F6725E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9A4-42A0-4567-9F54-51955C79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50EE-E763-4210-A1D5-B024649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459F-783C-47A1-A3E5-3ADCFAB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054-B016-4BB4-95EE-5D89417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1A07-F9FC-4D9D-A471-58C571A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982-82A2-4E30-8832-484D13E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971-9A50-4B75-AFFF-34F28D48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7B04-069A-4E1A-B5EE-12743234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785F-4805-4028-BF0E-7BD2F347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29E-3EB0-4D13-A91D-8D0BD644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532-A4D8-4E0F-A477-696217F9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8D2-2890-4014-9031-B11EB66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F85-632D-4B6C-8ADC-67FAFAC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1A4-B65B-4E79-9210-52BAFF2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505-C6A9-4989-BE24-E203B45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3C7-1F18-4B86-9ABD-7C6B5F1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89E-C024-4A7A-AE0C-47225A169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6611-BE94-45D3-855B-AA31B7E2F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 Bíblia Condena a Ausência de Absolut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Is 5.18 e 20 “Ai dos que se prendem à iniquidade com cordas de engano, e ao pecado com cordas de carroç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Ai dos que chamam ao mal bem e ao bem, ma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que fazem das trevas luz e da luz, trev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Comic Sans MS"/>
              </a:rPr>
              <a:t>do amargo, doce e do doce, amarg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0720" y="380880"/>
            <a:ext cx="76197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Importância da Lei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2349360"/>
            <a:ext cx="78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almo 119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– Em quase todos o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rsícu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João 14.15 e 2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– Como se am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retamen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ateus 22.34-4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– A resposta d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esus aos Farise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Três Aspectos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da Lei de Deu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Lei CIVIL ou JUDICIA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Lei R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ELIGIOSA ou CERIMON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LEI MO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s Três Aspectos da Lei de Deus 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içõ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ada 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ciedade 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o estad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sra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r ex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s cr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tr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pr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s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uniçõ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vil / Judi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present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lev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o Ant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estamen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x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s sacrifí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todo 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imbol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erimoni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ligiosa / Cerimon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present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vontad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us para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 hom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o que d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speito ao s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mpor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seus dev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incip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s Três Aspectos da Lei de Deus 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nalidad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gula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ivil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eocr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 Israe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vil / Judi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mpress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os hom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santidad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us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cent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uas aten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o Mess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meti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ligiosa / Cerimon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ixar b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laro 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homem os s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ver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velando s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arências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uxiliando-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discer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 bem do m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s Três Aspectos da Lei de Deus 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alidad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emporal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ecessári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época à q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foi concedid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mas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a o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eocrá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ão é aplic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ormativ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m no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cie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vil / Judi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Foi cump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m a vi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 Cr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vinda e 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e ap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os nossos dia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ligiosa / Cerimon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É aplicável 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odas as épo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ocasiões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ssim f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present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r Jes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que nun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 aboli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4080" y="2044800"/>
            <a:ext cx="10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44280"/>
          <a:ext cx="9144000" cy="5688000"/>
        </p:xfrm>
        <a:graphic>
          <a:graphicData uri="http://schemas.openxmlformats.org/drawingml/2006/table">
            <a:tbl>
              <a:tblPr/>
              <a:tblGrid>
                <a:gridCol w="1835280"/>
                <a:gridCol w="1657080"/>
                <a:gridCol w="1656000"/>
                <a:gridCol w="1655640"/>
                <a:gridCol w="579600"/>
                <a:gridCol w="1760400"/>
              </a:tblGrid>
              <a:tr h="14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alida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i Civil ou Judi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i Religiosa ou Cerimon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i Mor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Resumi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 10 Mandament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nsidade da Valida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6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ISTÓR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6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DÁ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T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VELAD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LG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RMATI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ENH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44280"/>
            <a:ext cx="18352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6256080"/>
            <a:ext cx="874872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Os Três Aspectos da Lei de Deus -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alid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0464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81000"/>
            <a:ext cx="539640" cy="576360"/>
          </a:xfrm>
          <a:prstGeom prst="downArrow">
            <a:avLst>
              <a:gd name="adj1" fmla="val 50000"/>
              <a:gd name="adj2" fmla="val 2670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21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 Tábuas da Lei, ou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s Dez Mandamento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Êxodo 20:1-1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2871720"/>
            <a:ext cx="3581280" cy="358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49520" y="3370320"/>
            <a:ext cx="251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s Dez Mandamentos – Ex 20.1-13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692360" y="1773360"/>
            <a:ext cx="5866920" cy="4582800"/>
            <a:chOff x="1692360" y="1773360"/>
            <a:chExt cx="5866920" cy="4582800"/>
          </a:xfrm>
        </p:grpSpPr>
        <p:sp>
          <p:nvSpPr>
            <p:cNvPr id="184" name=""/>
            <p:cNvSpPr/>
            <p:nvPr/>
          </p:nvSpPr>
          <p:spPr>
            <a:xfrm rot="16200000">
              <a:off x="847440" y="26179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I a I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. Não terás outros deuses diante de mi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2. Não farás para ti imagem de escultur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3. Não tomarás o nome do Senhor teu Deus em vã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4. Lembra-te do dia de Sábado (de descanso) para o santificar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3821040" y="26179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V a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5. Honrarás ao teu pai e à tua Mã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6. Não Ma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7. Não adulter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8. Não fur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9. Não dirás falso testemunh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0. Não cobiç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s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Dez Mandament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O Context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Demonst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ração de Poder e Santidade vs. Ingratidão e Idolat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Obrigações e Limi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421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10480" y="0"/>
            <a:ext cx="5335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24080"/>
            <a:ext cx="91440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0640" y="0"/>
            <a:ext cx="53316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28600"/>
            <a:ext cx="3657600" cy="289548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28600"/>
            <a:ext cx="3657600" cy="289548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619440"/>
            <a:ext cx="3657600" cy="289584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581280"/>
            <a:ext cx="3657600" cy="2895840"/>
          </a:xfrm>
          <a:prstGeom prst="rect">
            <a:avLst/>
          </a:prstGeom>
          <a:noFill/>
          <a:ln w="95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04920"/>
            <a:ext cx="3504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CPI DA INDÚSTRIA 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GARR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AB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UE VOCÊ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0492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NTIU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SOBRE 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FEITOS DA NICOTIN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733920"/>
            <a:ext cx="3504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É VERDADE QUE VOC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ABE QU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SSO VIC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65760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NICOTINA, 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 MENTIR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4280"/>
            <a:ext cx="8534160" cy="15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s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Dez Mandamentos no N.T.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 o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AMOR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– Mt 22.34-40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34100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pergunta dos Fariseu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resposta de Jes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4360" y="2997360"/>
          <a:ext cx="7848360" cy="1400040"/>
        </p:xfrm>
        <a:graphic>
          <a:graphicData uri="http://schemas.openxmlformats.org/drawingml/2006/table">
            <a:tbl>
              <a:tblPr/>
              <a:tblGrid>
                <a:gridCol w="3095640"/>
                <a:gridCol w="4752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1 a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sas obrigações para com o nosso criador – De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5 a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sas obrigações para com o nossos semelh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84360" y="4724280"/>
          <a:ext cx="7848360" cy="2009880"/>
        </p:xfrm>
        <a:graphic>
          <a:graphicData uri="http://schemas.openxmlformats.org/drawingml/2006/table">
            <a:tbl>
              <a:tblPr/>
              <a:tblGrid>
                <a:gridCol w="3095640"/>
                <a:gridCol w="475272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1 a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. 37 – Amarás o Senhor teu Deus de todo o teu coração, de toda a tua alma, e de todo o teu entendiment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5 a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. 39 – Amarás o teu próximo como a ti mesm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Arial"/>
              </a:rPr>
              <a:t>E A Lei de Deus HOJE?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66320" y="3733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últiplas “verdades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2057400"/>
            <a:ext cx="34290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Qual no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Reaçã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5029200"/>
            <a:ext cx="813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 absolutismo e o exclusivismo da Fé Crist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ara Estudo Complementar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Perg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untas 91 a 98 do Catecismo Maior de Westmins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Obrigado pela atençã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cc66"/>
                </a:solidFill>
                <a:latin typeface="Arial"/>
              </a:rPr>
              <a:t>A Lei de Deus e Sua Aplicação Hoje</a:t>
            </a: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Solano Portela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Agosto de 2003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Igreja Presbiteriana Ebenézer – São Pau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197000"/>
            <a:ext cx="6553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Nosso Roteiro</a:t>
            </a:r>
            <a:br>
              <a:rPr sz="48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quatro palestras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349360"/>
            <a:ext cx="81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a.  Introdução à questão da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 e d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bsolutos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b.  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ês Aspecto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da Lei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u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ra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 O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ristão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e 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ez Manda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4.  A importância do Décimo Mand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ffcc66"/>
                </a:solidFill>
                <a:uFillTx/>
                <a:latin typeface="Arial"/>
              </a:rPr>
              <a:t>A Lei de Deus e Sua Aplicação H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5943600" cy="23623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 Jo 2.21 - “Não lhes escrevo porque não conhecem a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verdad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s porque vocês a conhecem e porque nenhuma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mentir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procede da </a:t>
            </a:r>
            <a:r>
              <a:rPr b="1" i="1" lang="en-US" sz="2800" spc="-1" strike="noStrike">
                <a:solidFill>
                  <a:srgbClr val="ff0033"/>
                </a:solidFill>
                <a:latin typeface="Comic Sans MS"/>
              </a:rPr>
              <a:t>verdad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365400" indent="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Existem valores absolu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xiste certo e errado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(Ex 20.1-1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xiste verdade e menti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1071720"/>
            <a:ext cx="3581640" cy="358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73840" y="1604880"/>
            <a:ext cx="249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 Conceito Pós-modernista e Pluralista da VERDAD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4920" y="2085840"/>
          <a:ext cx="505800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2085840"/>
                    <a:ext cx="505800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5812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Como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o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Mundo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Vê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a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Arial"/>
              </a:rPr>
              <a:t>Verdade 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02040" y="0"/>
            <a:ext cx="5318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3957480" cy="35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Mas até o mundo já reconhece a necessidade de absolutos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1905120" cy="2809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84420" t="-997" r="0" b="-789"/>
          <a:stretch/>
        </p:blipFill>
        <p:spPr>
          <a:xfrm>
            <a:off x="6691320" y="3618000"/>
            <a:ext cx="245268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87280" y="3932280"/>
            <a:ext cx="5616720" cy="29527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Revista VEJA (13.10.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Reportagem de Ca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0"/>
            <a:ext cx="4788000" cy="3933720"/>
          </a:xfrm>
          <a:prstGeom prst="leftArrow">
            <a:avLst>
              <a:gd name="adj1" fmla="val 50000"/>
              <a:gd name="adj2" fmla="val 304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vro de Içami Tib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fendendo que A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ã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significa aus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 diretrizes ríg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380880"/>
            <a:ext cx="76197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Qual o nosso testemunho Cristão, quando abandonamos os absolutos de De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14600" y="2409840"/>
            <a:ext cx="4400640" cy="3457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6:12:46Z</dcterms:created>
  <dc:creator>Solano Portela</dc:creator>
  <dc:description/>
  <dc:language>en-US</dc:language>
  <cp:lastModifiedBy>Solano</cp:lastModifiedBy>
  <cp:lastPrinted>2002-09-20T16:53:43Z</cp:lastPrinted>
  <dcterms:modified xsi:type="dcterms:W3CDTF">2003-08-07T00:26:31Z</dcterms:modified>
  <cp:revision>80</cp:revision>
  <dc:subject/>
  <dc:title>Integridade Mars</dc:title>
</cp:coreProperties>
</file>