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EF29-D5A5-43C2-A1E9-5892105BC0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inar esse tema - 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INTEGR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a bela cidade de Manaus, que aprendemos a a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 e na qual temos tantos irmãos e ami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aremos examinando este assunto partindo do ponto de vista da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é Crist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significa que a nossa fonte de ensino e de autoridade são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crituras Sagradas, do Antigo e do Novo Tes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maior parte de nossas citações serão feitas da NVI-Nova Versã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casionalmente, utilizaremos a ARA (Alm. Revistae Atualiz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ecemos pelo princípi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próximo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B0C-0D38-43DB-9B17-711E74EC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CC7-8BA3-49C3-8AA0-63ED1FF9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DE8-741C-407D-AB10-9959ED73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475-16DB-46D7-8FCB-88AEC100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A12B-D0E9-481A-9C65-6308C578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6A24-E77B-4CB0-9F6F-0C7C8287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ECF1-A306-491A-B179-CB7BD100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0A1F-1435-4AFB-80D1-CC64A090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FB8E-AB81-496E-96F0-F60DF76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2521-F05C-475D-8F61-5CE5D1BC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D52E-F716-489B-B30B-12E8B15E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395-9D6A-4141-8254-45EE82A9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8B9E-E318-46C5-9F19-700CA65F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28E7-4F94-4886-97B2-42945FB6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E7D1-6B8C-4EB0-9E41-AC173330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F23F-BD65-4E68-AF37-2CB52709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9897-F87E-4C0B-92A0-FE130A4B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286-793C-4B0C-A738-27285CA1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E8B-2A12-48A8-9DB1-BA20E7DF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A1B-2153-4D43-8CB3-72FEA2E7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080-4316-4F58-B6E7-D7726FC4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34C-603B-4F68-95EC-622AA410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342-623A-4168-B7E6-8C533CC4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0EA-32BF-49B5-9A25-3B024F45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0FEB-8B47-4502-A22C-4870983E3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3250-062E-4495-8D8F-2A1FB818E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692360" y="1006560"/>
            <a:ext cx="5866920" cy="4582800"/>
            <a:chOff x="1692360" y="1006560"/>
            <a:chExt cx="5866920" cy="4582800"/>
          </a:xfrm>
        </p:grpSpPr>
        <p:sp>
          <p:nvSpPr>
            <p:cNvPr id="96" name=""/>
            <p:cNvSpPr/>
            <p:nvPr/>
          </p:nvSpPr>
          <p:spPr>
            <a:xfrm rot="16200000">
              <a:off x="847440" y="1851120"/>
              <a:ext cx="4582800" cy="2893320"/>
            </a:xfrm>
            <a:prstGeom prst="flowChartDelay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I a I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1. Não terás outros deuses diante de mim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2. Não farás para ti imagem de escultur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3. Não tomarás o nome do Senhor teu Deus em vã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4. Lembra-te do dia de Sábado (de descanso) para o santificar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3821040" y="1851120"/>
              <a:ext cx="4582800" cy="2893320"/>
            </a:xfrm>
            <a:prstGeom prst="flowChartDelay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360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mic Sans MS"/>
                </a:rPr>
                <a:t>V a 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5. Honrarás ao teu pai e à tua Mã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6. Não Mat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7. Não adulter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8. Não furt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9. Não dirás falso testemunh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omic Sans MS"/>
                </a:rPr>
                <a:t>10. Não cobiçará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720" y="0"/>
            <a:ext cx="305892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Não Estamos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ob a Le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mas sob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eríodo 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graça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de D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m que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vangel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tinge todos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ovos, raça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ribos e naçõ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ivil / Judici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1905120"/>
            <a:ext cx="304776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que apont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ra o Mess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 foi cumpr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m Cri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ão esta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reso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ordenanças 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erimônias, 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stamos sob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graça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vangelho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1219320"/>
            <a:ext cx="304776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Religiosa/Cerimoni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1905120"/>
            <a:ext cx="3048120" cy="49528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o senti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e que, se so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e Cris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ão esta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ob a s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nden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sta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bertos p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graça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de Cris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1219320"/>
            <a:ext cx="304812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0"/>
            <a:ext cx="30589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Não Estamos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ob a L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0"/>
            <a:ext cx="30592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Não Estamos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ob a L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44840"/>
            <a:ext cx="89107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Comic Sans MS"/>
              </a:rPr>
              <a:t>ENTRETANTO…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59840"/>
            <a:ext cx="883908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STAMOS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sob a Lei Moral de Deus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49360"/>
            <a:ext cx="77724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Ela continua a representar a soma dos nossos </a:t>
            </a:r>
            <a:r>
              <a:rPr b="1" i="1" lang="pt-BR" sz="3200" spc="-1" strike="noStrike">
                <a:solidFill>
                  <a:srgbClr val="ff3300"/>
                </a:solidFill>
                <a:latin typeface="Comic Sans MS"/>
              </a:rPr>
              <a:t>deveres e obrigações</a:t>
            </a: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Ela representa a trilha traçada por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us no processo de </a:t>
            </a: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SANTIFICAÇÃO</a:t>
            </a: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Ela é uma expressão da </a:t>
            </a:r>
            <a:r>
              <a:rPr b="1" i="1" lang="pt-BR" sz="3200" spc="-1" strike="noStrike">
                <a:solidFill>
                  <a:srgbClr val="ff3300"/>
                </a:solidFill>
                <a:latin typeface="Comic Sans MS"/>
              </a:rPr>
              <a:t>GRAÇA</a:t>
            </a: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 de Deus, pois é revelação de sua vontade obje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ONCLUSÃO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36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Cuidado com o ANTINOMIANISMO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Lembrança da objetividade do Sola Scrip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Estamos utilizando o “sob a graça” como desculpa para o desprezo à Lei de De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27640" y="56707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Comic Sans MS"/>
              </a:rPr>
              <a:t>Para estudo adicional: Pergunta No. 99 do Catecismo Ma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020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cc66"/>
                </a:solidFill>
                <a:latin typeface="Arial"/>
              </a:rPr>
              <a:t>A Lei de Deus e Sua Aplicação Hoje</a:t>
            </a: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1" lang="pt-BR" sz="3200" spc="-1" strike="noStrike">
                <a:solidFill>
                  <a:srgbClr val="ffcc66"/>
                </a:solidFill>
                <a:latin typeface="Arial"/>
              </a:rPr>
              <a:t>Solano Portela</a:t>
            </a:r>
            <a:br>
              <a:rPr sz="3200"/>
            </a:br>
            <a:r>
              <a:rPr b="1" lang="pt-BR" sz="3200" spc="-1" strike="noStrike">
                <a:solidFill>
                  <a:srgbClr val="ffcc66"/>
                </a:solidFill>
                <a:latin typeface="Arial"/>
              </a:rPr>
              <a:t>Agosto de 2003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Arial"/>
              </a:rPr>
              <a:t>Igreja Presbiteriana Ebenézer – São Pau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4292640"/>
            <a:ext cx="8497800" cy="649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197000"/>
            <a:ext cx="6553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Nosso Roteiro</a:t>
            </a:r>
            <a:br>
              <a:rPr sz="48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(quatro palestras)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349360"/>
            <a:ext cx="817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ntrodução à questão da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ei e do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bsolutos de De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ês Aspectos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da Lei de De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Lei </a:t>
            </a:r>
            <a:r>
              <a:rPr b="1" i="1" lang="en-US" sz="3600" spc="-1" strike="noStrike" u="sng">
                <a:solidFill>
                  <a:srgbClr val="ff0033"/>
                </a:solidFill>
                <a:uFillTx/>
                <a:latin typeface="Times New Roman"/>
              </a:rPr>
              <a:t>versus</a:t>
            </a: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 Gra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ristão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e o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ez Manda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 importância do Décimo Manda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1700280"/>
            <a:ext cx="46087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Forma </a:t>
            </a: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objetiva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de Deus indicar o que espera de cada um de nó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Neles conhecemos nossos </a:t>
            </a: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limites e obrig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Compreendemos nossa </a:t>
            </a:r>
            <a:r>
              <a:rPr b="0" lang="pt-BR" sz="3200" spc="-1" strike="noStrike">
                <a:solidFill>
                  <a:srgbClr val="ffff00"/>
                </a:solidFill>
                <a:latin typeface="Comic Sans MS"/>
              </a:rPr>
              <a:t>pecaminos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661000"/>
            <a:ext cx="9109080" cy="119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l 119.4 - “Tu ordenaste os teus mandamentos, para que os cumpramos à risca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556236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s Dez Mandamento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Êxodo 20:1-13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115920"/>
            <a:ext cx="3581280" cy="358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41880" y="614520"/>
            <a:ext cx="251460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4280"/>
            <a:ext cx="8534160" cy="15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 Resumo que Jesus Fez do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z Mandamentos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 (Mt 22.34-40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840" y="612792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4044960"/>
          <a:ext cx="7848360" cy="1400040"/>
        </p:xfrm>
        <a:graphic>
          <a:graphicData uri="http://schemas.openxmlformats.org/drawingml/2006/table">
            <a:tbl>
              <a:tblPr/>
              <a:tblGrid>
                <a:gridCol w="3095640"/>
                <a:gridCol w="4752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ndamentos 1 a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ssas obrigações para com o nosso criador – De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ndamentos 5 a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ssas obrigações para com o nossos semelha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84360" y="1879560"/>
          <a:ext cx="7848360" cy="2009880"/>
        </p:xfrm>
        <a:graphic>
          <a:graphicData uri="http://schemas.openxmlformats.org/drawingml/2006/table">
            <a:tbl>
              <a:tblPr/>
              <a:tblGrid>
                <a:gridCol w="3095640"/>
                <a:gridCol w="475272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ndamentos 1 a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. 37 – Amarás o Senhor teu Deus de todo o teu coração, de toda a tua alma, e de todo o teu entendiment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ndamentos 5 a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. 39 – Amarás o teu próximo como a ti mesm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5589720"/>
            <a:ext cx="8305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Esse “amar” tira a </a:t>
            </a:r>
            <a:r>
              <a:rPr b="0" i="1" lang="pt-BR" sz="2400" spc="-1" strike="noStrike">
                <a:solidFill>
                  <a:srgbClr val="ffff00"/>
                </a:solidFill>
                <a:latin typeface="Comic Sans MS"/>
              </a:rPr>
              <a:t>objetividade</a:t>
            </a: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 dos Dez Mandament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Joseph Fletcher</a:t>
            </a: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 e sua </a:t>
            </a:r>
            <a:r>
              <a:rPr b="0" i="1" lang="pt-BR" sz="2400" spc="-1" strike="noStrike">
                <a:solidFill>
                  <a:srgbClr val="ffff00"/>
                </a:solidFill>
                <a:latin typeface="Comic Sans MS"/>
              </a:rPr>
              <a:t>ÉTICA SITUACIONISTA</a:t>
            </a:r>
            <a:r>
              <a:rPr b="0" i="1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O Conceito Bíblico do Amor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Obediência e abnegaçã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Não é a uma lei intangível, indescritível, subjetiva, mas à Lei objetiva de De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O ensino de Jesus – João 14.21: </a:t>
            </a:r>
            <a:r>
              <a:rPr b="1" i="1" lang="pt-BR" sz="3200" spc="-1" strike="noStrike">
                <a:solidFill>
                  <a:srgbClr val="ffff00"/>
                </a:solidFill>
                <a:latin typeface="Comic Sans MS"/>
              </a:rPr>
              <a:t>“Aquele que 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tem os meus mandamentos e os guarda, </a:t>
            </a: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esse é o que me ama…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984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 Conversão e o Ensino de Paulo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49360"/>
            <a:ext cx="77724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A Visão de Paulo ANTES da Conversã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A Falta de Visão de Paulo DURANTE sua Convers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A Nova Visão de Paulo DEPOIS de sua Conver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159840"/>
            <a:ext cx="549108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ffcc66"/>
                </a:solidFill>
                <a:uFillTx/>
                <a:latin typeface="Arial"/>
              </a:rPr>
              <a:t>Estamos sob a </a:t>
            </a:r>
            <a:r>
              <a:rPr b="1" lang="pt-BR" sz="3600" spc="-1" strike="noStrike" u="sng">
                <a:solidFill>
                  <a:srgbClr val="ff3300"/>
                </a:solidFill>
                <a:uFillTx/>
                <a:latin typeface="Arial"/>
              </a:rPr>
              <a:t>Lei</a:t>
            </a:r>
            <a:r>
              <a:rPr b="1" lang="pt-BR" sz="3600" spc="-1" strike="noStrike" u="sng">
                <a:solidFill>
                  <a:srgbClr val="ffcc66"/>
                </a:solidFill>
                <a:uFillTx/>
                <a:latin typeface="Arial"/>
              </a:rPr>
              <a:t>, ou sob a </a:t>
            </a:r>
            <a:r>
              <a:rPr b="1" lang="pt-BR" sz="3600" spc="-1" strike="noStrike" u="sng">
                <a:solidFill>
                  <a:srgbClr val="ff3300"/>
                </a:solidFill>
                <a:uFillTx/>
                <a:latin typeface="Arial"/>
              </a:rPr>
              <a:t>Graça</a:t>
            </a:r>
            <a:r>
              <a:rPr b="1" lang="pt-BR" sz="3600" spc="-1" strike="noStrike" u="sng">
                <a:solidFill>
                  <a:srgbClr val="ffcc66"/>
                </a:solidFill>
                <a:uFillTx/>
                <a:latin typeface="Arial"/>
              </a:rPr>
              <a:t> de Deus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421000"/>
            <a:ext cx="5003640" cy="10206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Não estamos sob a Lei, mas sob a Graça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omanos 6.1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3160800"/>
            <a:ext cx="3581280" cy="358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8200" y="3693960"/>
            <a:ext cx="249552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3718080"/>
            <a:ext cx="56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243720" indent="-2437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O que significa iss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Perdeu a LEI a sua validad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Apenas um registro históric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Não estamos obrigados a el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Vamos, simplesmente, “amar”, sem direcionamen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63360"/>
            <a:ext cx="3581280" cy="358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41880" y="561960"/>
            <a:ext cx="251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96360"/>
            <a:ext cx="8534160" cy="17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Para entender esta questão, temos que nos relembrar dos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Três Aspectos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da Lei de Deus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A Lei CIVIL ou JUDICIA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A Lei R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ELIGIOSA ou CERIMON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Comic Sans MS"/>
              </a:rPr>
              <a:t>A LEI MO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172200"/>
            <a:ext cx="6858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6:12:46Z</dcterms:created>
  <dc:creator>Solano Portela</dc:creator>
  <dc:description/>
  <dc:language>en-US</dc:language>
  <cp:lastModifiedBy>Solano</cp:lastModifiedBy>
  <cp:lastPrinted>2002-09-20T16:53:43Z</cp:lastPrinted>
  <dcterms:modified xsi:type="dcterms:W3CDTF">2003-08-13T04:18:57Z</dcterms:modified>
  <cp:revision>80</cp:revision>
  <dc:subject/>
  <dc:title>Integridade Mars</dc:title>
</cp:coreProperties>
</file>