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ACD6-A230-42BA-B1E7-A664F7C8D8F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aminar esse tema - 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INTEGRID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a bela cidade de Manaus, que aprendemos a a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... e na qual temos tantos irmãos e ami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taremos examinando este assunto partindo do ponto de vista da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Fé Crist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sso significa que a nossa fonte de ensino e de autoridade são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crituras Sagradas, do Antigo e do Novo Test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maior parte de nossas citações serão feitas da NVI-Nova Versão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casionalmente, utilizaremos a ARA (Alm. Revistae Atualiza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mecemos pelo princípi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próximo slid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4D5A-FE37-4A4F-86CA-DAAF55D6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E79F-9D14-42D1-BD70-669D5253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33B6-FD1D-4716-989E-91D751C7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733C-FDA2-4045-81B3-95736197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E5A4-F5E2-4246-81FC-41B2C66D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EDBE-7090-4CB4-BF60-AE32FC47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0A09-FA86-4297-8690-E42D3416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B5EF-7AC4-474A-987B-1EA1C9FB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6484-9999-4E27-9214-ACD74B2B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BCED-EFB2-42A0-BC9F-ECB3A3AD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7AF9-68C6-4534-8516-D6B495EB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C5DA-CBEB-47F2-A00E-0CC2A906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7252-19D4-470D-9CB0-622CAF30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B303-6C16-4DB8-8E54-44A3989A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4FEA-1381-446E-8A57-C34C2009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959D-CBFB-4F3F-B7A4-91EC3298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B2E1-0085-4553-9739-802A626F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C773-E88D-4922-96CF-A52F41D0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4E75-B7CE-4313-8E95-21AD6501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63D2-4E20-49EE-ADA6-D094A62E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AB32-F8AD-4BA9-8FCE-D003BF55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39F5-1235-4BDF-AD0B-DB52E6FB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C3DA-B646-4C22-89E6-CBD4962F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D424-440B-4AAA-A6E9-E10EEC95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6673-A293-4C8B-88BC-F3DD677ECD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C459-B05D-446C-9933-7A982E8B17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1692360" y="1006560"/>
            <a:ext cx="5866920" cy="4582800"/>
            <a:chOff x="1692360" y="1006560"/>
            <a:chExt cx="5866920" cy="4582800"/>
          </a:xfrm>
        </p:grpSpPr>
        <p:sp>
          <p:nvSpPr>
            <p:cNvPr id="96" name=""/>
            <p:cNvSpPr/>
            <p:nvPr/>
          </p:nvSpPr>
          <p:spPr>
            <a:xfrm rot="16200000">
              <a:off x="847440" y="1851120"/>
              <a:ext cx="4582800" cy="2893320"/>
            </a:xfrm>
            <a:prstGeom prst="flowChartDelay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3600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mic Sans MS"/>
                </a:rPr>
                <a:t>I a I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1. Não terás outros deuses diante de mim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2. Não farás para ti imagem de escultur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3. Não tomarás o nome do Senhor teu Deus em vã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4. Lembra-te do dia de Sábado (de descanso) para o santificar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6200000">
              <a:off x="3821040" y="1851120"/>
              <a:ext cx="4582800" cy="2893320"/>
            </a:xfrm>
            <a:prstGeom prst="flowChartDelay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3600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mic Sans MS"/>
                </a:rPr>
                <a:t>V a 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5. Honrarás ao teu pai e à tua Mãe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6. Não Matará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7. Não adulterará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8. Não furtará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9. Não dirás falso testemunh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10. Não cobiçará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159840"/>
            <a:ext cx="8534160" cy="17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JESUS CRISTO e os Dez Mandamentos – Mateus 19.16-22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Jesus trata a Lei Moral como válida – ele não diz, isso é coisa ultrapassad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O paradoxo aparente é que, ao mesmo tempo, ela revela nossa insuficiê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O alvo permanece firme e válido – mas necessário nos é “nascer de novo” – João 3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260280"/>
            <a:ext cx="8750160" cy="633744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Comic Sans MS"/>
              </a:rPr>
              <a:t>16 E eis que, aproximando-se dele um jovem, disse-lhe: Bom Mestre, que bem farei, para conseguir a vida eterna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Comic Sans MS"/>
              </a:rPr>
              <a:t>17  E ele disse-lhe: Por que me chamas bom? Não há bom, senão um só que é Deus. Se queres, porém, entrar na vida, guarda os mandament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Comic Sans MS"/>
              </a:rPr>
              <a:t>18  Disse-lhe ele: Quais? E Jesus disse: Não matarás, não cometerás adultério, não furtarás, não dirás falso testemunho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Comic Sans MS"/>
              </a:rPr>
              <a:t>19  honra teu pai e tua mãe, e amarás o teu próximo como a ti mesm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Comic Sans MS"/>
              </a:rPr>
              <a:t>20  Disse-lhe o jovem: Tudo isso tenho guardado desde a minha mocidade; que me falta ainda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Comic Sans MS"/>
              </a:rPr>
              <a:t>21  Disse-lhe Jesus: Se queres ser perfeito, vai, vende tudo o que tens, dá-o aos pobres e terás um tesouro no céu; e vem e segue-m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Comic Sans MS"/>
              </a:rPr>
              <a:t>22  E o jovem, ouvindo essa palavra, retirou-se triste, porque possuía muitas propriedad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1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2" dur="1" fill="hold">
                                    <p:stCondLst>
                                      <p:cond evt="end">
                                        <p:tn val="389"/>
                                      </p:cond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6" dur="1" fill="hold">
                                    <p:stCondLst>
                                      <p:cond evt="end">
                                        <p:tn val="393"/>
                                      </p:cond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0" dur="1" fill="hold">
                                    <p:stCondLst>
                                      <p:cond evt="end">
                                        <p:tn val="397"/>
                                      </p:cond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4" dur="1" fill="hold">
                                    <p:stCondLst>
                                      <p:cond evt="end">
                                        <p:tn val="401"/>
                                      </p:cond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8" dur="1" fill="hold">
                                    <p:stCondLst>
                                      <p:cond evt="end">
                                        <p:tn val="405"/>
                                      </p:cond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2" dur="1" fill="hold">
                                    <p:stCondLst>
                                      <p:cond evt="end">
                                        <p:tn val="409"/>
                                      </p:cond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6" dur="1" fill="hold">
                                    <p:stCondLst>
                                      <p:cond evt="end">
                                        <p:tn val="413"/>
                                      </p:cond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0" dur="1" fill="hold">
                                    <p:stCondLst>
                                      <p:cond evt="end">
                                        <p:tn val="417"/>
                                      </p:cond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159840"/>
            <a:ext cx="8534160" cy="17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Como Cumprimos a Lei de Deus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49360"/>
            <a:ext cx="777240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Obedecemos os mandamentos </a:t>
            </a: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em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 Cristo</a:t>
            </a:r>
            <a:r>
              <a:rPr b="1" i="1" lang="pt-BR" sz="4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Comic Sans MS"/>
              </a:rPr>
              <a:t>Procuramos obedecer os mandamentos </a:t>
            </a:r>
            <a:r>
              <a:rPr b="1" i="1" lang="pt-BR" sz="4400" spc="-1" strike="noStrike">
                <a:solidFill>
                  <a:srgbClr val="ffff00"/>
                </a:solidFill>
                <a:latin typeface="Comic Sans MS"/>
              </a:rPr>
              <a:t>por</a:t>
            </a:r>
            <a:r>
              <a:rPr b="1" i="1" lang="pt-BR" sz="4400" spc="-1" strike="noStrike">
                <a:solidFill>
                  <a:srgbClr val="ffffff"/>
                </a:solidFill>
                <a:latin typeface="Comic Sans MS"/>
              </a:rPr>
              <a:t> Cristo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Obedecemos os Mandamentos EM Cristo!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2501" b="33032"/>
          <a:stretch/>
        </p:blipFill>
        <p:spPr>
          <a:xfrm>
            <a:off x="0" y="2133720"/>
            <a:ext cx="3524400" cy="4724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45820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435640" y="2421000"/>
            <a:ext cx="2398680" cy="3357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042920" y="1268280"/>
            <a:ext cx="7129440" cy="936720"/>
          </a:xfrm>
          <a:custGeom>
            <a:avLst/>
            <a:gdLst>
              <a:gd name="textAreaLeft" fmla="*/ 1233000 w 7129440"/>
              <a:gd name="textAreaRight" fmla="*/ 5240880 w 712944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73" hR="21600" stAng="10800000" swAng="5400000"/>
                <a:lnTo>
                  <a:pt x="12141" y="0"/>
                </a:lnTo>
                <a:arcTo wR="7473" hR="21600" stAng="-5400000" swAng="2662745"/>
                <a:lnTo>
                  <a:pt x="21173" y="14400"/>
                </a:lnTo>
                <a:lnTo>
                  <a:pt x="17280" y="21600"/>
                </a:lnTo>
                <a:lnTo>
                  <a:pt x="12533" y="14400"/>
                </a:lnTo>
                <a:lnTo>
                  <a:pt x="14519" y="14400"/>
                </a:lnTo>
                <a:arcTo wR="7473" hR="21600" stAng="-2737255" swAng="-2273389"/>
                <a:lnTo>
                  <a:pt x="9807" y="1081"/>
                </a:lnTo>
                <a:arcTo wR="7473" hR="21600" stAng="-5789355" swAng="-5010645"/>
                <a:close/>
              </a:path>
              <a:path fill="darkenLess" w="21600" h="21600">
                <a:moveTo>
                  <a:pt x="0" y="21600"/>
                </a:moveTo>
                <a:arcTo wR="7473" hR="21600" stAng="10800000" swAng="5400000"/>
                <a:lnTo>
                  <a:pt x="7473" y="0"/>
                </a:lnTo>
                <a:arcTo wR="7473" hR="21600" stAng="-5400000" swAng="389355"/>
                <a:lnTo>
                  <a:pt x="9807" y="1081"/>
                </a:lnTo>
                <a:arcTo wR="7473" hR="21600" stAng="-5789355" swAng="-501064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Justiça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Obediê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95280" y="5805360"/>
            <a:ext cx="7345440" cy="1052640"/>
          </a:xfrm>
          <a:custGeom>
            <a:avLst/>
            <a:gdLst>
              <a:gd name="textAreaLeft" fmla="*/ 1285560 w 7345440"/>
              <a:gd name="textAreaRight" fmla="*/ 5325840 w 7345440"/>
              <a:gd name="textAreaTop" fmla="*/ 140760 h 1052640"/>
              <a:gd name="textAreaBottom" fmla="*/ 911880 h 10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Pecados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Casti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160200"/>
            <a:ext cx="8534160" cy="13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curamos Obedecer os Mandamentos POR Cristo!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2920" y="27000"/>
            <a:ext cx="8893080" cy="685800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Comic Sans MS"/>
              </a:rPr>
              <a:t>Jesus não </a:t>
            </a:r>
            <a:r>
              <a:rPr b="1" i="1" lang="pt-BR" sz="1900" spc="-1" strike="noStrike">
                <a:solidFill>
                  <a:srgbClr val="000000"/>
                </a:solidFill>
                <a:latin typeface="Comic Sans MS"/>
              </a:rPr>
              <a:t>rev</a:t>
            </a:r>
            <a:r>
              <a:rPr b="1" i="1" lang="en-US" sz="19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i="1" lang="pt-BR" sz="1900" spc="-1" strike="noStrike">
                <a:solidFill>
                  <a:srgbClr val="000000"/>
                </a:solidFill>
                <a:latin typeface="Comic Sans MS"/>
              </a:rPr>
              <a:t>gou</a:t>
            </a:r>
            <a:r>
              <a:rPr b="0" i="1" lang="pt-BR" sz="1900" spc="-1" strike="noStrike">
                <a:solidFill>
                  <a:srgbClr val="000000"/>
                </a:solidFill>
                <a:latin typeface="Comic Sans MS"/>
              </a:rPr>
              <a:t> a lei - </a:t>
            </a:r>
            <a:r>
              <a:rPr b="1" i="1" lang="pt-BR" sz="1900" spc="-1" strike="noStrike">
                <a:solidFill>
                  <a:srgbClr val="000000"/>
                </a:solidFill>
                <a:latin typeface="Comic Sans MS"/>
              </a:rPr>
              <a:t>Mt 5.17</a:t>
            </a:r>
            <a:r>
              <a:rPr b="0" i="1" lang="pt-BR" sz="1900" spc="-1" strike="noStrike">
                <a:solidFill>
                  <a:srgbClr val="000000"/>
                </a:solidFill>
                <a:latin typeface="Comic Sans MS"/>
              </a:rPr>
              <a:t>: “Não penseis que vim revogar a lei ou os profetas: não vim para revogar, vim para cumprir”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Comic Sans MS"/>
              </a:rPr>
              <a:t>Ele reafirma a </a:t>
            </a:r>
            <a:r>
              <a:rPr b="1" i="1" lang="pt-BR" sz="1900" spc="-1" strike="noStrike">
                <a:solidFill>
                  <a:srgbClr val="000000"/>
                </a:solidFill>
                <a:latin typeface="Comic Sans MS"/>
              </a:rPr>
              <a:t>importância</a:t>
            </a:r>
            <a:r>
              <a:rPr b="0" i="1" lang="pt-BR" sz="1900" spc="-1" strike="noStrike">
                <a:solidFill>
                  <a:srgbClr val="000000"/>
                </a:solidFill>
                <a:latin typeface="Comic Sans MS"/>
              </a:rPr>
              <a:t> dos mandamentos – </a:t>
            </a:r>
            <a:r>
              <a:rPr b="1" i="1" lang="pt-BR" sz="1900" spc="-1" strike="noStrike">
                <a:solidFill>
                  <a:srgbClr val="000000"/>
                </a:solidFill>
                <a:latin typeface="Comic Sans MS"/>
              </a:rPr>
              <a:t>Jo 14.21</a:t>
            </a:r>
            <a:r>
              <a:rPr b="0" i="1" lang="pt-BR" sz="1900" spc="-1" strike="noStrike">
                <a:solidFill>
                  <a:srgbClr val="000000"/>
                </a:solidFill>
                <a:latin typeface="Comic Sans MS"/>
              </a:rPr>
              <a:t>: “Aquele que tem os meus mandamentos e os guarda, esse é o que me ama; e aquele que me ama será amado do meu Pai, e eu o amarei e me manifestarei a êle”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Comic Sans MS"/>
              </a:rPr>
              <a:t>Jesus se apresenta como o nosso </a:t>
            </a:r>
            <a:r>
              <a:rPr b="1" i="1" lang="pt-BR" sz="1900" spc="-1" strike="noStrike">
                <a:solidFill>
                  <a:srgbClr val="000000"/>
                </a:solidFill>
                <a:latin typeface="Comic Sans MS"/>
              </a:rPr>
              <a:t>exemplo</a:t>
            </a:r>
            <a:r>
              <a:rPr b="0" i="1" lang="pt-BR" sz="1900" spc="-1" strike="noStrike">
                <a:solidFill>
                  <a:srgbClr val="000000"/>
                </a:solidFill>
                <a:latin typeface="Comic Sans MS"/>
              </a:rPr>
              <a:t> - a importância na guarda dos mandamentos – </a:t>
            </a:r>
            <a:r>
              <a:rPr b="1" i="1" lang="pt-BR" sz="1900" spc="-1" strike="noStrike">
                <a:solidFill>
                  <a:srgbClr val="000000"/>
                </a:solidFill>
                <a:latin typeface="Comic Sans MS"/>
              </a:rPr>
              <a:t>Jo 15.10</a:t>
            </a:r>
            <a:r>
              <a:rPr b="0" i="1" lang="pt-BR" sz="1900" spc="-1" strike="noStrike">
                <a:solidFill>
                  <a:srgbClr val="000000"/>
                </a:solidFill>
                <a:latin typeface="Comic Sans MS"/>
              </a:rPr>
              <a:t>: “Se guardardes os meus mandamentos permanecereis no meu amor; do mesmo modo que eu tenho guardado os mandamentos do meu Pai, e permaneço no seu amor”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Comic Sans MS"/>
              </a:rPr>
              <a:t>João </a:t>
            </a:r>
            <a:r>
              <a:rPr b="1" i="1" lang="pt-BR" sz="1900" spc="-1" strike="noStrike">
                <a:solidFill>
                  <a:srgbClr val="000000"/>
                </a:solidFill>
                <a:latin typeface="Comic Sans MS"/>
              </a:rPr>
              <a:t>reafirma</a:t>
            </a:r>
            <a:r>
              <a:rPr b="0" i="1" lang="pt-BR" sz="1900" spc="-1" strike="noStrike">
                <a:solidFill>
                  <a:srgbClr val="000000"/>
                </a:solidFill>
                <a:latin typeface="Comic Sans MS"/>
              </a:rPr>
              <a:t> isso em suas cartas. Em </a:t>
            </a:r>
            <a:r>
              <a:rPr b="1" i="1" lang="pt-BR" sz="1900" spc="-1" strike="noStrike">
                <a:solidFill>
                  <a:srgbClr val="000000"/>
                </a:solidFill>
                <a:latin typeface="Comic Sans MS"/>
              </a:rPr>
              <a:t>1 Jo 2:3 e 4</a:t>
            </a:r>
            <a:r>
              <a:rPr b="0" i="1" lang="pt-BR" sz="1900" spc="-1" strike="noStrike">
                <a:solidFill>
                  <a:srgbClr val="000000"/>
                </a:solidFill>
                <a:latin typeface="Comic Sans MS"/>
              </a:rPr>
              <a:t> – o cumprimento aos mandamentos é a grande evidência da nossa salvação: “Ora, sabemos que o temos conhecido por isso: se guardamos os seus mandamentos. Aquele que diz: Eu o conheço e não guarda os seus mandamentos, é mentiroso e nele não está a verdade”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Comic Sans MS"/>
              </a:rPr>
              <a:t>No capítulo </a:t>
            </a:r>
            <a:r>
              <a:rPr b="1" i="1" lang="pt-BR" sz="19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i="1" lang="en-US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pt-BR" sz="1900" spc="-1" strike="noStrike">
                <a:solidFill>
                  <a:srgbClr val="000000"/>
                </a:solidFill>
                <a:latin typeface="Comic Sans MS"/>
              </a:rPr>
              <a:t>(5.2 e 3),</a:t>
            </a:r>
            <a:r>
              <a:rPr b="0" i="1" lang="pt-BR" sz="1900" spc="-1" strike="noStrike">
                <a:solidFill>
                  <a:srgbClr val="000000"/>
                </a:solidFill>
                <a:latin typeface="Comic Sans MS"/>
              </a:rPr>
              <a:t> a volta ao tema – a </a:t>
            </a:r>
            <a:r>
              <a:rPr b="1" i="1" lang="pt-BR" sz="1900" spc="-1" strike="noStrike">
                <a:solidFill>
                  <a:srgbClr val="000000"/>
                </a:solidFill>
                <a:latin typeface="Comic Sans MS"/>
              </a:rPr>
              <a:t>prova do amor</a:t>
            </a:r>
            <a:r>
              <a:rPr b="0" i="1" lang="pt-BR" sz="1900" spc="-1" strike="noStrike">
                <a:solidFill>
                  <a:srgbClr val="000000"/>
                </a:solidFill>
                <a:latin typeface="Comic Sans MS"/>
              </a:rPr>
              <a:t> que temos por Deus vem de uma vida dedicada aos mandamentos de Deus: “...porque este é o amor de Deus: que guardemos os seus mandamentos; ora os seus mandamentos não são penosos...” 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Comic Sans MS"/>
              </a:rPr>
              <a:t>Na segunda carta </a:t>
            </a:r>
            <a:r>
              <a:rPr b="1" i="1" lang="pt-BR" sz="1900" spc="-1" strike="noStrike">
                <a:solidFill>
                  <a:srgbClr val="000000"/>
                </a:solidFill>
                <a:latin typeface="Comic Sans MS"/>
              </a:rPr>
              <a:t>(1.4)</a:t>
            </a:r>
            <a:r>
              <a:rPr b="0" i="1" lang="pt-BR" sz="1900" spc="-1" strike="noStrike">
                <a:solidFill>
                  <a:srgbClr val="000000"/>
                </a:solidFill>
                <a:latin typeface="Comic Sans MS"/>
              </a:rPr>
              <a:t> - expressa </a:t>
            </a:r>
            <a:r>
              <a:rPr b="1" i="1" lang="pt-BR" sz="1900" spc="-1" strike="noStrike">
                <a:solidFill>
                  <a:srgbClr val="000000"/>
                </a:solidFill>
                <a:latin typeface="Comic Sans MS"/>
              </a:rPr>
              <a:t>alegria</a:t>
            </a:r>
            <a:r>
              <a:rPr b="0" i="1" lang="pt-BR" sz="1900" spc="-1" strike="noStrike">
                <a:solidFill>
                  <a:srgbClr val="000000"/>
                </a:solidFill>
                <a:latin typeface="Comic Sans MS"/>
              </a:rPr>
              <a:t> para com os que “... andam na verdade, de acordo com o mandamento que recebemos do Pai”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423280" y="6199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1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1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6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159840"/>
            <a:ext cx="5491080" cy="11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 u="sng">
                <a:solidFill>
                  <a:srgbClr val="ffcc66"/>
                </a:solidFill>
                <a:uFillTx/>
                <a:latin typeface="Arial"/>
              </a:rPr>
              <a:t>UM ÚLTIMO PONTO A RESSALTAR!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45820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08720" y="3160800"/>
            <a:ext cx="3581280" cy="358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118200" y="3693960"/>
            <a:ext cx="2495520" cy="2514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508720" y="63360"/>
            <a:ext cx="3581280" cy="358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041880" y="561960"/>
            <a:ext cx="2514600" cy="2397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50920" y="1916280"/>
            <a:ext cx="5400720" cy="302400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O aspecto PRAGMÁTICO da Lei de Deus! 1 Jo 5.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537372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Para estudo adicional: Perguntas No. 100-102 do Catecismo Ma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00200" y="333360"/>
            <a:ext cx="7772400" cy="612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ffcc66"/>
                </a:solidFill>
                <a:latin typeface="Arial"/>
              </a:rPr>
              <a:t>A Lei de Deus e Sua Aplicação Hoje</a:t>
            </a:r>
            <a:r>
              <a:rPr b="1" lang="pt-BR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r>
              <a:rPr b="1" lang="pt-BR" sz="3200" spc="-1" strike="noStrike">
                <a:solidFill>
                  <a:srgbClr val="ffcc66"/>
                </a:solidFill>
                <a:latin typeface="Arial"/>
              </a:rPr>
              <a:t>Solano Portela</a:t>
            </a:r>
            <a:br>
              <a:rPr sz="3200"/>
            </a:br>
            <a:r>
              <a:rPr b="1" lang="pt-BR" sz="3200" spc="-1" strike="noStrike">
                <a:solidFill>
                  <a:srgbClr val="ffcc66"/>
                </a:solidFill>
                <a:latin typeface="Arial"/>
              </a:rPr>
              <a:t>Agosto de 2003</a:t>
            </a:r>
            <a:br>
              <a:rPr sz="3200"/>
            </a:br>
            <a:r>
              <a:rPr b="1" lang="pt-BR" sz="4400" spc="-1" strike="noStrike">
                <a:solidFill>
                  <a:srgbClr val="ffcc66"/>
                </a:solidFill>
                <a:latin typeface="Arial"/>
              </a:rPr>
              <a:t>Igreja Presbiteriana Ebenézer – São Paul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4888080"/>
            <a:ext cx="8497800" cy="649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1197000"/>
            <a:ext cx="65534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Nosso Roteiro</a:t>
            </a:r>
            <a:br>
              <a:rPr sz="48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(quatro palestras)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2349360"/>
            <a:ext cx="8172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Introdução à questão da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Lei e dos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bsolutos de De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Os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rês Aspectos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da Lei de De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Lei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ersus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Graç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O Cristão e os Dez Mandamen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 importância do Décimo Mandamen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96360"/>
            <a:ext cx="8534160" cy="17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 Lei de Deus no contexto e entendimento histórico –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Os Três Usos da Lei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Comic Sans MS"/>
              </a:rPr>
              <a:t>Usus Theologicus</a:t>
            </a: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 – Revelação da Pecaminosidade Human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00"/>
                </a:solidFill>
                <a:latin typeface="Comic Sans MS"/>
              </a:rPr>
              <a:t>Usus Civilis</a:t>
            </a:r>
            <a:r>
              <a:rPr b="1" i="1" lang="pt-BR" sz="4000" spc="-1" strike="noStrike">
                <a:solidFill>
                  <a:srgbClr val="ffffff"/>
                </a:solidFill>
                <a:latin typeface="Comic Sans MS"/>
              </a:rPr>
              <a:t> – Restrição do Pecado Humano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00"/>
                </a:solidFill>
                <a:latin typeface="Comic Sans MS"/>
              </a:rPr>
              <a:t>Revelar a Vontade</a:t>
            </a:r>
            <a:r>
              <a:rPr b="1" i="1" lang="pt-BR" sz="4000" spc="-1" strike="noStrike">
                <a:solidFill>
                  <a:srgbClr val="ffffff"/>
                </a:solidFill>
                <a:latin typeface="Comic Sans MS"/>
              </a:rPr>
              <a:t> de Deus aos que Crêe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00000" y="1700280"/>
            <a:ext cx="460872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Vontade Prescritiva de Deus para a Minha Vi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No entanto, sou pecador, </a:t>
            </a:r>
            <a:r>
              <a:rPr b="0" lang="pt-BR" sz="3200" spc="-1" strike="noStrike">
                <a:solidFill>
                  <a:srgbClr val="ffff00"/>
                </a:solidFill>
                <a:latin typeface="Comic Sans MS"/>
              </a:rPr>
              <a:t>Não posso cumprí-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A Lei não salva – Sou resgatado pela </a:t>
            </a:r>
            <a:r>
              <a:rPr b="0" lang="pt-BR" sz="3200" spc="-1" strike="noStrike">
                <a:solidFill>
                  <a:srgbClr val="ffff00"/>
                </a:solidFill>
                <a:latin typeface="Comic Sans MS"/>
              </a:rPr>
              <a:t>graça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 e </a:t>
            </a:r>
            <a:r>
              <a:rPr b="0" lang="pt-BR" sz="3200" spc="-1" strike="noStrike">
                <a:solidFill>
                  <a:srgbClr val="ffff00"/>
                </a:solidFill>
                <a:latin typeface="Comic Sans MS"/>
              </a:rPr>
              <a:t>misericórdia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 de De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084640"/>
            <a:ext cx="9109080" cy="177336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Qual a importância, então da LEI DE DEUS? Como posso cumprí-la? O que devo fazer para herdar a vida eter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556236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Os Dez Mandamento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Êxodo 20:1-13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5820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08720" y="115920"/>
            <a:ext cx="3581280" cy="358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41880" y="614520"/>
            <a:ext cx="2514600" cy="23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9840"/>
            <a:ext cx="8534160" cy="17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lguém já obedeceu os Dez Mandamentos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Não! Pecado é transgressão da Lei de Deus – Somos todos pecadores Rm 3.23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Rm 3.9-18 – Extensão e abrangência do Peca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1 João 1.8-10: </a:t>
            </a:r>
            <a:r>
              <a:rPr b="1" i="1" lang="pt-BR" sz="3200" spc="-1" strike="noStrike">
                <a:solidFill>
                  <a:srgbClr val="ffff00"/>
                </a:solidFill>
                <a:latin typeface="Comic Sans MS"/>
              </a:rPr>
              <a:t>Nenhum pensamento de Auto-justi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260280"/>
            <a:ext cx="8893080" cy="633744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Que se conclui? Temos nós qualquer vantagem? Não, de forma nenhuma; pois já temos demonstrado que todos, tanto judeus como gregos, estão debaixo do pecado; como está escrito: Não há justo, nem um sequer, não há quem entenda, não há quem busque a Deus; todos se extraviaram, à uma se fizeram inúteis; não há quem faça o bem, não há nem um sequer. A garganta deles é sepulcro aberto; com a língua, urdem engano, veneno de víbora está nos seus lábios, a boca, eles a têm cheia de maldição e de amargura; são os seus pés velozes para derramar sangue, nos seus caminhos, há destruição e miséria; desconheceram o caminho da paz. Não há temor de Deus diante de seus olhos.</a:t>
            </a:r>
            <a:r>
              <a:rPr b="0" i="1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1701720"/>
            <a:ext cx="8424720" cy="489600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000000"/>
                </a:solidFill>
                <a:latin typeface="Comic Sans MS"/>
              </a:rPr>
              <a:t>Se dissermos que não temos pecado nenhum, a nós mesmos nos enganamos, e a verdade não está em nó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000000"/>
                </a:solidFill>
                <a:latin typeface="Comic Sans MS"/>
              </a:rPr>
              <a:t>Se confessarmos os nossos pecados, ele é fiel e justo para nos perdoar os pecados e nos purificar de toda injustiça. Se dissermos que não temos cometido pecado, fazemo-lo mentiroso, e a sua palavra não está em nó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720" y="115920"/>
            <a:ext cx="918036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66"/>
                </a:solidFill>
                <a:uFillTx/>
                <a:latin typeface="Arial"/>
              </a:rPr>
              <a:t>Somente Jesus Cristo Obedeceu toda a Lei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905120"/>
            <a:ext cx="3048120" cy="49528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Obedece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pt-BR" sz="2400" spc="-1" strike="noStrike">
                <a:solidFill>
                  <a:srgbClr val="ff3300"/>
                </a:solidFill>
                <a:latin typeface="Times New Roman"/>
              </a:rPr>
              <a:t>Lei Civ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co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jude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que er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respeit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das autoridade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219320"/>
            <a:ext cx="304812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Civil / Judicial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1905120"/>
            <a:ext cx="3047760" cy="49528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Obedeceu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3300"/>
                </a:solidFill>
                <a:latin typeface="Times New Roman"/>
              </a:rPr>
              <a:t>Lei Religi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Cerimon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ticipa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de s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requerim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e cerimôn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1219320"/>
            <a:ext cx="304776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Religiosa/Cerimonial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1905120"/>
            <a:ext cx="3048120" cy="49528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Obedece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pt-BR" sz="2400" spc="-1" strike="noStrike">
                <a:solidFill>
                  <a:srgbClr val="ff3300"/>
                </a:solidFill>
                <a:latin typeface="Times New Roman"/>
              </a:rPr>
              <a:t>Lei M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ois foi sa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e justo 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todas as su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ações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nunca quebr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nenhum 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3300"/>
                </a:solidFill>
                <a:latin typeface="Times New Roman"/>
              </a:rPr>
              <a:t>De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3300"/>
                </a:solidFill>
                <a:latin typeface="Times New Roman"/>
              </a:rPr>
              <a:t>Mandament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1219320"/>
            <a:ext cx="304812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M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83840" y="160200"/>
            <a:ext cx="8534520" cy="82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Cristo – O Fim da Lei?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Como entender Ro 10.1-6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0200" y="260280"/>
            <a:ext cx="3960720" cy="633744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JFA – ATUALIZADA – Romanos 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1  Irmãos, a boa vontade do meu coração e a minha súplica a Deus a favor deles é para que sejam </a:t>
            </a: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salvos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Porque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 lhes dou testemunho de que eles têm zelo por Deus, mas não com entendiment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3 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Porquanto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, desconhecendo a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justiça de Deus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, e procurando estabelecer a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sua própria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, não se sujeitaram à que vem de Deu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4 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Porque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 o fim da lei é Cristo, para  justiça de todo aquele que crê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5 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Ora,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 Moisés escreveu que o homem que praticar a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justiça decorrente da lei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 viverá por el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6  </a:t>
            </a: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Mas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justiça decorrente da fé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 assim diz: Não perguntes em teu coração: Quem subirá ao céu? (isto é, para trazer do alto a Cristo;) [Dt 30.12-14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96000" y="293760"/>
            <a:ext cx="3960720" cy="63370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91120" indent="-59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NVI – Romanos 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1   Irmãos, o desejo do meu coração e a minha oração a Deus pelos israelitas é que eles sejam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salvos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2   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Pois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 posso testemunhar que eles têm zelo por Deus, mas o seu zelo não é conforme o conhecimen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3   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Porquanto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, ignorando a justiça que vem de Deus e procurando estabelecer a sua própria, não se submeteram à justiça de Deu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4   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Porque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 o fim da lei é Cristo, para justificação de todo o que crê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5   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*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Moisés descreve desta forma a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justiça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que vem da lei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: "O homem que fizer estas coisas viverá por meio dela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6   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Mas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justiça que vem da fé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 diz: "Não diga em seu coração: 'Quem subirá ao céu?' (isto é, para fazer Cristo descer) [Dt 30.12-14]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716360" y="260280"/>
            <a:ext cx="4051440" cy="82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Cristo – O Fim da Lei?</a:t>
            </a:r>
            <a:br>
              <a:rPr sz="2400"/>
            </a:b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Como entender Ro 10.1-6?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260280"/>
            <a:ext cx="3960720" cy="633744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JFA – ATUALIZADA – Romanos 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1  Irmãos, a boa vontade do meu coração e a minha súplica a Deus a favor deles é para que sejam </a:t>
            </a: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salvos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Porque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 lhes dou testemunho de que eles têm zelo por Deus, mas não com entendiment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3 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Porquanto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, desconhecendo a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justiça de Deus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, e procurando estabelecer a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sua própria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, não se sujeitaram à que vem de Deu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4 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Porque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 o fim da lei é Cristo, para  justiça de todo aquele que crê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5 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Ora,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 Moisés escreveu que o homem que praticar a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justiça decorrente da lei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 viverá por el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6  </a:t>
            </a: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Mas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justiça decorrente da fé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 assim diz: Não perguntes em teu coração: Quem subirá ao céu? (isto é, para trazer do alto a Cristo;) [Dt 30.12-14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858920" y="1125360"/>
            <a:ext cx="3878280" cy="5112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ssunto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: salvação dos Judeus – empenho de Paulo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mic Sans MS"/>
              </a:rPr>
              <a:t>Razão do empenho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ão sinceros, mas sem entendimen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Prova da falta de entendimento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33"/>
              </a:buClr>
              <a:buSzPct val="90000"/>
              <a:buFont typeface="Times New Roman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Justiça de Deus vs. Justiça Próp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33"/>
              </a:buClr>
              <a:buSzPct val="90000"/>
              <a:buFont typeface="Times New Roman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Não percebem que o objetivo, propósito, da lei é Cris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33"/>
              </a:buClr>
              <a:buSzPct val="90000"/>
              <a:buFont typeface="Times New Roman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Não vêem que Moisés já ensinou que existe diferença entre a justiça decorrente da lei e a justiça decorrente da fé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16360" y="6237360"/>
            <a:ext cx="40514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66"/>
                </a:solidFill>
                <a:latin typeface="Arial"/>
              </a:rPr>
              <a:t>Salvação é sempre pela fé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6:12:46Z</dcterms:created>
  <dc:creator>Solano Portela</dc:creator>
  <dc:description/>
  <dc:language>en-US</dc:language>
  <cp:lastModifiedBy>Solano</cp:lastModifiedBy>
  <cp:lastPrinted>2002-09-20T16:53:43Z</cp:lastPrinted>
  <dcterms:modified xsi:type="dcterms:W3CDTF">2003-08-20T21:36:48Z</dcterms:modified>
  <cp:revision>83</cp:revision>
  <dc:subject/>
  <dc:title>Integridade Mars</dc:title>
</cp:coreProperties>
</file>