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5051-9D10-4C01-8C2E-9E6ECF6AAF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inar esse tema - 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TEGR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a bela cidade de Manaus, que aprendemos a a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 e na qual temos tantos irmãos e ami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remos examinando este assunto partindo do ponto de vista 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é Crist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que a nossa fonte de ensino e de autoridade sã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crituras Sagradas, do Antigo e do Novo Tes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aior parte de nossas citações serão feitas da NVI-Nova Versã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casionalmente, utilizaremos a ARA (Alm. Revistae Atualiz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cemos pelo princípi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próximo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7CC-9D62-4AF7-A549-45612622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98B-7A47-4A06-A58C-CEBD7A20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632-BA6B-42C9-86F6-99307C18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7C9-CCD6-462A-BA07-935A261B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465E-DAD9-4BD1-86E3-91725A49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3F6E-CE85-4800-B375-07608F72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E7E4-4096-41F2-88DA-0F630F17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9214-6571-4DA1-8CBB-5BD99EC7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983F-FE3B-49BD-A0AA-2FF0A99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E2E-E0A1-4510-9B06-38BCA911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43D7-3407-4740-AC76-98D8C5EA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17F-A057-4661-A8C5-7EE85017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4B19-9F1B-4A75-9321-3AA95B8B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6BA-B00E-411E-8D88-A74F7A8E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86AA-73CA-43B5-AFC5-8C849CE6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4CC4-1C71-4BAC-82CE-24248B32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5052-BD5F-40AF-A4D7-3025D9DD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048-C49F-4222-90DC-2979C715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E96-8B7D-4596-980E-87A35EE0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80A-D333-4E98-B62D-3443944E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086-A2B7-4A86-9BA6-E4910C61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B64-DDA3-4A8A-9AC8-E0CD338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4BA-D9CA-490E-A64B-9363228D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F05-488C-4101-B7F4-F8DEAC6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EBDB-85D8-4066-9826-BD961D563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B475-5F51-4499-99CD-23C9BAFF2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692360" y="1006560"/>
            <a:ext cx="5866920" cy="4582800"/>
            <a:chOff x="1692360" y="1006560"/>
            <a:chExt cx="5866920" cy="4582800"/>
          </a:xfrm>
        </p:grpSpPr>
        <p:sp>
          <p:nvSpPr>
            <p:cNvPr id="95" name=""/>
            <p:cNvSpPr/>
            <p:nvPr/>
          </p:nvSpPr>
          <p:spPr>
            <a:xfrm rot="16200000">
              <a:off x="847440" y="185112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I a I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. Não terás outros deuses diante de mim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2. Não farás para ti imagem de escultur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3. Não tomarás o nome do Senhor teu Deus em vã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4. Lembra-te do dia de Sábado (de descanso) para o santificar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3821040" y="185112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V a 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5. Honrarás ao teu pai e à tua Mã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6. Não Ma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7. Não adulter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8. Não fur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9. Não dirás falso testemunh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0. Não cobiç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60200"/>
            <a:ext cx="8534160" cy="8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obiç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052280"/>
            <a:ext cx="83059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Desejo intenso. Pecado, quan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mic Sans MS"/>
              </a:rPr>
              <a:t>Direcionado ao que é er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Comic Sans MS"/>
              </a:rPr>
              <a:t>Acompanhado de Ans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mic Sans MS"/>
              </a:rPr>
              <a:t>Evidencia falta de submissão aos planos de Deus Fp 4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Devemos desejar intensamente, as coisas bo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mic Sans MS"/>
              </a:rPr>
              <a:t>1 Co 14.1; Hb 11.16; 1 Pe 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Segredo da vida serena e tranquila: </a:t>
            </a:r>
            <a:r>
              <a:rPr b="1" i="1" lang="pt-BR" sz="2800" spc="-1" strike="noStrike">
                <a:solidFill>
                  <a:srgbClr val="ffff00"/>
                </a:solidFill>
                <a:latin typeface="Comic Sans MS"/>
              </a:rPr>
              <a:t>Estar contente e satisfeito, em qualquer situação adversa, confiantes em Cristo e nos propósitos de Deus – Fp. 4.11-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A lição de Cristo</a:t>
            </a:r>
            <a:r>
              <a:rPr b="1" i="1" lang="pt-BR" sz="2800" spc="-1" strike="noStrike">
                <a:solidFill>
                  <a:srgbClr val="ffff00"/>
                </a:solidFill>
                <a:latin typeface="Comic Sans MS"/>
              </a:rPr>
              <a:t>: Mt 6.25-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onclusã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765000"/>
            <a:ext cx="77724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Recapitulando nossos deveres para com De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Lc 17.7-10</a:t>
            </a: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7280" y="3213000"/>
            <a:ext cx="8748720" cy="3384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Qual de vós, tendo um servo ocupado na lavoura ou em guardar o gado, lhe dirá quando ele voltar do campo: Vem já e põe-te à mesa? E que, antes, não lhe diga: Prepara-me a ceia, cinge-te e serve-me, enquanto eu como e bebo; depois, comerás tu e beberás? Porventura, terá de agradecer ao servo porque este fez o que lhe havia ordenado? Assim também vós, depois de haverdes feito quanto vos foi ordenado, dizei: Somos servos inúteis, porque fizemos apenas o que devíamos faze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020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cc66"/>
                </a:solidFill>
                <a:latin typeface="Arial"/>
              </a:rPr>
              <a:t>A Lei de Deus e Sua Aplicação Hoje</a:t>
            </a: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Solano Portela</a:t>
            </a:r>
            <a:br>
              <a:rPr sz="3200"/>
            </a:b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Agosto de 2003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Igreja Presbiteriana Ebenézer – São Pau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5587920"/>
            <a:ext cx="8497800" cy="649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197000"/>
            <a:ext cx="6553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Nosso Roteiro</a:t>
            </a:r>
            <a:br>
              <a:rPr sz="48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(quatro palestras)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349360"/>
            <a:ext cx="817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trodução à questão da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ei e d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bsolutos de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ês Aspectos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da Lei de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ei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us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Gra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 Cristão e 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ez Manda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A importância do Décimo Mand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257560"/>
            <a:ext cx="8207280" cy="201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 Décimo Mandamento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“Não Cobiçarás”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60280"/>
            <a:ext cx="77724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Sl 119.36 “Inclina-me o coração aos teus testemunhos, e não à cobiça”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i="1" lang="pt-BR" sz="3200" spc="-1" strike="noStrike">
                <a:solidFill>
                  <a:srgbClr val="ffff00"/>
                </a:solidFill>
                <a:latin typeface="Comic Sans MS"/>
              </a:rPr>
              <a:t>COBIÇA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 é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realmente, um problem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Como ela se manifesta,em nossos di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Afeta ricos e po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Ex.: Jogo (do Bicho, Bingos, Loteri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2920" y="879480"/>
            <a:ext cx="889308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No Bra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Jogo legalizado – 3,8 bilhões de US$/mê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Cassinos clandestinos - + 1 bilh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Nos Estados Un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Americanos gastam 638,6 bilhões por ano com a joga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37 dos 51 estados possuem lote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Bingos de igrejas – 1,6 bilhões por 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De N. York para Atlantic City – 9 milhões de pessoas por ano (idosos) em ônibus especiai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556272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lguns dados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1320840"/>
            <a:ext cx="766908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Força motivadora, quando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não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se tem, ou quando se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erde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o objetivo de servir a D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Move o homem mais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rico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para tornar-se mais rico ai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Move o mais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obre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, por não enxergar que a solução dos seus problemas está nas mãos de De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esente nos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anúncios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para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consumo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irrespons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esente nas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ropagandas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do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lucro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fác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esente nas </a:t>
            </a: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igrejas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que oferecem bênçãos materiais como barganha e troca com D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RAIZ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– descaso pelas coisas que realmente cont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0643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biça, não é só jogo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50920" y="260280"/>
            <a:ext cx="5866920" cy="4582800"/>
            <a:chOff x="250920" y="260280"/>
            <a:chExt cx="5866920" cy="4582800"/>
          </a:xfrm>
        </p:grpSpPr>
        <p:sp>
          <p:nvSpPr>
            <p:cNvPr id="113" name=""/>
            <p:cNvSpPr/>
            <p:nvPr/>
          </p:nvSpPr>
          <p:spPr>
            <a:xfrm rot="16200000">
              <a:off x="-593640" y="110484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I a I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. Não terás outros deuses diante de mim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2. Não farás para ti imagem de escultur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3. Não tomarás o nome do Senhor teu Deus em vã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4. Lembra-te do dia de Sábado (de descanso) para o santificar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2379600" y="110484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V a 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5. Honrarás ao teu pai e à tua Mã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6. Não Ma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7. Não adulter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8. Não fur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9. Não dirás falso testemunh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0. Não cobiç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295800" y="4417920"/>
            <a:ext cx="2735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06920" y="189000"/>
            <a:ext cx="3529080" cy="3887640"/>
          </a:xfrm>
          <a:prstGeom prst="wedgeRoundRectCallout">
            <a:avLst>
              <a:gd name="adj1" fmla="val -109601"/>
              <a:gd name="adj2" fmla="val 40120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Os Primeiros Nove Mandamento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– Alguém pode sempre dar a impressão de que está cumprindo a cada um d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557360"/>
            <a:ext cx="2519280" cy="3022560"/>
          </a:xfrm>
          <a:prstGeom prst="lightningBolt">
            <a:avLst/>
          </a:prstGeom>
          <a:gradFill rotWithShape="0">
            <a:gsLst>
              <a:gs pos="0">
                <a:srgbClr val="ffff00"/>
              </a:gs>
              <a:gs pos="100000">
                <a:srgbClr val="ff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084640"/>
            <a:ext cx="849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epresenta “o Espírito da Lei” – Mt 5.21-3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Se inicia e termina no Coração – 1 Sm 16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obiça externada, é quebra de um outro mandamento – Mc 15.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4437000"/>
            <a:ext cx="2160720" cy="1368360"/>
          </a:xfrm>
          <a:custGeom>
            <a:avLst/>
            <a:gdLst>
              <a:gd name="textAreaLeft" fmla="*/ 289440 w 2160720"/>
              <a:gd name="textAreaRight" fmla="*/ 1871280 w 216072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77128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 Jovem Rico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obiçava a sua Riqueza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teus 19.16-22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260280"/>
            <a:ext cx="8750160" cy="63374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 E eis que, aproximando-se dele um jovem, disse-lhe: Bom Mestre, que bem farei, para conseguir a vida eterna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  E ele disse-lhe: Por que me chamas bom? Não há bom, senão um só que é Deus. Se queres, porém, entrar na vida, guarda os manda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18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 Disse-lhe ele: Quais? E Jesus disse: Não matarás, não cometerás adultério, não furtarás, não dirás falso testemunho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  honra teu pai e tua mãe, e amarás o teu próximo como a ti mesm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  Disse-lhe o jovem: Tudo isso tenho guardado desde a minha mocidade; que me falta ainda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  Disse-lhe Jesus: Se queres ser perfeito, vai, vende tudo o que tens, dá-o aos pobres e terás um tesouro no céu; e vem e segue-m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omic Sans MS"/>
              </a:rPr>
              <a:t>22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  E o jovem, ouvindo essa palavra, retirou-se triste, porque possuía muitas propriedad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6:12:46Z</dcterms:created>
  <dc:creator>Solano Portela</dc:creator>
  <dc:description/>
  <dc:language>en-US</dc:language>
  <cp:lastModifiedBy>Solano</cp:lastModifiedBy>
  <cp:lastPrinted>2002-09-20T16:53:43Z</cp:lastPrinted>
  <dcterms:modified xsi:type="dcterms:W3CDTF">2003-08-27T05:12:32Z</dcterms:modified>
  <cp:revision>84</cp:revision>
  <dc:subject/>
  <dc:title>Integridade Mars</dc:title>
</cp:coreProperties>
</file>