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C227-6660-439D-A6F9-6C4D01F9D5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2F1-B206-4E06-805A-92DD70BB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778-7B5E-4BD3-BA7B-1DBCA045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D52-FC91-49C3-A1EA-7D0E3296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24D-46AB-4B26-8856-BB927730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57FE-1D81-4BBF-BB22-B2281710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D38B-4739-4568-B6F8-34670B5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9892-717D-47AB-9273-76EB59A5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F81-4C7D-4670-BED8-85436D34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56D9-6142-4EFC-8FDC-02B790B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EC33-E03E-447C-A280-4DB9145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396A-6ACD-4691-AC56-E89C92A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5F1-BC67-4359-9024-F04DB501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C29-E3D7-4CC4-9D1D-7DC80E0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A50A-3620-4085-B3C8-3EFEAEF2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5F9-3610-4DBD-8FA3-7AF5E64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B0AF-6657-4A07-9D59-822EB910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FDFE-B315-4DDD-901F-6CC4E7AE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6F7-9F2E-41EF-8085-57F3127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2FA-D305-41F4-8F14-722CDB47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5B1-4634-4D86-98D4-D97CF6C0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F20-E468-4D87-8114-3B53447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358-0745-4980-A041-5129C8E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47B-74F5-45E9-B567-720EBB4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0D6-FB76-4925-A04A-3C20BE8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8905-760A-4F75-B118-9B12A6591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02FF-8853-43B6-9E40-FBF720567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0200" y="96984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cc66"/>
                </a:solidFill>
                <a:latin typeface="Arial"/>
              </a:rPr>
              <a:t>Prioridades na Vida</a:t>
            </a:r>
            <a:br>
              <a:rPr sz="66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Seminário Local </a:t>
            </a: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Haggai</a:t>
            </a: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Solano Portela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São Paulo - Agosto de 200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8920" y="11592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incípios em Efésios 5:15 a 6: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 Busco SABEDORIA para tomar decisões prá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7240" y="2708280"/>
            <a:ext cx="7772400" cy="289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f 5.15 e 16 - “Portanto, vede prudentemente como andais, não como néscios e, sim, como sábios, remindo o tempo, porque os dias são maus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5805360"/>
            <a:ext cx="77724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É necessário crescer em nossa habilidade de tomar decisões com sabed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3672000" cy="5308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71640" y="620640"/>
            <a:ext cx="28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ualizando os caminhos da vida e estabelecendo prioridades bem sucedida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982400">
            <a:off x="1979640" y="434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Intelig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867800">
            <a:off x="4066560" y="4508640"/>
            <a:ext cx="23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abed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998800">
            <a:off x="3354480" y="525348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Conhec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3645000"/>
            <a:ext cx="2592360" cy="2376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 a Dir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ír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a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40000" y="44280"/>
            <a:ext cx="3672000" cy="5308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71640" y="404640"/>
            <a:ext cx="28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ualizando os caminhos da vida e estabelecendo prioridades bem sucedida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982400">
            <a:off x="295560" y="4587480"/>
            <a:ext cx="38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mic Sans MS"/>
              </a:rPr>
              <a:t>Inteligência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– habilidade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de pen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848000">
            <a:off x="3778920" y="479700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mic Sans MS"/>
              </a:rPr>
              <a:t>Sabedoria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– aplicação do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998800">
            <a:off x="3150720" y="4929840"/>
            <a:ext cx="27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mic Sans MS"/>
              </a:rPr>
              <a:t>Conhecimento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informação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adqui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2205000"/>
            <a:ext cx="2592360" cy="2376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 a Dir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ír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a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8920" y="11592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incípios em Efésios 5:15 a 6: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 Procuro CONHECER a vontade de Deus com bom sen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240" y="2708280"/>
            <a:ext cx="7772400" cy="23050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f 5.17 - “Por esta razão, não vos torneis insensatos, mas procurai compreender qual a vontade do Senhor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5229360"/>
            <a:ext cx="8208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Insensato – ignorante, rebelde, tolo, emo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Sensato – conhecimento, submissão, sabedoria, dirige-se por princíp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8920" y="11592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incípios em Efésios 5:15 a 6: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 Sou guiado pelo Espírito Sant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240" y="2205000"/>
            <a:ext cx="7772400" cy="23050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f 5.18 - “E não vos embriagueis com vinho, no qual há dissolução, mas enchei-vos do Espírito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4797360"/>
            <a:ext cx="8208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408240" indent="-40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Note o contraste: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embriaguez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 vs.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sobrie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Rm 12.1-2: “culto racional”; “transformação” em vez de “conformaçã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1 Pe 1.14: “amoldar ao mundo” = “ignorânci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8920" y="36000"/>
            <a:ext cx="853416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incípios em Efésios 5:15 a 6: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5964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3300"/>
                </a:solidFill>
                <a:latin typeface="Comic Sans MS"/>
              </a:rPr>
              <a:t>4.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 Coloco as pessoas acima das COISA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57360"/>
            <a:ext cx="428472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. Vida Espiritual. 5.17-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637000"/>
            <a:ext cx="4284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. Vida Matrimonial. 5.22-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718080"/>
            <a:ext cx="4284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. Vida Familiar. 6.1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22920"/>
            <a:ext cx="4284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. Vida Profissional. 6.5-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921280"/>
            <a:ext cx="428472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. Vida Ministerial. 6.10-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557360"/>
            <a:ext cx="428472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D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637000"/>
            <a:ext cx="428472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CÔNJU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3718080"/>
            <a:ext cx="428472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. FILHOS / FAMÍ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4822920"/>
            <a:ext cx="428472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. TRABAL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5921280"/>
            <a:ext cx="428472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. IGRE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0360" y="1197000"/>
            <a:ext cx="3168720" cy="2952720"/>
          </a:xfrm>
          <a:prstGeom prst="star5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 Tm 3.1-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916280"/>
            <a:ext cx="4284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Quatro Níveis de Administração Pessoal do TEMP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 acordo com Stephen Covey – “First Things First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060640"/>
            <a:ext cx="83844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024360"/>
            <a:ext cx="4284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CALEND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Age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105440"/>
            <a:ext cx="4284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T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210280"/>
            <a:ext cx="4284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GESTÃO dos PAP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944720"/>
            <a:ext cx="428472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exível. Dá para organiz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isas importantes vs ur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3024360"/>
            <a:ext cx="428472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tas e planejamento. Eficá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genda acima das pesso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4105440"/>
            <a:ext cx="428472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alores -&gt; em Metas e 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uca flexi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5210280"/>
            <a:ext cx="428472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os pesso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relacionamentos. Priorizar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ssoas e DEPOIS definir agen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820440" cy="1152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484360" y="4160880"/>
            <a:ext cx="771480" cy="857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691080" y="5229360"/>
            <a:ext cx="593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Hora do Almoço…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12:10      13: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9800" y="1197000"/>
            <a:ext cx="68256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1360" y="1916280"/>
            <a:ext cx="4221360" cy="4608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292428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fff00"/>
                </a:solidFill>
                <a:latin typeface="Comic Sans MS"/>
              </a:rPr>
              <a:t>AGORA...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ULA 2 – OBJETIVOS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Ilustrar o relacionamento entre nossos PAPÉIS e DEVERES, no estabelecimento de nossas PRIORIDADE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Direcionar nossa concentração a DEUS, nossa fonte de po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Fazer uma auto-avaliação para sermos mais responsávei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onde Deus nos coloc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236160"/>
            <a:ext cx="8209080" cy="13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DECISÕES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 Dificuldades e Tensõe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1557360"/>
            <a:ext cx="25146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No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V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421000"/>
            <a:ext cx="8748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Podemos comparar nossa vida com um </a:t>
            </a:r>
            <a:r>
              <a:rPr b="1" i="1" lang="pt-BR" sz="3600" spc="-1" strike="noStrike">
                <a:solidFill>
                  <a:srgbClr val="ffff00"/>
                </a:solidFill>
                <a:latin typeface="Comic Sans MS"/>
              </a:rPr>
              <a:t>BANQUIN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O tampo –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Quatro Perna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Comic Sans MS"/>
              </a:rPr>
              <a:t>Famí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Trabalho (escol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Comunidade (igrej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La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78000" y="106200"/>
            <a:ext cx="4788000" cy="6643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38280" y="304920"/>
            <a:ext cx="4267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is os Papéis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emos em nossa vid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73320" y="115560"/>
            <a:ext cx="7619760" cy="13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O BANQUINHO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900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19640" y="1844640"/>
            <a:ext cx="26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mic Sans MS"/>
              </a:rPr>
              <a:t>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433080" y="439920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Famí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450520" y="403884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rabal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350240" y="4155480"/>
            <a:ext cx="26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Comun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5906160" y="35341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La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-100440"/>
            <a:ext cx="8534160" cy="12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ercício 1 – Estudo de Ca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8985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Comic Sans MS"/>
              </a:rPr>
              <a:t>Existe uma tensão entre as quatro pernas do banquinho 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temos que tomar decisões – alguns cas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Comic Sans MS"/>
              </a:rPr>
              <a:t>Família e comunidade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 -  filho com 40 gr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aus de febr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Comic Sans MS"/>
              </a:rPr>
              <a:t>Família e trabalho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filho com 40 gráus de febr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Comic Sans MS"/>
              </a:rPr>
              <a:t>Lazer e trabalho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 – você tem um ataque cardíaco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Comic Sans MS"/>
              </a:rPr>
              <a:t>Trabalho e família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 – jogo vs. reunião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Comic Sans MS"/>
              </a:rPr>
              <a:t>Comunidade e família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 – ensino de uma classe de Escola Dominical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Comic Sans MS"/>
              </a:rPr>
              <a:t>Comunidade e trabalho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 – aceita ser síndico?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6093000"/>
            <a:ext cx="4103640" cy="69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rupos de 4 - 15 min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9880" y="115560"/>
            <a:ext cx="7619760" cy="13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erente quantidade de tempo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ara nossos diferentes PAPÉI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8320" y="1557360"/>
            <a:ext cx="3235320" cy="1440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Veja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rim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xercí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357720"/>
            <a:ext cx="874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Relação de Papéis. Cada PAP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EL exige um investimento de tempo difer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Marque, na semana, QUANDO você exerce cada papel, em sua vi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13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Fonte do Poder está no CENTRO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Deus está sempre no Centro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1120" y="60930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2016000"/>
            <a:ext cx="8136000" cy="38610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fésios 5.18-21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 - “E não vos embriagueis com vinho, no qual há dissolução, mas enchei-vos do Espírito, falando entre vós com salmos, entoando e louvando de coração ao Senhor, com hinos e cânticos espirituais, dando sempre graças por tudo a nosso Deus e Pai, em nome do nosso Senhor Jesus Cristo, sujeitando-vos uns aos outros no temor de Cristo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13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Fonte do Poder está no CENTRO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Deus está sempre no Centro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1120" y="60930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2016000"/>
            <a:ext cx="8136000" cy="38610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fésios 5 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mic Sans MS"/>
              </a:rPr>
              <a:t>Cheios do Espír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lacionamento com o Cônju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lacionamento Pais e Filh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lacionamento Patrão-Empreg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 “quanto ao mais” – Vida Minis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13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Fonte do Poder está no CENTRO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Deus está sempre no Centro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1120" y="60930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21040" y="1584360"/>
            <a:ext cx="5400360" cy="5113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8680" y="2160720"/>
            <a:ext cx="4103640" cy="40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4680" y="2808360"/>
            <a:ext cx="2953080" cy="27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3384720"/>
            <a:ext cx="1655640" cy="1584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0050800">
            <a:off x="1460520" y="4689000"/>
            <a:ext cx="2736720" cy="784440"/>
          </a:xfrm>
          <a:prstGeom prst="rightArrow">
            <a:avLst>
              <a:gd name="adj1" fmla="val 50000"/>
              <a:gd name="adj2" fmla="val 8721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338600">
            <a:off x="5219280" y="4598640"/>
            <a:ext cx="2737080" cy="792000"/>
          </a:xfrm>
          <a:prstGeom prst="rightArrow">
            <a:avLst>
              <a:gd name="adj1" fmla="val 50000"/>
              <a:gd name="adj2" fmla="val 86398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SERV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76680" y="1657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Ministé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76680" y="2376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rofi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47960" y="2952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Famí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76680" y="3889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D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13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8.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 necessário Disciplina!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ara termos alvos e executá-l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628640"/>
            <a:ext cx="8893080" cy="48960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clesiastes 3.1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 - “Tudo tem seu tempo determinado, e há tempo para todo propósito debaixo do Céu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Tiago 4.13-15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 - “Atendei agora, vós que dizeis: Hoje, ou amanhã, iremos para a cidade tal, e lá passaremos um ano e negociaremos e teremos lucros. Vós não sabeis o que sucederá amanhã. Que é a vossa vida? Sois apenas como neblina que aparece por instante e logo se dissipa. Em vez disso, devíeis dizer: Se o Senhor quiser, não só viveremos, como faremos isto ou aquilo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1120" y="60930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-100080"/>
            <a:ext cx="853416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UTO AVALI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8317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xamine a relação dos OITO princípios que estudamo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871640"/>
            <a:ext cx="9144000" cy="498636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usco Sabedoria, para tomar decisões pr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rocuro compreender a vontade de Deus, com bom sen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 Espírito Santo me gu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loco as pessoas antes das coi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dministro a tensão entre família, trabalho, comunidade e la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stou alocando o devido tempo para os meus diferentes pap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a crise, vou para o centro. Na fartura, sirvo com po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erço a disciplina para estabelecar metas 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ecutá-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9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9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-100080"/>
            <a:ext cx="853416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UTO AVALI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555920"/>
            <a:ext cx="83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xamine a relação dos OITO princípios que estudamo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Marque onde você está, neste mo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Compartilhe dois pedidos de oração com a pessoa ao lado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4360" y="44280"/>
            <a:ext cx="76197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ito Obrigado pela oportunidade de ministrar e por toda a atenção recebi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64000" y="5445000"/>
            <a:ext cx="3384720" cy="141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lano@portela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ULA 1 – OBJETIVO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74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Conscientizar a todos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que temos PAPÉIS em nossas vi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les exi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les são import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les nos auxiliam a definir nossas prioridades e a administração do t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Devemos buscar a Deus e seus princípios na definição de nossas prioridad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1976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Papéis – O que são?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3262320"/>
            <a:ext cx="8893080" cy="29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finidos por noss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LACIONAMEN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 Famíl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Cônjuge, pai, filho, tio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 Profiss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Funcionário, colega, concorrent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 Comunida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Vizinho, amigo, síndico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mbro da Igreja, líder de grupo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1397160"/>
            <a:ext cx="25146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Papéis em 1 Tm 3.1-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733560"/>
            <a:ext cx="8294760" cy="28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Times New Roman"/>
              </a:rPr>
              <a:t>Na Igreja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 – Líder (“Se alguém deseja…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Times New Roman"/>
              </a:rPr>
              <a:t>No Lar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 – Cônjuge (“esposo de uma só mulher…”) 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e Pai (“criando os filhos com toda disciplina…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Times New Roman"/>
              </a:rPr>
              <a:t>Na Comunidade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 – Vizinho e cidadão (“é necessário 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que tenha bom testemunho dos de fora…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260440"/>
            <a:ext cx="34290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Líd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4328640"/>
            <a:ext cx="762012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Arial"/>
              </a:rPr>
              <a:t>Entre os Papéis de sua vida</a:t>
            </a:r>
            <a:br>
              <a:rPr sz="4400"/>
            </a:br>
            <a:r>
              <a:rPr b="1" i="1" lang="pt-BR" sz="4400" spc="-1" strike="noStrike">
                <a:solidFill>
                  <a:srgbClr val="ffcc66"/>
                </a:solidFill>
                <a:latin typeface="Arial"/>
              </a:rPr>
              <a:t>e as </a:t>
            </a:r>
            <a:r>
              <a:rPr b="1" i="1" lang="pt-BR" sz="4400" spc="-1" strike="noStrike">
                <a:solidFill>
                  <a:srgbClr val="ff3300"/>
                </a:solidFill>
                <a:latin typeface="Arial"/>
              </a:rPr>
              <a:t>Prioridades</a:t>
            </a:r>
            <a:r>
              <a:rPr b="1" i="1" lang="pt-BR" sz="4400" spc="-1" strike="noStrike">
                <a:solidFill>
                  <a:srgbClr val="ffcc66"/>
                </a:solidFill>
                <a:latin typeface="Arial"/>
              </a:rPr>
              <a:t>, no seu horário sema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836640"/>
            <a:ext cx="7490160" cy="282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ense 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o seu red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Há 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lacion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ercício 1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Quais os papéis que você está exercendo (pense nas pessoas que lhe cercam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Na vida conjugal e famili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Na vida estudantil e profis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Na vida comunitária e da igre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5950080"/>
            <a:ext cx="1800000" cy="83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0 min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ercício 2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94120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Quais os dez papeis mais importantes em sua vi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Discuta com a pessoa ao seu lado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5950080"/>
            <a:ext cx="1800000" cy="83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0 min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82872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finindo Prioridad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94120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Primeiro, preciso d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iscernir PRINCÍP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Depois, tomo DECISÕES práticas sobre a administração do meu tem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6:12:46Z</dcterms:created>
  <dc:creator>Solano Portela</dc:creator>
  <dc:description/>
  <dc:language>en-US</dc:language>
  <cp:lastModifiedBy>Solano</cp:lastModifiedBy>
  <cp:lastPrinted>2002-09-20T16:53:43Z</cp:lastPrinted>
  <dcterms:modified xsi:type="dcterms:W3CDTF">2003-08-16T04:38:06Z</dcterms:modified>
  <cp:revision>77</cp:revision>
  <dc:subject/>
  <dc:title>Integridade Mars</dc:title>
</cp:coreProperties>
</file>