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198-E704-43E1-9575-F99A1849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155240" y="3921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044-4D72-4636-B787-853C3970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55240" y="3921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469840" y="3921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E63-6C45-4B3E-9C25-786D5553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02480" y="17715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9360" y="17715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55240" y="3921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4002480" y="3921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849360" y="3921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034-ED4F-4A40-BA98-58F45B17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67FA-DBFF-4921-AA07-127591CA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55240" y="1771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1E48-7AAC-446D-9020-DFD8C457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469A-E613-4E1A-BDF9-1FAF52F3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6DD0-BF58-480E-AD76-2422A312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B53B-A0E5-40A1-BFDD-266B60D2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55240" y="39960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CE6C-0976-47D5-BC6C-58FEE14C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55240" y="3921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5D68-C8B1-45A4-8260-072E6600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155240" y="1771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A3B-2A58-4642-ABB3-CBD4257B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469840" y="3921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7B5E-142C-4B0A-9B17-A41B818E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55240" y="3921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1520-8051-43A0-AAD0-132EB597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155240" y="3921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FDD5-D1B7-49A6-9EBD-5010A615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55240" y="3921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469840" y="3921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BFD6-26AB-4CEE-AF89-6CE27F06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02480" y="17715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49360" y="17715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155240" y="3921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02480" y="3921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849360" y="3921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ECB1-EF92-4905-A4AC-A5B628B4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B35-2E64-49DB-9933-13E1CE76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B47-8D99-44E6-99A1-0A1E846D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6EA-E6BE-4B7D-B5C7-0AF46014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55240" y="39960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B8C-E16A-4185-96C2-421BBAC1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55240" y="3921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465-3658-4DA3-A713-983DD0F6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469840" y="3921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AAD-1148-4193-89AE-468707B5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52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9840" y="17715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55240" y="3921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2A7-DB3D-4206-969F-A383A73F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9669960" cy="6743520"/>
            <a:chOff x="0" y="50760"/>
            <a:chExt cx="966996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9669960" cy="6743520"/>
              <a:chOff x="0" y="50760"/>
              <a:chExt cx="966996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72760" y="201960"/>
                <a:ext cx="90972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27944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646920" y="4129920"/>
                <a:ext cx="112788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27944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244880" y="1543680"/>
              <a:ext cx="8388360" cy="4800600"/>
              <a:chOff x="1244880" y="1543680"/>
              <a:chExt cx="838836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244880" y="15436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244880" y="17722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44880" y="200052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244880" y="22294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44880" y="24580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244880" y="268632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244880" y="29152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244880" y="31438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244880" y="337212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44880" y="36010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244880" y="38296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244880" y="405792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244880" y="42868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244880" y="45154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244880" y="474372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244880" y="49726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244880" y="52012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244880" y="542952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244880" y="56584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244880" y="58870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44880" y="611532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44880" y="6344280"/>
                <a:ext cx="838836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5240" y="399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155240" y="1771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128240" y="6157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797280" y="615780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7512120" y="62452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EFB1-A338-4C32-A762-6CAFAEE8B30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73120" y="201600"/>
            <a:ext cx="90979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27944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46200" y="4130640"/>
            <a:ext cx="11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211040" y="6114600"/>
            <a:ext cx="20905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852720" y="6114600"/>
            <a:ext cx="3081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594200" y="611460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786D-7B4D-481A-A78A-8633308437C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ocument"/>
          <p:cNvSpPr/>
          <p:nvPr/>
        </p:nvSpPr>
        <p:spPr>
          <a:xfrm>
            <a:off x="4292640" y="671400"/>
            <a:ext cx="5302080" cy="5945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rtinho Lutero escreveu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ão aconselho ninguém a enviar os seus filhos para essas escolas onde as Sagradas Escrituras não reinam. Qualquer um que não se ocupe incessantemente com a Palavra de Deus, certamente se tornará corrupto. Conseqüentemente, devemos estar sempre vigiando o que acontecerá com as pessoas que estão nas escolas superiores... Temo que essas instituições de educação superior são portas abertas para o inferno, se não ensinarem diligentemente as Sagradas Escrituras e as colocarem nas mentes dos joven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1560" y="122040"/>
            <a:ext cx="872676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3. </a:t>
            </a:r>
            <a:r>
              <a:rPr b="0" lang="pt-BR" sz="3200" spc="-1" strike="noStrike">
                <a:solidFill>
                  <a:srgbClr val="221304"/>
                </a:solidFill>
                <a:latin typeface="Times New Roman"/>
              </a:rPr>
              <a:t>Utilize currículos cristãos, ou livros-texto cristão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3000" y="966960"/>
            <a:ext cx="3108240" cy="4511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20600" y="5811840"/>
            <a:ext cx="436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221304"/>
                </a:solidFill>
                <a:latin typeface="Times New Roman"/>
              </a:rPr>
              <a:t>Integrando a Fé</a:t>
            </a:r>
            <a:r>
              <a:rPr b="0" lang="pt-BR" sz="2000" spc="-1" strike="noStrike">
                <a:solidFill>
                  <a:srgbClr val="221304"/>
                </a:solidFill>
                <a:latin typeface="Times New Roman"/>
              </a:rPr>
              <a:t> – Concórdia</a:t>
            </a:r>
            <a:br>
              <a:rPr sz="2000"/>
            </a:br>
            <a:r>
              <a:rPr b="0" lang="pt-BR" sz="2000" spc="-1" strike="noStrike">
                <a:solidFill>
                  <a:srgbClr val="221304"/>
                </a:solidFill>
                <a:latin typeface="Times New Roman"/>
              </a:rPr>
              <a:t>http://</a:t>
            </a:r>
            <a:r>
              <a:rPr b="1" lang="pt-BR" sz="2000" spc="-1" strike="noStrike">
                <a:solidFill>
                  <a:srgbClr val="221304"/>
                </a:solidFill>
                <a:latin typeface="Times New Roman"/>
              </a:rPr>
              <a:t>www.editoraconcordia.com.br/</a:t>
            </a:r>
            <a:r>
              <a:rPr b="0" lang="pt-BR" sz="2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4311720" y="679320"/>
            <a:ext cx="5302080" cy="5945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.. Todos aqueles que foram trazidos à fé em Jesus Cristo foram comissionados por ele para preservar e aumentar o Reino de Deus. Essa responsabilidade torna-se corporativa quando os cristãos se reúnem como congregaç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.. Educação Cristã – a aplicação de lei e evangelho a todos os aspectos da vida e do aprendizado – é um componente vital do ministério de cada congregação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.. Todos os conteúdos são ensinados por pessoas cristãs, que estão academicamente preparadas para ministrar um ensino sob o ponto de vista cristão. Os administradores e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educadores... Estão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comprometidos com a filosofia d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esco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D11D-2C9D-4414-A061-91148633EE53}" type="slidenum">
              <a:t>1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31480" y="105840"/>
            <a:ext cx="836460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5. </a:t>
            </a:r>
            <a:r>
              <a:rPr b="0" lang="pt-BR" sz="4400" spc="-1" strike="noStrike">
                <a:solidFill>
                  <a:srgbClr val="221304"/>
                </a:solidFill>
                <a:latin typeface="Times New Roman"/>
              </a:rPr>
              <a:t>Aplique a Disciplina Bíblica na Sala de Aula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1160" y="1741320"/>
            <a:ext cx="3122640" cy="4345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343400" y="1849320"/>
            <a:ext cx="4840200" cy="3448080"/>
          </a:xfrm>
          <a:prstGeom prst="leftArrow">
            <a:avLst>
              <a:gd name="adj1" fmla="val 50000"/>
              <a:gd name="adj2" fmla="val 3509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Um dos primeiros trabal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juntos, apoiando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scolas cristãs brasileir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ela ACSI e P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9000" y="60768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CSI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– www.acsilat.org/Publicaciones/Portugues/body_portugue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1080" y="2076480"/>
            <a:ext cx="4495680" cy="3048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or que discipl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essa área você p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fazer a diferença e imprim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rincípios de justiça e 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cristã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CB11-272D-4456-B6DD-39A0C7C8DA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31480" y="105840"/>
            <a:ext cx="836460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5. </a:t>
            </a:r>
            <a:r>
              <a:rPr b="0" lang="pt-BR" sz="4400" spc="-1" strike="noStrike">
                <a:solidFill>
                  <a:srgbClr val="221304"/>
                </a:solidFill>
                <a:latin typeface="Times New Roman"/>
              </a:rPr>
              <a:t>Aplique a Disciplina Bíblica na Sala de Aula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70080" y="1633680"/>
            <a:ext cx="3187800" cy="4876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343400" y="1849320"/>
            <a:ext cx="4840200" cy="4629240"/>
          </a:xfrm>
          <a:prstGeom prst="leftArrow">
            <a:avLst>
              <a:gd name="adj1" fmla="val 50000"/>
              <a:gd name="adj2" fmla="val 2613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obson é muito conhecido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tem um capítulo inteiro ded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à disciplina na esc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ditora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21304"/>
                </a:solidFill>
                <a:latin typeface="Times New Roman"/>
              </a:rPr>
              <a:t>www.editoravida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42C4-35B5-490C-AF24-E1EAAD42579B}" type="slidenum">
              <a:t>11</a:t>
            </a:fld>
          </a:p>
        </p:txBody>
      </p:sp>
    </p:spTree>
  </p:cSld>
  <p:transition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5240" y="17136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221304"/>
                </a:solidFill>
                <a:latin typeface="Times New Roman"/>
              </a:rPr>
              <a:t>Conclusã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25080" y="955440"/>
            <a:ext cx="842004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Perigo do Texto Secular: Mt 12.3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Raça de víboras! como podeis vós falar coisas boas, sendo maus? pois do que há em abundância no coração, disso fala a bo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nião – A necessidade de união na batalha comum:     1 Ts 4.9 (pesqui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Quanto, porém, ao amor fraternal, não necessitais de que se vos escreva, visto que vós mesmos sois instruídos por Deus a vos amardes uns aos ou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da verdade é verdade de Deus: 1 Tm 4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ois todas as coisas criadas por Deus são boas, e nada deve ser rejeitado se é recebido com ações de graç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84440" y="5824440"/>
            <a:ext cx="3835440" cy="662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uito Obri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olano@portel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7F0-A0A4-4BE0-8D18-1E07546DACCC}" type="slidenum">
              <a:t>12</a:t>
            </a:fld>
          </a:p>
        </p:txBody>
      </p:sp>
    </p:spTree>
  </p:cSld>
  <p:transition>
    <p:dissolv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3040" y="87120"/>
            <a:ext cx="87264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3. </a:t>
            </a:r>
            <a:r>
              <a:rPr b="0" lang="pt-BR" sz="3200" spc="-1" strike="noStrike">
                <a:solidFill>
                  <a:srgbClr val="221304"/>
                </a:solidFill>
                <a:latin typeface="Times New Roman"/>
              </a:rPr>
              <a:t>Utilize currículos cristãos, ou livros-texto cristão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5960" y="655560"/>
            <a:ext cx="9329760" cy="1569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21304"/>
                </a:solidFill>
                <a:latin typeface="Times New Roman"/>
              </a:rPr>
              <a:t>Currículo Cristão</a:t>
            </a:r>
            <a:r>
              <a:rPr b="0" i="1" lang="pt-BR" sz="2800" spc="-1" strike="noStrike">
                <a:solidFill>
                  <a:srgbClr val="221304"/>
                </a:solidFill>
                <a:latin typeface="Times New Roman"/>
              </a:rPr>
              <a:t> – Alguém está fazendo algo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221304"/>
                </a:solidFill>
                <a:latin typeface="Times New Roman"/>
              </a:rPr>
              <a:t>O exemplo da</a:t>
            </a:r>
            <a:r>
              <a:rPr b="1" i="1" lang="pt-BR" sz="2800" spc="-1" strike="noStrike">
                <a:solidFill>
                  <a:srgbClr val="221304"/>
                </a:solidFill>
                <a:latin typeface="Times New Roman"/>
              </a:rPr>
              <a:t> PACA</a:t>
            </a:r>
            <a:r>
              <a:rPr b="0" i="1" lang="pt-BR" sz="2800" spc="-1" strike="noStrike">
                <a:solidFill>
                  <a:srgbClr val="221304"/>
                </a:solidFill>
                <a:latin typeface="Times New Roman"/>
              </a:rPr>
              <a:t> – Academia Cristã Pan Americ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221304"/>
                </a:solidFill>
                <a:latin typeface="Times New Roman"/>
              </a:rPr>
              <a:t>A hora é essa: A ocasião da cooperação cristã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desk1"/>
          <p:cNvSpPr/>
          <p:nvPr/>
        </p:nvSpPr>
        <p:spPr>
          <a:xfrm>
            <a:off x="414360" y="2357280"/>
            <a:ext cx="3728880" cy="43434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mic Sans MS"/>
              </a:rPr>
              <a:t>Descrição do Curso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– Este curso abrange o estudo de alguns elementos do universo: estrelas, planetas, constelação e lua; das semelhanças entre os ambientes terrestres (floresta, cidade e campo) da preservação dos ambientes (reciclagem de lixo e água) e dos seres vivos que compõem esses ambientes – quais são, como se alimentam, como vivem e interagem um com os outros; sempre integrando os princípios bíblicos nos estu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mic Sans MS"/>
              </a:rPr>
              <a:t>PROBLEM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Como é feita essa integraçã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 descrição suscinta não tem muita diferença do currículo se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peso é jogado em cima do profess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Nas leituras paradidáticas, não existe sequer um livro crist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505240"/>
            <a:ext cx="34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NTES – Ci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desk1"/>
          <p:cNvSpPr/>
          <p:nvPr/>
        </p:nvSpPr>
        <p:spPr>
          <a:xfrm>
            <a:off x="4389480" y="2335320"/>
            <a:ext cx="5272200" cy="437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mic Sans MS"/>
              </a:rPr>
              <a:t>Origem das Ciências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– Fundamentação Bíblic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odas as áreas das ciências e suas ramificações têm suas origens nos seis dias da criação: “Noprincípio Criou Deus os céus e a terra” (Gn 1.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s ciências originaram-se da boca do próprio Deus (Jesus Cristo – João 1). Quando ele falou, todas as coisas vieram à existência: “E disse Deus: haja...”(gn 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Deus controla cada parte do mundo natural – o mundo que estudamos nas ciênc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mic Sans MS"/>
              </a:rPr>
              <a:t>Propósito –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Toda criação foi formada para louvar e glorificar a Deus: “Os céus declaram a glória de Deus e o firmamento anuncia as obras de Suas mão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mic Sans MS"/>
              </a:rPr>
              <a:t>Descrição do curso –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Ciências na primeira série tem como meta introduzir os primeiros conceitos de ciências levando os alunos a apreciarem o poder de Deus e a glória da sua criação, bem como a serem bons mordomos da natureza criada por Deu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curso é entrelaçado com passagens bíblicas e as leituras paradidáticas incluem alguns livros cristã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259380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DEPOIS – Ci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933640"/>
            <a:ext cx="5543640" cy="300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radecimentos à Profess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arta Fr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retora acadê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AC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vice-pres. D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C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DC4D-2649-4466-A8F6-5EFF7F0CE0B5}" type="slidenum">
              <a:t>2</a:t>
            </a:fld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44520" y="2440080"/>
            <a:ext cx="3818160" cy="3009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16120" y="5695920"/>
            <a:ext cx="453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21304"/>
                </a:solidFill>
                <a:latin typeface="Times New Roman"/>
              </a:rPr>
              <a:t>Era uma Vez...</a:t>
            </a:r>
            <a:r>
              <a:rPr b="1" lang="pt-BR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221304"/>
                </a:solidFill>
                <a:latin typeface="Times New Roman"/>
              </a:rPr>
              <a:t>Casa Publicadora Brasileira</a:t>
            </a:r>
            <a:br>
              <a:rPr sz="2400"/>
            </a:br>
            <a:r>
              <a:rPr b="1" lang="pt-BR" sz="2400" spc="-1" strike="noStrike">
                <a:solidFill>
                  <a:srgbClr val="221304"/>
                </a:solidFill>
                <a:latin typeface="Times New Roman"/>
              </a:rPr>
              <a:t>http://www.cpb.com.b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61560" y="122040"/>
            <a:ext cx="872676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3. </a:t>
            </a:r>
            <a:r>
              <a:rPr b="0" lang="pt-BR" sz="3200" spc="-1" strike="noStrike">
                <a:solidFill>
                  <a:srgbClr val="221304"/>
                </a:solidFill>
                <a:latin typeface="Times New Roman"/>
              </a:rPr>
              <a:t>Utilize currículos cristãos, ou livros-texto cristão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24000" y="712800"/>
            <a:ext cx="8263080" cy="1569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21304"/>
                </a:solidFill>
                <a:latin typeface="Times New Roman"/>
              </a:rPr>
              <a:t>Livros Didáticos Cristãos</a:t>
            </a:r>
            <a:r>
              <a:rPr b="0" i="1" lang="pt-BR" sz="2400" spc="-1" strike="noStrike">
                <a:solidFill>
                  <a:srgbClr val="221304"/>
                </a:solidFill>
                <a:latin typeface="Times New Roman"/>
              </a:rPr>
              <a:t> – (Livros-texto)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aros</a:t>
            </a:r>
            <a:r>
              <a:rPr b="0" i="1" lang="pt-BR" sz="2400" spc="-1" strike="noStrike">
                <a:solidFill>
                  <a:srgbClr val="221304"/>
                </a:solidFill>
                <a:latin typeface="Times New Roman"/>
              </a:rPr>
              <a:t>, mas existem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221304"/>
                </a:solidFill>
                <a:latin typeface="Times New Roman"/>
              </a:rPr>
              <a:t>Leitura paradidática – sempre uma opção de complement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221304"/>
                </a:solidFill>
                <a:latin typeface="Times New Roman"/>
              </a:rPr>
              <a:t>Mesmo que o livro-texto específico seja ou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43400" y="2332080"/>
            <a:ext cx="4243680" cy="425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i="1" lang="pt-BR" sz="1800" spc="-1" strike="noStrike">
                <a:solidFill>
                  <a:srgbClr val="221304"/>
                </a:solidFill>
                <a:latin typeface="Times New Roman"/>
              </a:rPr>
              <a:t>... A independência política dos judeus durou pouco tempo. No ano 63 a.C., os romanos intervieram na palestina e passaram a determinar a política interna dos judeus, chegando a coroar, no ano 37 a.C., um estrangeiro como rei dos judeus – Herodes, da Indumé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221304"/>
                </a:solidFill>
                <a:latin typeface="Times New Roman"/>
              </a:rPr>
              <a:t>Vale lembrar que foi durante este tempo de domínio romano na Palestina que nasceu Jesus Cristo, o mais ilustre judeu de todos os tempos, que milhões de pessoas não judias reconheceriam como o Messias de Isra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221304"/>
                </a:solidFill>
                <a:latin typeface="Times New Roman"/>
              </a:rPr>
              <a:t>(Capítulo, “Os Hebreus”, p. 50. 7a. Sér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C137-DAA8-4C6F-B761-EAE35E9A5DC6}" type="slidenum">
              <a:t>3</a:t>
            </a:fld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6120" y="5695920"/>
            <a:ext cx="453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21304"/>
                </a:solidFill>
                <a:latin typeface="Times New Roman"/>
              </a:rPr>
              <a:t>Ciências – 8a. Série</a:t>
            </a:r>
            <a:r>
              <a:rPr b="1" lang="pt-BR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221304"/>
                </a:solidFill>
                <a:latin typeface="Times New Roman"/>
              </a:rPr>
              <a:t>Casa Publicadora Brasileira</a:t>
            </a:r>
            <a:br>
              <a:rPr sz="2400"/>
            </a:br>
            <a:r>
              <a:rPr b="1" lang="pt-BR" sz="2400" spc="-1" strike="noStrike">
                <a:solidFill>
                  <a:srgbClr val="221304"/>
                </a:solidFill>
                <a:latin typeface="Times New Roman"/>
              </a:rPr>
              <a:t>http://www.cpb.com.b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61560" y="122040"/>
            <a:ext cx="872676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3. </a:t>
            </a:r>
            <a:r>
              <a:rPr b="0" lang="pt-BR" sz="3200" spc="-1" strike="noStrike">
                <a:solidFill>
                  <a:srgbClr val="221304"/>
                </a:solidFill>
                <a:latin typeface="Times New Roman"/>
              </a:rPr>
              <a:t>Utilize currículos cristãos, ou livros-texto cristão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71720" y="712800"/>
            <a:ext cx="8415360" cy="1074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221304"/>
                </a:solidFill>
                <a:latin typeface="Times New Roman"/>
              </a:rPr>
              <a:t>Outros Livros Didáticos da Casa Publicadora Brasileira</a:t>
            </a:r>
            <a:r>
              <a:rPr b="0" i="1" lang="pt-BR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221304"/>
                </a:solidFill>
                <a:latin typeface="Times New Roman"/>
              </a:rPr>
              <a:t>Utilize-os, com discernimento, como uma ferramenta adi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05240" y="2141640"/>
            <a:ext cx="4243680" cy="402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i="1" lang="pt-BR" sz="2000" spc="-1" strike="noStrike">
                <a:solidFill>
                  <a:srgbClr val="221304"/>
                </a:solidFill>
                <a:latin typeface="Times New Roman"/>
              </a:rPr>
              <a:t>Embora muitos cientistas aceitassem a idéia geral da evolução, logo após a publicação da ‘Origem das Espécies’, de Darwin, muitas de suas idéias foram questionadas e ainda continuam sendo desafiadas. O historiador de biologia, Charles Singer, declara que ‘os argumentos de Darwin são freqüentemente falaciosos...’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221304"/>
                </a:solidFill>
                <a:latin typeface="Times New Roman"/>
              </a:rPr>
              <a:t>(Capítulo, “Ciência – Fatos e Idéias: Origens”, p. 14. 8a. Sér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12800" y="1865160"/>
            <a:ext cx="2470320" cy="36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83CB-CE73-4EE8-AA09-076657EAC6DC}" type="slidenum">
              <a:t>4</a:t>
            </a:fld>
          </a:p>
        </p:txBody>
      </p:sp>
    </p:spTree>
  </p:cSld>
  <p:transition>
    <p:dissolv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11160" y="5048280"/>
            <a:ext cx="41576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21304"/>
                </a:solidFill>
                <a:latin typeface="Times New Roman"/>
              </a:rPr>
              <a:t>Pensar, Expressar, Criar...</a:t>
            </a:r>
            <a:br>
              <a:rPr sz="2400"/>
            </a:br>
            <a:r>
              <a:rPr b="1" i="1" lang="pt-BR" sz="2400" spc="-1" strike="noStrike">
                <a:solidFill>
                  <a:srgbClr val="221304"/>
                </a:solidFill>
                <a:latin typeface="Times New Roman"/>
              </a:rPr>
              <a:t>e Geografia – entre outros</a:t>
            </a:r>
            <a:r>
              <a:rPr b="1" lang="pt-BR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221304"/>
                </a:solidFill>
                <a:latin typeface="Times New Roman"/>
              </a:rPr>
              <a:t>Casa Publicadora Brasileira</a:t>
            </a:r>
            <a:br>
              <a:rPr sz="2400"/>
            </a:br>
            <a:r>
              <a:rPr b="1" lang="pt-BR" sz="2400" spc="-1" strike="noStrike">
                <a:solidFill>
                  <a:srgbClr val="221304"/>
                </a:solidFill>
                <a:latin typeface="Times New Roman"/>
              </a:rPr>
              <a:t>http://www.cpb.com.b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1560" y="122040"/>
            <a:ext cx="872676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3. </a:t>
            </a:r>
            <a:r>
              <a:rPr b="0" lang="pt-BR" sz="3200" spc="-1" strike="noStrike">
                <a:solidFill>
                  <a:srgbClr val="221304"/>
                </a:solidFill>
                <a:latin typeface="Times New Roman"/>
              </a:rPr>
              <a:t>Utilize currículos cristãos, ou livros-texto cristão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43400" y="2046240"/>
            <a:ext cx="4243680" cy="425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i="1" lang="pt-BR" sz="1800" spc="-1" strike="noStrike">
                <a:solidFill>
                  <a:srgbClr val="221304"/>
                </a:solidFill>
                <a:latin typeface="Times New Roman"/>
              </a:rPr>
              <a:t>Recentemente foi realizada uma conferência sobre sexologia nos EUA. Quando perguntados se confiariam numa fina proteção de borracha (preservativo) para protegê-los, se praticassem sexo com uma pessoa sabidamente infectada com HIV, nenhum dos 900 sexólogos levantou a mão. ‘No entanto’ – diz o psicólogo e escritor James Dobson – ‘estão dispostos a dizer aos nossos filhos que o sexo seguro está ao alcance de todos, e que podem praticar sexo com todo o mundo impunemente’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221304"/>
                </a:solidFill>
                <a:latin typeface="Times New Roman"/>
              </a:rPr>
              <a:t>(p. 85 – “Sexo antes do casamento – pode ou não pode?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71720" y="712800"/>
            <a:ext cx="8415360" cy="1074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221304"/>
                </a:solidFill>
                <a:latin typeface="Times New Roman"/>
              </a:rPr>
              <a:t>Outros Livros Didáticos da Casa Publicadora Brasileira</a:t>
            </a:r>
            <a:r>
              <a:rPr b="0" i="1" lang="pt-BR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221304"/>
                </a:solidFill>
                <a:latin typeface="Times New Roman"/>
              </a:rPr>
              <a:t>Utilize-os, com discernimento, como uma ferramenta adi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98720" y="1892160"/>
            <a:ext cx="1803240" cy="2387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137040" y="2641680"/>
            <a:ext cx="1803240" cy="24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318C-B259-40BC-B66D-D3B5C2AB5A8C}" type="slidenum">
              <a:t>5</a:t>
            </a:fld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31480" y="40284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3. </a:t>
            </a:r>
            <a:r>
              <a:rPr b="0" lang="pt-BR" sz="4000" spc="-1" strike="noStrike">
                <a:solidFill>
                  <a:srgbClr val="221304"/>
                </a:solidFill>
                <a:latin typeface="Times New Roman"/>
              </a:rPr>
              <a:t>Utilize currículos cristãos, ou livros-texto cristãos (mesmo do exterior)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2500560" cy="3133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083120" y="1338120"/>
            <a:ext cx="543384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Investigating God’s World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A BEKA</a:t>
            </a:r>
            <a:br>
              <a:rPr sz="2400"/>
            </a:br>
            <a:r>
              <a:rPr b="1" lang="en-GB" sz="2400" spc="-1" strike="noStrike">
                <a:solidFill>
                  <a:srgbClr val="221304"/>
                </a:solidFill>
                <a:latin typeface="Times New Roman"/>
              </a:rPr>
              <a:t>http://www.abeka.com/</a:t>
            </a:r>
            <a:r>
              <a:rPr b="0" lang="en-GB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19600" y="1468440"/>
            <a:ext cx="1341360" cy="1371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19440" y="2819520"/>
            <a:ext cx="5981760" cy="356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livros do sistema ABEKA, em português, para alfabetização e para as primeiras séries, são produzidos em Manaus, pela Associação CALEB (Bob e Sherry Faultenberry: e-mail -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alebe@argo.com.b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EBF2-A11D-4478-9829-A779621F1B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31480" y="40284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3. </a:t>
            </a:r>
            <a:r>
              <a:rPr b="0" lang="pt-BR" sz="4000" spc="-1" strike="noStrike">
                <a:solidFill>
                  <a:srgbClr val="221304"/>
                </a:solidFill>
                <a:latin typeface="Times New Roman"/>
              </a:rPr>
              <a:t>Utilize currículos cristãos, ou livros-texto cristãos (mesmo do exterior)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54160" y="1700280"/>
            <a:ext cx="3133800" cy="3884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41680" y="4948200"/>
            <a:ext cx="5434200" cy="13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1304"/>
                </a:solidFill>
                <a:latin typeface="Times New Roman"/>
              </a:rPr>
              <a:t>Science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Bob Jones University</a:t>
            </a:r>
            <a:br>
              <a:rPr sz="28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ttp://www.bjup.com/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676520"/>
            <a:ext cx="3524040" cy="3105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urrículo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éri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vros 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gl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9A74-59E7-488E-9B5F-1C750F2F47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31480" y="-111600"/>
            <a:ext cx="8364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4. </a:t>
            </a:r>
            <a:r>
              <a:rPr b="0" lang="pt-BR" sz="3200" spc="-1" strike="noStrike">
                <a:solidFill>
                  <a:srgbClr val="221304"/>
                </a:solidFill>
                <a:latin typeface="Times New Roman"/>
              </a:rPr>
              <a:t>Tenha como referência livros específicos que mostram o relacionamento da Bíblia com as matérias, mesmo sem ser livros-texto curriculares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68360" y="1981080"/>
            <a:ext cx="3338640" cy="4489560"/>
          </a:xfrm>
          <a:prstGeom prst="rect">
            <a:avLst/>
          </a:prstGeom>
          <a:ln w="0">
            <a:noFill/>
          </a:ln>
        </p:spPr>
      </p:pic>
      <p:sp>
        <p:nvSpPr>
          <p:cNvPr id="155" name="PubRRectCallout"/>
          <p:cNvSpPr/>
          <p:nvPr/>
        </p:nvSpPr>
        <p:spPr>
          <a:xfrm rot="5400000">
            <a:off x="4544640" y="1601280"/>
            <a:ext cx="4397400" cy="5232600"/>
          </a:xfrm>
          <a:custGeom>
            <a:avLst/>
            <a:gdLst>
              <a:gd name="textAreaLeft" fmla="*/ 29520 w 4397400"/>
              <a:gd name="textAreaRight" fmla="*/ 4358520 w 4397400"/>
              <a:gd name="textAreaTop" fmla="*/ 34920 h 5232600"/>
              <a:gd name="textAreaBottom" fmla="*/ 4143960 h 52326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63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guns Capítulos deste Liv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tudos Soc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nguagem -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temática - Ciê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elas Artes – Saú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221304"/>
                </a:solidFill>
                <a:latin typeface="Times New Roman"/>
              </a:rPr>
              <a:t>Enciclopedia de Verdades Bíblicas</a:t>
            </a:r>
            <a:r>
              <a:rPr b="0" i="1" lang="en-US" sz="2800" spc="-1" strike="noStrike">
                <a:solidFill>
                  <a:srgbClr val="221304"/>
                </a:solidFill>
                <a:latin typeface="Times New Roman"/>
              </a:rPr>
              <a:t>, Ruth haycock, 2000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– ACSI </a:t>
            </a:r>
            <a:r>
              <a:rPr b="1" lang="pt-BR" sz="2800" spc="-1" strike="noStrike">
                <a:solidFill>
                  <a:srgbClr val="221304"/>
                </a:solidFill>
                <a:latin typeface="Times New Roman"/>
              </a:rPr>
              <a:t>http://www.acsi.org/acsi</a:t>
            </a:r>
            <a:r>
              <a:rPr b="0" lang="pt-BR" sz="2800" spc="-1" strike="noStrike">
                <a:solidFill>
                  <a:srgbClr val="221304"/>
                </a:solidFill>
                <a:latin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5BBD-F35C-45FF-8311-9E7B43F64E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31480" y="-15840"/>
            <a:ext cx="8364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4. </a:t>
            </a:r>
            <a:r>
              <a:rPr b="0" lang="pt-BR" sz="3600" spc="-1" strike="noStrike">
                <a:solidFill>
                  <a:srgbClr val="221304"/>
                </a:solidFill>
                <a:latin typeface="Times New Roman"/>
              </a:rPr>
              <a:t>Tenha como referência livros específicos que mostram o relacionamento da Bíblia com as matéria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87360" y="1978200"/>
            <a:ext cx="3205440" cy="4592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5400000">
            <a:off x="4312440" y="1542240"/>
            <a:ext cx="5600520" cy="5030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21304"/>
                </a:solidFill>
                <a:latin typeface="Times New Roman"/>
              </a:rPr>
              <a:t>Responde a muitas pergu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21304"/>
                </a:solidFill>
                <a:latin typeface="Times New Roman"/>
              </a:rPr>
              <a:t>que você  terá, trazidas dos liv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21304"/>
                </a:solidFill>
                <a:latin typeface="Times New Roman"/>
              </a:rPr>
              <a:t>didáticos seculares e que l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21304"/>
                </a:solidFill>
                <a:latin typeface="Times New Roman"/>
              </a:rPr>
              <a:t>serão feitas, na sala de aul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221304"/>
                </a:solidFill>
                <a:latin typeface="Times New Roman"/>
              </a:rPr>
              <a:t>Enciclopédia de Apologética</a:t>
            </a:r>
            <a:br>
              <a:rPr sz="2400"/>
            </a:br>
            <a:r>
              <a:rPr b="0" lang="pt-BR" sz="2400" spc="-1" strike="noStrike">
                <a:solidFill>
                  <a:srgbClr val="221304"/>
                </a:solidFill>
                <a:latin typeface="Times New Roman"/>
              </a:rPr>
              <a:t>Norman Geis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21304"/>
                </a:solidFill>
                <a:latin typeface="Times New Roman"/>
              </a:rPr>
              <a:t>www.editoravida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7B4B-8055-4C07-B260-43F8EC26C3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1T15:57:39Z</dcterms:created>
  <dc:creator>Solano Portela</dc:creator>
  <dc:description/>
  <dc:language>en-US</dc:language>
  <cp:lastModifiedBy>Solano</cp:lastModifiedBy>
  <cp:lastPrinted>1999-07-05T13:11:06Z</cp:lastPrinted>
  <dcterms:modified xsi:type="dcterms:W3CDTF">2003-07-12T23:03:36Z</dcterms:modified>
  <cp:revision>44</cp:revision>
  <dc:subject/>
  <dc:title>Slide sem título </dc:title>
</cp:coreProperties>
</file>