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034-AD4A-46A8-B15A-0075D46A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B7F-76FB-4A68-9F51-C5EC706E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6C0-282F-467E-8EB5-997730C9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D02-DA54-431A-ADB9-C7709820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DF27-3145-4C6A-9C2F-3C8078B7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9FA6-2152-49C3-8645-D26C34E2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2E9F-5D00-463C-BE89-051D0919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38DD-0A84-4AD6-9262-42BB4AA2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8917-2851-4552-882E-B3D536B2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998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5874-A78F-4B7F-936B-A5D1E05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17EC-C942-4E75-8C75-82FF813E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24F-2351-4EB2-BCEF-1AB15D6E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A868-13F3-44C9-854E-22BBF8B6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549C-25FD-4239-A917-B9E6C3F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3F4-4DF5-44BC-9B82-EC82738F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E829-5444-44B3-972D-861C0FD5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9322-9176-456F-AF34-BC70DE70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096-B747-4784-9A05-DA8DF58E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9DA-04B6-405C-9DED-46250195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604-4947-499B-B368-6F02F68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98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057-5296-4F5F-82A1-889CE63F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49B-64DA-4297-8A36-91DB8FB9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E7F-B421-4452-A440-DF9995E3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DAB-711E-4FA9-BD8F-4848C323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d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bfd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bfd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bfd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bfd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bfd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fd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d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fd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d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fd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322F-5AB8-4635-957A-52BD00CE55E9}" type="slidenum">
              <a:rPr b="0" lang="en-US" sz="1400" spc="-1" strike="noStrike">
                <a:solidFill>
                  <a:srgbClr val="bfd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d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fd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d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fd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d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fd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A3E2-B5E7-4C81-A70E-F5DD4C563F52}" type="slidenum">
              <a:rPr b="0" lang="en-US" sz="1400" spc="-1" strike="noStrike">
                <a:solidFill>
                  <a:srgbClr val="bfd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d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d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fd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fd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d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fd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fd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d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d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fd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d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d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d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d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d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d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bfdfff"/>
                </a:solidFill>
                <a:latin typeface="Arial"/>
              </a:rPr>
              <a:t>A Legitimidade e o Caráter  Sagrado do Trabalho</a:t>
            </a: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fdfff"/>
                </a:solidFill>
                <a:latin typeface="Arial"/>
              </a:rPr>
              <a:t>O pensamento Judaico-Cristão sobre as atividades humanas na aquisição do pão de cada dia.</a:t>
            </a:r>
            <a:endParaRPr b="0" lang="en-US" sz="2800" spc="-1" strike="noStrike">
              <a:solidFill>
                <a:srgbClr val="bfd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36504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retrizes Adicionais da Era Crist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447920"/>
            <a:ext cx="78487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rabal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á dignidade às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forma providenciada por Deus ao Sust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z com que ninguém seja pe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inda Paulo, em Ef. 4.2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rtar é er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ure trabal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ósito – para que tenha como ajud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ago 5.4 – Reter o salário é fraude!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90960" y="533520"/>
            <a:ext cx="593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Arial"/>
              </a:rPr>
              <a:t>O Pensamento Católico Ro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41600" y="1490760"/>
            <a:ext cx="666432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Desenvolvimento – Séculos IV ao 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Tradição acima das Escri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Misticismo, hierarquia, monopólio da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interpre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Tomás de Aquino – fosso ent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S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Sa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Divórcio do conceito tradicional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Judaico-Cri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41760" y="533520"/>
            <a:ext cx="66391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Arial"/>
              </a:rPr>
              <a:t>O Pensamento Católico Romano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Arial"/>
              </a:rPr>
              <a:t>A Interpretação de Francis Schae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41600" y="1795320"/>
            <a:ext cx="66643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Depois de Tomás de Aqui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Vida sagrada - compartiment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Trabalho – Mal necess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b2b2b2"/>
                </a:solidFill>
                <a:latin typeface="Arial"/>
              </a:rPr>
              <a:t>Summum Bonun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– envolvimento com o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sa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Sofre o sagrado – não se relaciona com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o s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Sofre o secular – perde o </a:t>
            </a:r>
            <a:r>
              <a:rPr b="0" i="1" lang="pt-BR" sz="2800" spc="-1" strike="noStrike">
                <a:solidFill>
                  <a:srgbClr val="b2b2b2"/>
                </a:solidFill>
                <a:latin typeface="Arial"/>
              </a:rPr>
              <a:t>et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Sentimentos de cul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Religião – mundo próp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3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3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3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3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0492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forma do Século X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898640"/>
            <a:ext cx="8001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bra de barreiras – religião TEM relaçã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 o dia-a-d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gração – Língua conhec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lvino – Ética do Traba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pecado procurar o avanço pess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oração – Não só nos domingos, mas n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volvimento com as atividades diá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022840" y="533520"/>
            <a:ext cx="6276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Arial"/>
              </a:rPr>
              <a:t>O Pensamento Católico Romano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Arial"/>
              </a:rPr>
              <a:t>Expressões Rec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41600" y="1795320"/>
            <a:ext cx="7197480" cy="59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Pio XII – Corporações “mais parcei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João XXIII – </a:t>
            </a:r>
            <a:r>
              <a:rPr b="0" i="1" lang="pt-BR" sz="2800" spc="-1" strike="noStrike">
                <a:solidFill>
                  <a:srgbClr val="b2b2b2"/>
                </a:solidFill>
                <a:latin typeface="Arial"/>
              </a:rPr>
              <a:t>Mater et Ma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Respeito à individ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Justiça na distrib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Paulo VI – </a:t>
            </a:r>
            <a:r>
              <a:rPr b="0" i="1" lang="pt-BR" sz="2800" spc="-1" strike="noStrike">
                <a:solidFill>
                  <a:srgbClr val="b2b2b2"/>
                </a:solidFill>
                <a:latin typeface="Arial"/>
              </a:rPr>
              <a:t>Populorum Progres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Estágios contemporân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Polarização peri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Politização inconsequ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Individualidade sacr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Aspecto místico carismático da 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Divórcio da re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0492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aídas Recentes do Campo Evangé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143000"/>
            <a:ext cx="85341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andono dos princípios da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etem erros do catolicismo de Tomás de Aqu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sociação do secular e do sa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Ênfase única na vida após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amo populis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isão materialista da religi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enchimento de anseios sociais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tar “de bem com Deu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6096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bfdfff"/>
                </a:solidFill>
                <a:latin typeface="Arial"/>
              </a:rPr>
              <a:t>CONCLUSÃO</a:t>
            </a: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18960" y="2057040"/>
            <a:ext cx="79246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bfd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fd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bfdfff"/>
                </a:solidFill>
                <a:latin typeface="Arial"/>
              </a:rPr>
              <a:t>Não são questões meramente filosóficas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fd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fd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bfdfff"/>
                </a:solidFill>
                <a:latin typeface="Arial"/>
              </a:rPr>
              <a:t>Do nosso conceito sobre o trabalho, depende o nosso bem-estar e a nossa abordagem de muitas questões importantes em nossa vida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fd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fd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bfdfff"/>
                </a:solidFill>
                <a:latin typeface="Arial"/>
              </a:rPr>
              <a:t>Não devemos perder de vista o caráter sagrado do trabalho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Estamos em um Círculo?</a:t>
            </a: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38080" y="2590920"/>
            <a:ext cx="79250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mos para sobreviver?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mos mantendo as aparências, sem um conceito maior de chamado, de missão?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mos para preencher o tempo, como se fosse um mal necessário?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00400" y="914400"/>
            <a:ext cx="48769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É um grande conforto quando consideramos o trabalho uma missão recebida do criad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ando nos sentimos envolvidos neste “domínio do universo”, com nossa pequena parcela de contribuição, concentrados nos ideais maiores de nossas vidas, como MORDOMOS da Cr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fdfff"/>
                </a:solidFill>
                <a:latin typeface="Arial"/>
              </a:rPr>
              <a:t>Uma Rápida Viagem sobre os conceitos ligados ao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bfdfff"/>
                </a:solidFill>
                <a:latin typeface="Arial"/>
              </a:rPr>
              <a:t>TRABALHO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bfdfff"/>
                </a:solidFill>
                <a:latin typeface="Arial"/>
              </a:rPr>
              <a:t>no Mundo Ocidental</a:t>
            </a:r>
            <a:endParaRPr b="0" lang="en-US" sz="4400" spc="-1" strike="noStrike">
              <a:solidFill>
                <a:srgbClr val="bfd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00400" y="2209320"/>
            <a:ext cx="50292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009900"/>
                </a:solidFill>
                <a:latin typeface="Arial"/>
              </a:rPr>
              <a:t>Não Um Sermão</a:t>
            </a:r>
            <a:endParaRPr b="0" lang="en-US" sz="4000" spc="-1" strike="noStrike">
              <a:solidFill>
                <a:srgbClr val="bfd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fd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009900"/>
                </a:solidFill>
                <a:latin typeface="Arial"/>
              </a:rPr>
              <a:t>Mas Uma Reflexão</a:t>
            </a:r>
            <a:endParaRPr b="0" lang="en-US" sz="4000" spc="-1" strike="noStrike">
              <a:solidFill>
                <a:srgbClr val="bfd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1028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33412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bfdfff"/>
                </a:solidFill>
                <a:latin typeface="Arial"/>
              </a:rPr>
              <a:t>A Visão Oriental do Trabalho</a:t>
            </a:r>
            <a:endParaRPr b="0" lang="en-US" sz="54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5181120"/>
            <a:ext cx="26604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fdfff"/>
                </a:solidFill>
                <a:latin typeface="Arial"/>
              </a:rPr>
              <a:t>Razão de Ser da Própria Vida</a:t>
            </a:r>
            <a:endParaRPr b="0" lang="en-US" sz="3200" spc="-1" strike="noStrike">
              <a:solidFill>
                <a:srgbClr val="bfd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048120"/>
            <a:ext cx="2660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fdfff"/>
                </a:solidFill>
                <a:latin typeface="Arial"/>
              </a:rPr>
              <a:t>Atividade Menor e B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72200" y="0"/>
            <a:ext cx="2971440" cy="6858000"/>
            <a:chOff x="6172200" y="0"/>
            <a:chExt cx="2971440" cy="6858000"/>
          </a:xfrm>
        </p:grpSpPr>
        <p:sp>
          <p:nvSpPr>
            <p:cNvPr id="94" name=""/>
            <p:cNvSpPr/>
            <p:nvPr/>
          </p:nvSpPr>
          <p:spPr>
            <a:xfrm>
              <a:off x="7006680" y="0"/>
              <a:ext cx="2133720" cy="33163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6172200" y="465120"/>
              <a:ext cx="2971440" cy="639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733920" cy="279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81280" y="4630680"/>
            <a:ext cx="3278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92400" y="533520"/>
            <a:ext cx="77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Arial"/>
              </a:rPr>
              <a:t>Mitos Modernos Sobre Religião e Traba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41600" y="1447920"/>
            <a:ext cx="62071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Campos que Não se Mistu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Religião – Atende as necessidades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espirit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Trabalho – Atende as necessidades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mater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Religião – Campo 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Trabalho – Tarefa obrigatória, árdua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e cans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Trabalho – Realizado pela 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b2b2b2"/>
                </a:solidFill>
                <a:latin typeface="Arial"/>
              </a:rPr>
              <a:t>necessidade de sobreviv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609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ensamento Judeu – O Mandato Cultura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00200"/>
            <a:ext cx="8001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Início da História – Dominar a terra – Gn 1.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osé – Posição de mando na corte de Fara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isés e o Decálogo – Descanso sem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izes – Possuir terra e ter paz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clesiastes – Futilidade do trabalho fora d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exto religioso. Semelhança com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volução Industrial – 5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9144000" cy="609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287360"/>
            <a:ext cx="87627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niel – Trabalho na corte. Recrutamento e seleção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tas – Dignidade do trabalho e direitos dos trabalh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r 22.13 – Honestidade e justi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l 3.5 – Pagar o salário comb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Zc 8.10 – Falta de salário = provação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abilidade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rabalho – Nunca é mal necessário, mas atividade sa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ensamento Judeu – O Mandato Cultural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71600" y="15228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Pensamento Crist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 Novo Testamento -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590920"/>
            <a:ext cx="72388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oão Batista e as Diferentes Profissõe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– Lc 3.10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esus – Carpintaria – Ausência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sie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ulo – Fazedor de T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6504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retrizes de Paulo em 2 Ts 3.7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1447920"/>
            <a:ext cx="678204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ósito Principal do Trabalho –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sistência Pessoal e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sência Voluntária do Trabalho – For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 Ordem Natural das Coi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ciosidade, leva a Outras Defici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For Voluntária – Deve haver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eqü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ituação Ideal – Pessoa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balhando Tranqüil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1T00:23:19Z</dcterms:created>
  <dc:creator>Sonia Coleman</dc:creator>
  <dc:description/>
  <dc:language>en-US</dc:language>
  <cp:lastModifiedBy>.</cp:lastModifiedBy>
  <dcterms:modified xsi:type="dcterms:W3CDTF">2003-11-11T09:52:32Z</dcterms:modified>
  <cp:revision>9</cp:revision>
  <dc:subject/>
  <dc:title>Title</dc:title>
</cp:coreProperties>
</file>